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26.jpeg" ContentType="image/jpeg"/>
  <Override PartName="/ppt/media/image11.gif" ContentType="image/gif"/>
  <Override PartName="/ppt/media/image14.png" ContentType="image/png"/>
  <Override PartName="/ppt/media/image6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chimes.wav" ContentType="audio/x-wav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C2E-0F90-4E2D-B529-82413F90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B68-75DF-4A3C-868D-355F6949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21A-02A8-44A8-AB75-328D38B1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9C2-C414-4A0F-BFC8-A23C89CA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98E6-D354-4A8A-BC14-F5B41A3C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FFB6-52E7-485C-A2A7-05EBE78F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B95F-BCB4-4868-A0C9-8CAAB728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A715-9172-4BFB-9ADD-7C2F36A5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1CFB-F374-4A95-8118-01AD3768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7840" y="27612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10A7-CBF9-4F62-8682-49654734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CA33-1431-450B-BB8D-00EC2DFE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10DA-20D7-41BD-9469-C5B95512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C091-6CDC-49C2-A514-FCBF6EA3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CF96-FF0A-4904-8535-554EFFCA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1038-49FE-4FCA-A0CF-8D44EE0E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E1C5-7603-4C60-869D-E7AAA229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FE23-79E6-45DE-B0DE-9F2A0CF6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188F9-7290-4B67-AB1A-2B5379877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70E6-1ADF-40BC-A316-77B6B1ED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2F3C-8752-4B43-8240-4E5EB155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900C-5546-487B-82ED-BB3603F4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4A93B-DB94-4AEA-A385-A0000DD2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868-CA4C-4DCB-890D-C373A2A2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47840" y="27612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5B7A-661E-477B-BF0A-3D9A0C62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3D5C-CFB0-48A4-B751-56C77D6E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9C9F-5D72-405B-85B3-B8CA5A69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1379-CDBF-4464-A640-592469CD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910A-4841-4346-A6A2-D264FEAA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FD4F-F5F9-4A68-8D0F-BA117771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053E1-DF09-4E19-A1CF-8C1D110B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B02EA-2554-4C46-8566-B6FC4058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F3B05-D752-4845-8192-3FC26AD7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EAAB7-1D88-4A81-9F48-CD6FCC69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F72-D263-4E9A-97EC-1379F334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8AE5E-7B02-4888-AAA1-6A0B6E40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F4F6D-9739-45A3-92E4-4EEC800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47840" y="27612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7FE17-E715-4B54-8B84-700D34C6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DDF1-956E-42D6-A3ED-8941BFA0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DD62B-C1DD-4350-84E0-E9B9AD73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54560-A4C8-48F1-B807-8DF01DC2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0E8C4-7908-4228-A77E-14CEB3AA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D0C3-6C19-44FE-B3D3-03C203D5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C6EC0-F8CA-40F0-A78C-C3F1604A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C25-E1A2-4CFE-B577-4F78DF17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276120"/>
            <a:ext cx="821520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EC2-FCAC-4275-BF77-F3F6C02A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BF7-45B8-431D-95E4-7B5608F5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22B-0568-4167-91F4-1915385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3BC-CF70-4870-AB74-BD6B8593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92C2-9AB4-4934-AD59-0238FA0A09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9875-4F16-471B-A3F3-28B364F58A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2" descr=""/>
          <p:cNvPicPr/>
          <p:nvPr/>
        </p:nvPicPr>
        <p:blipFill>
          <a:blip r:embed="rId2"/>
          <a:srcRect l="13780" t="0" r="-24" b="0"/>
          <a:stretch/>
        </p:blipFill>
        <p:spPr>
          <a:xfrm>
            <a:off x="-38160" y="-7920"/>
            <a:ext cx="7886880" cy="686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4" descr=""/>
          <p:cNvPicPr/>
          <p:nvPr/>
        </p:nvPicPr>
        <p:blipFill>
          <a:blip r:embed="rId3"/>
          <a:srcRect l="54995" t="55709" r="2717" b="30524"/>
          <a:stretch/>
        </p:blipFill>
        <p:spPr>
          <a:xfrm>
            <a:off x="3162240" y="4822920"/>
            <a:ext cx="3867120" cy="946080"/>
          </a:xfrm>
          <a:prstGeom prst="rect">
            <a:avLst/>
          </a:prstGeom>
          <a:ln w="0">
            <a:noFill/>
          </a:ln>
        </p:spPr>
      </p:pic>
      <p:sp>
        <p:nvSpPr>
          <p:cNvPr id="84" name="矩形 15"/>
          <p:cNvSpPr/>
          <p:nvPr/>
        </p:nvSpPr>
        <p:spPr>
          <a:xfrm>
            <a:off x="0" y="0"/>
            <a:ext cx="9086760" cy="6865920"/>
          </a:xfrm>
          <a:prstGeom prst="rect">
            <a:avLst/>
          </a:prstGeom>
          <a:solidFill>
            <a:srgbClr val="f8f3d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7696080" y="-7920"/>
            <a:ext cx="1447920" cy="6865920"/>
          </a:xfrm>
          <a:prstGeom prst="rect">
            <a:avLst/>
          </a:prstGeom>
          <a:solidFill>
            <a:srgbClr val="f8f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C1E4-0946-4232-A1FB-2980C24DA632}" type="slidenum"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18666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70d4d7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0" descr=""/>
          <p:cNvPicPr/>
          <p:nvPr/>
        </p:nvPicPr>
        <p:blipFill>
          <a:blip r:embed="rId2"/>
          <a:srcRect l="13780" t="0" r="-24" b="0"/>
          <a:stretch/>
        </p:blipFill>
        <p:spPr>
          <a:xfrm>
            <a:off x="-38160" y="-7920"/>
            <a:ext cx="7886880" cy="6865920"/>
          </a:xfrm>
          <a:prstGeom prst="rect">
            <a:avLst/>
          </a:prstGeom>
          <a:ln w="0">
            <a:noFill/>
          </a:ln>
        </p:spPr>
      </p:pic>
      <p:sp>
        <p:nvSpPr>
          <p:cNvPr id="128" name="矩形 11"/>
          <p:cNvSpPr/>
          <p:nvPr/>
        </p:nvSpPr>
        <p:spPr>
          <a:xfrm>
            <a:off x="7696080" y="-7920"/>
            <a:ext cx="1447920" cy="6865920"/>
          </a:xfrm>
          <a:prstGeom prst="rect">
            <a:avLst/>
          </a:prstGeom>
          <a:solidFill>
            <a:srgbClr val="f8f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16" descr=""/>
          <p:cNvPicPr/>
          <p:nvPr/>
        </p:nvPicPr>
        <p:blipFill>
          <a:blip r:embed="rId3"/>
          <a:srcRect l="54995" t="55709" r="2717" b="30524"/>
          <a:stretch/>
        </p:blipFill>
        <p:spPr>
          <a:xfrm>
            <a:off x="3162240" y="4822920"/>
            <a:ext cx="3867120" cy="94608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7" descr=""/>
          <p:cNvPicPr/>
          <p:nvPr/>
        </p:nvPicPr>
        <p:blipFill>
          <a:blip r:embed="rId4"/>
          <a:srcRect l="5845" t="5458" r="7005" b="21263"/>
          <a:stretch/>
        </p:blipFill>
        <p:spPr>
          <a:xfrm>
            <a:off x="5653080" y="5938920"/>
            <a:ext cx="1866960" cy="58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18666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70d4d7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1b288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3F5C-D5EB-496B-A1D9-764E80D15CBD}" type="slidenum"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2.png"/><Relationship Id="rId6" Type="http://schemas.openxmlformats.org/officeDocument/2006/relationships/image" Target="../media/image1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7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8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FR6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WordArt 3" descr=""/>
          <p:cNvPicPr/>
          <p:nvPr/>
        </p:nvPicPr>
        <p:blipFill>
          <a:blip r:embed="rId2"/>
          <a:stretch/>
        </p:blipFill>
        <p:spPr>
          <a:xfrm>
            <a:off x="609480" y="73080"/>
            <a:ext cx="6516720" cy="26035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1828800" y="4343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124000" y="2708280"/>
            <a:ext cx="431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UNIT ONE WHAT TIME IS IT Less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clock3"/>
          <p:cNvPicPr/>
          <p:nvPr/>
        </p:nvPicPr>
        <p:blipFill>
          <a:blip r:embed="rId3"/>
          <a:stretch/>
        </p:blipFill>
        <p:spPr>
          <a:xfrm>
            <a:off x="1258920" y="4005360"/>
            <a:ext cx="771480" cy="723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clock7"/>
          <p:cNvPicPr/>
          <p:nvPr/>
        </p:nvPicPr>
        <p:blipFill>
          <a:blip r:embed="rId4"/>
          <a:stretch/>
        </p:blipFill>
        <p:spPr>
          <a:xfrm>
            <a:off x="3995640" y="3573360"/>
            <a:ext cx="18288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3036960" y="701640"/>
            <a:ext cx="347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eleve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u=2191614839,2313955270&amp;fm=23&amp;gp=0"/>
          <p:cNvPicPr/>
          <p:nvPr/>
        </p:nvPicPr>
        <p:blipFill>
          <a:blip r:embed="rId1"/>
          <a:stretch/>
        </p:blipFill>
        <p:spPr>
          <a:xfrm>
            <a:off x="3038400" y="2593800"/>
            <a:ext cx="3259080" cy="244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4275000" y="3889440"/>
            <a:ext cx="488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5f5f5f"/>
                </a:solidFill>
                <a:latin typeface="Arial"/>
              </a:rPr>
              <a:t>twelve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20101016_0696bcc1b205851bbbcbOUYM29h3VkUy"/>
          <p:cNvPicPr/>
          <p:nvPr/>
        </p:nvPicPr>
        <p:blipFill>
          <a:blip r:embed="rId1"/>
          <a:srcRect l="2268" t="10551" r="0" b="13465"/>
          <a:stretch/>
        </p:blipFill>
        <p:spPr>
          <a:xfrm>
            <a:off x="61920" y="347760"/>
            <a:ext cx="4227480" cy="32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7541506431395397971250"/>
          <p:cNvPicPr/>
          <p:nvPr/>
        </p:nvPicPr>
        <p:blipFill>
          <a:blip r:embed="rId1"/>
          <a:stretch/>
        </p:blipFill>
        <p:spPr>
          <a:xfrm>
            <a:off x="2371680" y="585720"/>
            <a:ext cx="4017960" cy="4017960"/>
          </a:xfrm>
          <a:prstGeom prst="rect">
            <a:avLst/>
          </a:prstGeom>
          <a:ln w="0">
            <a:noFill/>
          </a:ln>
        </p:spPr>
      </p:pic>
      <p:sp>
        <p:nvSpPr>
          <p:cNvPr id="291" name="WordArt 3"/>
          <p:cNvSpPr txBox="1"/>
          <p:nvPr/>
        </p:nvSpPr>
        <p:spPr>
          <a:xfrm>
            <a:off x="1598760" y="5083200"/>
            <a:ext cx="565776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5f5f5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What time is it ?</a:t>
            </a:r>
            <a:endParaRPr b="0" lang="en-US" sz="1800" spc="1" strike="noStrike">
              <a:ln w="25560">
                <a:solidFill>
                  <a:srgbClr val="5f5f5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5f5f5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r>
              <a:rPr b="0" lang="en-US" sz="1800" spc="1" strike="noStrike">
                <a:ln w="25560">
                  <a:solidFill>
                    <a:srgbClr val="5f5f5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It’s nine o’clock .</a:t>
            </a:r>
            <a:endParaRPr b="0" lang="en-US" sz="1800" spc="1" strike="noStrike">
              <a:ln w="25560">
                <a:solidFill>
                  <a:srgbClr val="5f5f5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3882816591395397971250"/>
          <p:cNvPicPr/>
          <p:nvPr/>
        </p:nvPicPr>
        <p:blipFill>
          <a:blip r:embed="rId1"/>
          <a:stretch/>
        </p:blipFill>
        <p:spPr>
          <a:xfrm>
            <a:off x="2987640" y="1270080"/>
            <a:ext cx="2989440" cy="28796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3"/>
          <p:cNvSpPr/>
          <p:nvPr/>
        </p:nvSpPr>
        <p:spPr>
          <a:xfrm>
            <a:off x="1943280" y="4700520"/>
            <a:ext cx="4762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time is i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’s eight o’clock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6221521461395397971265"/>
          <p:cNvPicPr/>
          <p:nvPr/>
        </p:nvPicPr>
        <p:blipFill>
          <a:blip r:embed="rId1"/>
          <a:stretch/>
        </p:blipFill>
        <p:spPr>
          <a:xfrm>
            <a:off x="2076480" y="333360"/>
            <a:ext cx="3902040" cy="36133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3"/>
          <p:cNvSpPr/>
          <p:nvPr/>
        </p:nvSpPr>
        <p:spPr>
          <a:xfrm>
            <a:off x="1353960" y="4467240"/>
            <a:ext cx="706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 time is it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’s three o’clock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3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65560" y="2376360"/>
            <a:ext cx="4670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157280" y="3446280"/>
            <a:ext cx="46753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2000" spc="-1" strike="noStrike">
              <a:solidFill>
                <a:srgbClr val="6d6d6d"/>
              </a:solidFill>
              <a:latin typeface="幼圆"/>
            </a:endParaRPr>
          </a:p>
        </p:txBody>
      </p:sp>
      <p:pic>
        <p:nvPicPr>
          <p:cNvPr id="298" name="Picture 4" descr="CH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3203640" y="5950080"/>
            <a:ext cx="38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116000" y="90792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活动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1295280" y="184464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Look and guess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( 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看动作，猜单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835280" y="1773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Do as I  say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我说你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WordArt 2" descr=""/>
          <p:cNvPicPr/>
          <p:nvPr/>
        </p:nvPicPr>
        <p:blipFill>
          <a:blip r:embed="rId1"/>
          <a:stretch/>
        </p:blipFill>
        <p:spPr>
          <a:xfrm>
            <a:off x="2266920" y="3206880"/>
            <a:ext cx="3822840" cy="20350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324000" y="40464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活动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FR8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3"/>
          <p:cNvSpPr/>
          <p:nvPr/>
        </p:nvSpPr>
        <p:spPr>
          <a:xfrm>
            <a:off x="324000" y="1197000"/>
            <a:ext cx="835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11280" y="0"/>
            <a:ext cx="824364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ck  tock, tick 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time to ge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ck tock, tick t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time to go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ck tock, tick toc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time to go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ck tock, tick t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time to go to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2195640" y="1628640"/>
            <a:ext cx="694836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Comic Sans MS"/>
              </a:rPr>
              <a:t>连词成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Comic Sans MS"/>
              </a:rPr>
              <a:t>学生在三个纸箱中各抽取一张，将它们连起来组成一句话，全体同学评判这句话的合理性（合理的给予掌声鼓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332000" y="76500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</a:rPr>
              <a:t>活动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050920" y="4005360"/>
            <a:ext cx="633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例如：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李小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5050"/>
                </a:solidFill>
                <a:latin typeface="Arial"/>
              </a:rPr>
              <a:t>It’s 6:00 It’s time to get up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7840" y="276120"/>
            <a:ext cx="82152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18666"/>
                </a:solidFill>
                <a:latin typeface="幼圆"/>
              </a:rPr>
              <a:t>homework</a:t>
            </a:r>
            <a:endParaRPr b="1" lang="en-US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1b288"/>
                </a:solidFill>
                <a:latin typeface="幼圆"/>
              </a:rPr>
              <a:t>背诵课文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marL="36180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01b288"/>
                </a:solidFill>
                <a:latin typeface="幼圆"/>
              </a:rPr>
              <a:t>表演对话</a:t>
            </a:r>
            <a:endParaRPr b="0" lang="en-US" sz="2400" spc="-1" strike="noStrike">
              <a:solidFill>
                <a:srgbClr val="01b288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FR8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1042920" y="2060640"/>
            <a:ext cx="5594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ime is gold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oney can’t buy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42920" y="4005360"/>
            <a:ext cx="4562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寸光阴一寸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寸金难买寸光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2803680" y="2746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文数字小歌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244520" y="853920"/>
            <a:ext cx="66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一，    一只猴子坐飞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二，    两只猴子丢手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三，     三只猴子来搬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四，    四只猴子写大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，        五只猴子敲锣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，          六只猴子去吃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七，     七只猴子穿新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h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八，      八只猴子吃西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ine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九，       九只猴子齐步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十，     十只猴子吃美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2133720" y="32767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188"/>
          <p:cNvPicPr/>
          <p:nvPr/>
        </p:nvPicPr>
        <p:blipFill>
          <a:blip r:embed="rId1"/>
          <a:stretch/>
        </p:blipFill>
        <p:spPr>
          <a:xfrm>
            <a:off x="6443640" y="620640"/>
            <a:ext cx="2376360" cy="2638440"/>
          </a:xfrm>
          <a:prstGeom prst="rect">
            <a:avLst/>
          </a:prstGeom>
          <a:ln w="0">
            <a:noFill/>
          </a:ln>
        </p:spPr>
      </p:pic>
      <p:sp>
        <p:nvSpPr>
          <p:cNvPr id="185" name="WordArt 4"/>
          <p:cNvSpPr txBox="1"/>
          <p:nvPr/>
        </p:nvSpPr>
        <p:spPr>
          <a:xfrm>
            <a:off x="611280" y="0"/>
            <a:ext cx="3384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考考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116000" y="306864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Bookman Old Style"/>
              </a:rPr>
              <a:t>What time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J1017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1116000" y="148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j003"/>
          <p:cNvPicPr/>
          <p:nvPr/>
        </p:nvPicPr>
        <p:blipFill>
          <a:blip r:embed="rId2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90" name="alarmring.mp3" descr=""/>
          <p:cNvPicPr/>
          <p:nvPr/>
        </p:nvPicPr>
        <p:blipFill>
          <a:blip r:embed="rId3"/>
          <a:stretch/>
        </p:blipFill>
        <p:spPr>
          <a:xfrm>
            <a:off x="1187280" y="26028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5435640" y="620640"/>
            <a:ext cx="273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get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6"/>
          <p:cNvPicPr/>
          <p:nvPr/>
        </p:nvPicPr>
        <p:blipFill>
          <a:blip r:embed="rId4"/>
          <a:stretch/>
        </p:blipFill>
        <p:spPr>
          <a:xfrm>
            <a:off x="1116000" y="1484280"/>
            <a:ext cx="2452680" cy="2592360"/>
          </a:xfrm>
          <a:prstGeom prst="rect">
            <a:avLst/>
          </a:prstGeom>
          <a:ln w="0">
            <a:noFill/>
          </a:ln>
        </p:spPr>
      </p:pic>
      <p:pic>
        <p:nvPicPr>
          <p:cNvPr id="193" name="alarmring.mp3" descr=""/>
          <p:cNvPicPr/>
          <p:nvPr/>
        </p:nvPicPr>
        <p:blipFill>
          <a:blip r:embed="rId5"/>
          <a:stretch/>
        </p:blipFill>
        <p:spPr>
          <a:xfrm>
            <a:off x="250920" y="26028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826920" y="422100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It’ 6: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124000" y="69228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It’ tim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6"/>
          <a:stretch/>
        </p:blipFill>
        <p:spPr>
          <a:xfrm>
            <a:off x="4282920" y="2205000"/>
            <a:ext cx="2667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36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36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036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65560" y="2473200"/>
            <a:ext cx="467064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3200" spc="-1" strike="noStrike">
              <a:solidFill>
                <a:srgbClr val="018666"/>
              </a:solidFill>
              <a:latin typeface="幼圆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157280" y="3446280"/>
            <a:ext cx="467532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2000" spc="-1" strike="noStrike">
              <a:solidFill>
                <a:srgbClr val="6d6d6d"/>
              </a:solidFill>
              <a:latin typeface="幼圆"/>
            </a:endParaRPr>
          </a:p>
        </p:txBody>
      </p:sp>
      <p:pic>
        <p:nvPicPr>
          <p:cNvPr id="199" name="Picture 4" descr="5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74678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Verdana"/>
                <a:ea typeface="隶书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u=3361988098,1530533838&amp;gp=1"/>
          <p:cNvPicPr/>
          <p:nvPr/>
        </p:nvPicPr>
        <p:blipFill>
          <a:blip r:embed="rId2"/>
          <a:stretch/>
        </p:blipFill>
        <p:spPr>
          <a:xfrm>
            <a:off x="826920" y="364500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1116000" y="476280"/>
            <a:ext cx="7236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99"/>
                </a:solidFill>
                <a:latin typeface="Arial"/>
              </a:rPr>
              <a:t>Who is the busy be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Arial"/>
              </a:rPr>
              <a:t>谁是勤劳小蜜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1116000" y="148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j003"/>
          <p:cNvPicPr/>
          <p:nvPr/>
        </p:nvPicPr>
        <p:blipFill>
          <a:blip r:embed="rId2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4572000" y="836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Comic Sans MS"/>
              </a:rPr>
              <a:t>go to scho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84360" y="105264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7"/>
          <p:cNvGrpSpPr/>
          <p:nvPr/>
        </p:nvGrpSpPr>
        <p:grpSpPr>
          <a:xfrm>
            <a:off x="611280" y="1627200"/>
            <a:ext cx="2512800" cy="2515680"/>
            <a:chOff x="611280" y="1627200"/>
            <a:chExt cx="2512800" cy="2515680"/>
          </a:xfrm>
        </p:grpSpPr>
        <p:grpSp>
          <p:nvGrpSpPr>
            <p:cNvPr id="209" name="Group 8"/>
            <p:cNvGrpSpPr/>
            <p:nvPr/>
          </p:nvGrpSpPr>
          <p:grpSpPr>
            <a:xfrm>
              <a:off x="611280" y="1627200"/>
              <a:ext cx="2512800" cy="2515680"/>
              <a:chOff x="611280" y="1627200"/>
              <a:chExt cx="2512800" cy="2515680"/>
            </a:xfrm>
          </p:grpSpPr>
          <p:grpSp>
            <p:nvGrpSpPr>
              <p:cNvPr id="210" name="Group 9"/>
              <p:cNvGrpSpPr/>
              <p:nvPr/>
            </p:nvGrpSpPr>
            <p:grpSpPr>
              <a:xfrm>
                <a:off x="611280" y="1627200"/>
                <a:ext cx="2512800" cy="2515680"/>
                <a:chOff x="611280" y="1627200"/>
                <a:chExt cx="2512800" cy="2515680"/>
              </a:xfrm>
            </p:grpSpPr>
            <p:grpSp>
              <p:nvGrpSpPr>
                <p:cNvPr id="211" name="Group 10"/>
                <p:cNvGrpSpPr/>
                <p:nvPr/>
              </p:nvGrpSpPr>
              <p:grpSpPr>
                <a:xfrm>
                  <a:off x="611280" y="1649160"/>
                  <a:ext cx="2512800" cy="2493720"/>
                  <a:chOff x="611280" y="1649160"/>
                  <a:chExt cx="2512800" cy="2493720"/>
                </a:xfrm>
              </p:grpSpPr>
              <p:grpSp>
                <p:nvGrpSpPr>
                  <p:cNvPr id="212" name="Group 11"/>
                  <p:cNvGrpSpPr/>
                  <p:nvPr/>
                </p:nvGrpSpPr>
                <p:grpSpPr>
                  <a:xfrm>
                    <a:off x="611280" y="1649160"/>
                    <a:ext cx="2512800" cy="2493720"/>
                    <a:chOff x="611280" y="1649160"/>
                    <a:chExt cx="2512800" cy="2493720"/>
                  </a:xfrm>
                </p:grpSpPr>
                <p:grpSp>
                  <p:nvGrpSpPr>
                    <p:cNvPr id="213" name="Group 12"/>
                    <p:cNvGrpSpPr/>
                    <p:nvPr/>
                  </p:nvGrpSpPr>
                  <p:grpSpPr>
                    <a:xfrm>
                      <a:off x="611280" y="1649160"/>
                      <a:ext cx="2512800" cy="2493720"/>
                      <a:chOff x="611280" y="1649160"/>
                      <a:chExt cx="2512800" cy="2493720"/>
                    </a:xfrm>
                  </p:grpSpPr>
                  <p:grpSp>
                    <p:nvGrpSpPr>
                      <p:cNvPr id="214" name="Group 13"/>
                      <p:cNvGrpSpPr/>
                      <p:nvPr/>
                    </p:nvGrpSpPr>
                    <p:grpSpPr>
                      <a:xfrm>
                        <a:off x="611280" y="1649160"/>
                        <a:ext cx="2512800" cy="2493720"/>
                        <a:chOff x="611280" y="1649160"/>
                        <a:chExt cx="2512800" cy="2493720"/>
                      </a:xfrm>
                    </p:grpSpPr>
                    <p:sp>
                      <p:nvSpPr>
                        <p:cNvPr id="215" name="AutoShape 14"/>
                        <p:cNvSpPr/>
                        <p:nvPr/>
                      </p:nvSpPr>
                      <p:spPr>
                        <a:xfrm>
                          <a:off x="611280" y="1649160"/>
                          <a:ext cx="2512800" cy="2493720"/>
                        </a:xfrm>
                        <a:prstGeom prst="flowChartConnector">
                          <a:avLst/>
                        </a:prstGeom>
                        <a:solidFill>
                          <a:srgbClr val="01b288"/>
                        </a:solidFill>
                        <a:ln w="3168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6" name="AutoShape 15"/>
                        <p:cNvSpPr/>
                        <p:nvPr/>
                      </p:nvSpPr>
                      <p:spPr>
                        <a:xfrm>
                          <a:off x="804240" y="1848240"/>
                          <a:ext cx="2126520" cy="2094480"/>
                        </a:xfrm>
                        <a:prstGeom prst="flowChartConnector">
                          <a:avLst/>
                        </a:prstGeom>
                        <a:solidFill>
                          <a:srgbClr val="ffffcc"/>
                        </a:solidFill>
                        <a:ln w="3168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17" name="Line 16"/>
                      <p:cNvSpPr/>
                      <p:nvPr/>
                    </p:nvSpPr>
                    <p:spPr>
                      <a:xfrm>
                        <a:off x="1868040" y="1848240"/>
                        <a:ext cx="0" cy="245520"/>
                      </a:xfrm>
                      <a:prstGeom prst="line">
                        <a:avLst/>
                      </a:prstGeom>
                      <a:ln w="316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Line 17"/>
                      <p:cNvSpPr/>
                      <p:nvPr/>
                    </p:nvSpPr>
                    <p:spPr>
                      <a:xfrm flipH="1">
                        <a:off x="2693520" y="2869200"/>
                        <a:ext cx="23724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Line 18"/>
                      <p:cNvSpPr/>
                      <p:nvPr/>
                    </p:nvSpPr>
                    <p:spPr>
                      <a:xfrm>
                        <a:off x="1868040" y="3698280"/>
                        <a:ext cx="0" cy="244800"/>
                      </a:xfrm>
                      <a:prstGeom prst="line">
                        <a:avLst/>
                      </a:prstGeom>
                      <a:ln w="316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0" name="Line 19"/>
                      <p:cNvSpPr/>
                      <p:nvPr/>
                    </p:nvSpPr>
                    <p:spPr>
                      <a:xfrm flipH="1">
                        <a:off x="804240" y="2846160"/>
                        <a:ext cx="23760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1" name="Text Box 20"/>
                      <p:cNvSpPr/>
                      <p:nvPr/>
                    </p:nvSpPr>
                    <p:spPr>
                      <a:xfrm>
                        <a:off x="1728720" y="2107440"/>
                        <a:ext cx="326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00ff"/>
                            </a:solidFill>
                            <a:latin typeface="Comic Sans MS"/>
                            <a:ea typeface="仿宋_GB2312"/>
                          </a:rPr>
                          <a:t>2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Text Box 21"/>
                      <p:cNvSpPr/>
                      <p:nvPr/>
                    </p:nvSpPr>
                    <p:spPr>
                      <a:xfrm>
                        <a:off x="1726560" y="3304800"/>
                        <a:ext cx="326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00ff"/>
                            </a:solidFill>
                            <a:latin typeface="Comic Sans MS"/>
                            <a:ea typeface="仿宋_GB2312"/>
                          </a:rPr>
                          <a:t>6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Text Box 22"/>
                      <p:cNvSpPr/>
                      <p:nvPr/>
                    </p:nvSpPr>
                    <p:spPr>
                      <a:xfrm>
                        <a:off x="1004400" y="2685240"/>
                        <a:ext cx="326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00ff"/>
                            </a:solidFill>
                            <a:latin typeface="Comic Sans MS"/>
                            <a:ea typeface="仿宋_GB2312"/>
                          </a:rPr>
                          <a:t>9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Text Box 23"/>
                      <p:cNvSpPr/>
                      <p:nvPr/>
                    </p:nvSpPr>
                    <p:spPr>
                      <a:xfrm>
                        <a:off x="2401920" y="2685240"/>
                        <a:ext cx="326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0000ff"/>
                            </a:solidFill>
                            <a:latin typeface="Comic Sans MS"/>
                            <a:ea typeface="仿宋_GB2312"/>
                          </a:rPr>
                          <a:t>3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5" name="Rectangle 24"/>
                      <p:cNvSpPr/>
                      <p:nvPr/>
                    </p:nvSpPr>
                    <p:spPr>
                      <a:xfrm>
                        <a:off x="1829520" y="2525400"/>
                        <a:ext cx="35460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ff"/>
                            </a:solidFill>
                            <a:latin typeface="Times New Roman"/>
                          </a:rPr>
                          <a:t>。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26" name="Rectangle 25"/>
                    <p:cNvSpPr/>
                    <p:nvPr/>
                  </p:nvSpPr>
                  <p:spPr>
                    <a:xfrm>
                      <a:off x="1226520" y="3423960"/>
                      <a:ext cx="2692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Rectangle 26"/>
                    <p:cNvSpPr/>
                    <p:nvPr/>
                  </p:nvSpPr>
                  <p:spPr>
                    <a:xfrm>
                      <a:off x="843120" y="3023640"/>
                      <a:ext cx="2692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8" name="Rectangle 27"/>
                  <p:cNvSpPr/>
                  <p:nvPr/>
                </p:nvSpPr>
                <p:spPr>
                  <a:xfrm>
                    <a:off x="2679480" y="2924280"/>
                    <a:ext cx="269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.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Rectangle 28"/>
                  <p:cNvSpPr/>
                  <p:nvPr/>
                </p:nvSpPr>
                <p:spPr>
                  <a:xfrm>
                    <a:off x="2255040" y="3324240"/>
                    <a:ext cx="289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.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" name="Rectangle 29"/>
                <p:cNvSpPr/>
                <p:nvPr/>
              </p:nvSpPr>
              <p:spPr>
                <a:xfrm>
                  <a:off x="2158560" y="1627200"/>
                  <a:ext cx="4269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30"/>
                <p:cNvSpPr/>
                <p:nvPr/>
              </p:nvSpPr>
              <p:spPr>
                <a:xfrm>
                  <a:off x="2642040" y="202500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Line 31"/>
              <p:cNvSpPr/>
              <p:nvPr/>
            </p:nvSpPr>
            <p:spPr>
              <a:xfrm flipH="1">
                <a:off x="1552680" y="2868840"/>
                <a:ext cx="342720" cy="634320"/>
              </a:xfrm>
              <a:prstGeom prst="line">
                <a:avLst/>
              </a:prstGeom>
              <a:ln w="540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32"/>
              <p:cNvSpPr/>
              <p:nvPr/>
            </p:nvSpPr>
            <p:spPr>
              <a:xfrm flipV="1">
                <a:off x="1906560" y="1988640"/>
                <a:ext cx="432000" cy="86508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33"/>
            <p:cNvSpPr/>
            <p:nvPr/>
          </p:nvSpPr>
          <p:spPr>
            <a:xfrm>
              <a:off x="1116000" y="2205000"/>
              <a:ext cx="0" cy="7128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34"/>
          <p:cNvSpPr/>
          <p:nvPr/>
        </p:nvSpPr>
        <p:spPr>
          <a:xfrm>
            <a:off x="971640" y="47242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It’s 7: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619280" y="9079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It’ tim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6" descr="office6\wpsassist\cache\A000220150322J37PPIC"/>
          <p:cNvPicPr/>
          <p:nvPr/>
        </p:nvPicPr>
        <p:blipFill>
          <a:blip r:embed="rId3"/>
          <a:stretch/>
        </p:blipFill>
        <p:spPr>
          <a:xfrm>
            <a:off x="4861080" y="2133720"/>
            <a:ext cx="331308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1116000" y="148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j003"/>
          <p:cNvPicPr/>
          <p:nvPr/>
        </p:nvPicPr>
        <p:blipFill>
          <a:blip r:embed="rId2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684360" y="105264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5003640" y="4724280"/>
            <a:ext cx="345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1116000" y="259920"/>
            <a:ext cx="2733840" cy="3829680"/>
            <a:chOff x="1116000" y="259920"/>
            <a:chExt cx="2733840" cy="3829680"/>
          </a:xfrm>
        </p:grpSpPr>
        <p:grpSp>
          <p:nvGrpSpPr>
            <p:cNvPr id="244" name="Group 8"/>
            <p:cNvGrpSpPr/>
            <p:nvPr/>
          </p:nvGrpSpPr>
          <p:grpSpPr>
            <a:xfrm>
              <a:off x="1116000" y="259920"/>
              <a:ext cx="2733840" cy="3829680"/>
              <a:chOff x="1116000" y="259920"/>
              <a:chExt cx="2733840" cy="3829680"/>
            </a:xfrm>
          </p:grpSpPr>
          <p:grpSp>
            <p:nvGrpSpPr>
              <p:cNvPr id="245" name="Group 9"/>
              <p:cNvGrpSpPr/>
              <p:nvPr/>
            </p:nvGrpSpPr>
            <p:grpSpPr>
              <a:xfrm>
                <a:off x="1116000" y="259920"/>
                <a:ext cx="2733840" cy="3829680"/>
                <a:chOff x="1116000" y="259920"/>
                <a:chExt cx="2733840" cy="3829680"/>
              </a:xfrm>
            </p:grpSpPr>
            <p:grpSp>
              <p:nvGrpSpPr>
                <p:cNvPr id="246" name="Group 10"/>
                <p:cNvGrpSpPr/>
                <p:nvPr/>
              </p:nvGrpSpPr>
              <p:grpSpPr>
                <a:xfrm>
                  <a:off x="1116000" y="1301400"/>
                  <a:ext cx="2733840" cy="2788200"/>
                  <a:chOff x="1116000" y="1301400"/>
                  <a:chExt cx="2733840" cy="2788200"/>
                </a:xfrm>
              </p:grpSpPr>
              <p:grpSp>
                <p:nvGrpSpPr>
                  <p:cNvPr id="247" name="Group 11"/>
                  <p:cNvGrpSpPr/>
                  <p:nvPr/>
                </p:nvGrpSpPr>
                <p:grpSpPr>
                  <a:xfrm>
                    <a:off x="1116000" y="1301400"/>
                    <a:ext cx="2733840" cy="2788200"/>
                    <a:chOff x="1116000" y="1301400"/>
                    <a:chExt cx="2733840" cy="2788200"/>
                  </a:xfrm>
                </p:grpSpPr>
                <p:grpSp>
                  <p:nvGrpSpPr>
                    <p:cNvPr id="248" name="Group 12"/>
                    <p:cNvGrpSpPr/>
                    <p:nvPr/>
                  </p:nvGrpSpPr>
                  <p:grpSpPr>
                    <a:xfrm>
                      <a:off x="1116000" y="1301400"/>
                      <a:ext cx="2733840" cy="2788200"/>
                      <a:chOff x="1116000" y="1301400"/>
                      <a:chExt cx="2733840" cy="2788200"/>
                    </a:xfrm>
                  </p:grpSpPr>
                  <p:grpSp>
                    <p:nvGrpSpPr>
                      <p:cNvPr id="249" name="Group 13"/>
                      <p:cNvGrpSpPr/>
                      <p:nvPr/>
                    </p:nvGrpSpPr>
                    <p:grpSpPr>
                      <a:xfrm>
                        <a:off x="1116000" y="1301400"/>
                        <a:ext cx="2733840" cy="2788200"/>
                        <a:chOff x="1116000" y="1301400"/>
                        <a:chExt cx="2733840" cy="2788200"/>
                      </a:xfrm>
                    </p:grpSpPr>
                    <p:grpSp>
                      <p:nvGrpSpPr>
                        <p:cNvPr id="250" name="Group 14"/>
                        <p:cNvGrpSpPr/>
                        <p:nvPr/>
                      </p:nvGrpSpPr>
                      <p:grpSpPr>
                        <a:xfrm>
                          <a:off x="1116000" y="1301400"/>
                          <a:ext cx="2733840" cy="2788200"/>
                          <a:chOff x="1116000" y="1301400"/>
                          <a:chExt cx="2733840" cy="2788200"/>
                        </a:xfrm>
                      </p:grpSpPr>
                      <p:sp>
                        <p:nvSpPr>
                          <p:cNvPr id="251" name="AutoShape 15"/>
                          <p:cNvSpPr/>
                          <p:nvPr/>
                        </p:nvSpPr>
                        <p:spPr>
                          <a:xfrm>
                            <a:off x="1116000" y="1301400"/>
                            <a:ext cx="2733840" cy="2788200"/>
                          </a:xfrm>
                          <a:prstGeom prst="flowChartConnector">
                            <a:avLst/>
                          </a:prstGeom>
                          <a:solidFill>
                            <a:srgbClr val="01b288"/>
                          </a:solidFill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AutoShape 16"/>
                          <p:cNvSpPr/>
                          <p:nvPr/>
                        </p:nvSpPr>
                        <p:spPr>
                          <a:xfrm>
                            <a:off x="1325880" y="1524240"/>
                            <a:ext cx="2313720" cy="2341800"/>
                          </a:xfrm>
                          <a:prstGeom prst="flowChartConnector">
                            <a:avLst/>
                          </a:prstGeom>
                          <a:solidFill>
                            <a:srgbClr val="ffffcc"/>
                          </a:solidFill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53" name="Line 17"/>
                        <p:cNvSpPr/>
                        <p:nvPr/>
                      </p:nvSpPr>
                      <p:spPr>
                        <a:xfrm>
                          <a:off x="2483280" y="1524240"/>
                          <a:ext cx="0" cy="2743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Line 18"/>
                        <p:cNvSpPr/>
                        <p:nvPr/>
                      </p:nvSpPr>
                      <p:spPr>
                        <a:xfrm flipH="1">
                          <a:off x="3381480" y="2665440"/>
                          <a:ext cx="2581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Line 19"/>
                        <p:cNvSpPr/>
                        <p:nvPr/>
                      </p:nvSpPr>
                      <p:spPr>
                        <a:xfrm>
                          <a:off x="2483280" y="3592440"/>
                          <a:ext cx="0" cy="273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Line 20"/>
                        <p:cNvSpPr/>
                        <p:nvPr/>
                      </p:nvSpPr>
                      <p:spPr>
                        <a:xfrm flipH="1">
                          <a:off x="1325520" y="2639880"/>
                          <a:ext cx="258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Text Box 21"/>
                        <p:cNvSpPr/>
                        <p:nvPr/>
                      </p:nvSpPr>
                      <p:spPr>
                        <a:xfrm>
                          <a:off x="2272320" y="1836000"/>
                          <a:ext cx="47340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000" spc="-1" strike="noStrike">
                              <a:solidFill>
                                <a:srgbClr val="0000ff"/>
                              </a:solidFill>
                              <a:latin typeface="Comic Sans MS"/>
                              <a:ea typeface="仿宋_GB2312"/>
                            </a:rPr>
                            <a:t>12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Text Box 22"/>
                        <p:cNvSpPr/>
                        <p:nvPr/>
                      </p:nvSpPr>
                      <p:spPr>
                        <a:xfrm>
                          <a:off x="2344680" y="3174480"/>
                          <a:ext cx="32688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000" spc="-1" strike="noStrike">
                              <a:solidFill>
                                <a:srgbClr val="0000ff"/>
                              </a:solidFill>
                              <a:latin typeface="Comic Sans MS"/>
                              <a:ea typeface="仿宋_GB2312"/>
                            </a:rPr>
                            <a:t>6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Text Box 23"/>
                        <p:cNvSpPr/>
                        <p:nvPr/>
                      </p:nvSpPr>
                      <p:spPr>
                        <a:xfrm>
                          <a:off x="1558080" y="2479680"/>
                          <a:ext cx="32688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000" spc="-1" strike="noStrike">
                              <a:solidFill>
                                <a:srgbClr val="0000ff"/>
                              </a:solidFill>
                              <a:latin typeface="Comic Sans MS"/>
                              <a:ea typeface="仿宋_GB2312"/>
                            </a:rPr>
                            <a:t>9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Text Box 24"/>
                        <p:cNvSpPr/>
                        <p:nvPr/>
                      </p:nvSpPr>
                      <p:spPr>
                        <a:xfrm>
                          <a:off x="3078720" y="2479680"/>
                          <a:ext cx="32688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000" spc="-1" strike="noStrike">
                              <a:solidFill>
                                <a:srgbClr val="0000ff"/>
                              </a:solidFill>
                              <a:latin typeface="Comic Sans MS"/>
                              <a:ea typeface="仿宋_GB2312"/>
                            </a:rPr>
                            <a:t>3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Rectangle 25"/>
                        <p:cNvSpPr/>
                        <p:nvPr/>
                      </p:nvSpPr>
                      <p:spPr>
                        <a:xfrm>
                          <a:off x="2453760" y="2311920"/>
                          <a:ext cx="35460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ff"/>
                              </a:solidFill>
                              <a:latin typeface="Times New Roman"/>
                            </a:rPr>
                            <a:t>。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2" name="Rectangle 26"/>
                      <p:cNvSpPr/>
                      <p:nvPr/>
                    </p:nvSpPr>
                    <p:spPr>
                      <a:xfrm>
                        <a:off x="1799640" y="3314880"/>
                        <a:ext cx="2692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ff"/>
                            </a:solidFill>
                            <a:latin typeface="Times New Roman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3" name="Rectangle 27"/>
                      <p:cNvSpPr/>
                      <p:nvPr/>
                    </p:nvSpPr>
                    <p:spPr>
                      <a:xfrm>
                        <a:off x="1378800" y="2869200"/>
                        <a:ext cx="2692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ff"/>
                            </a:solidFill>
                            <a:latin typeface="Times New Roman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64" name="Rectangle 28"/>
                    <p:cNvSpPr/>
                    <p:nvPr/>
                  </p:nvSpPr>
                  <p:spPr>
                    <a:xfrm>
                      <a:off x="3378960" y="2758680"/>
                      <a:ext cx="2692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Rectangle 29"/>
                    <p:cNvSpPr/>
                    <p:nvPr/>
                  </p:nvSpPr>
                  <p:spPr>
                    <a:xfrm>
                      <a:off x="2904120" y="3207240"/>
                      <a:ext cx="3153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" name="Rectangle 30"/>
                  <p:cNvSpPr/>
                  <p:nvPr/>
                </p:nvSpPr>
                <p:spPr>
                  <a:xfrm>
                    <a:off x="2799360" y="1307160"/>
                    <a:ext cx="4647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.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31"/>
                  <p:cNvSpPr/>
                  <p:nvPr/>
                </p:nvSpPr>
                <p:spPr>
                  <a:xfrm>
                    <a:off x="3325320" y="1753560"/>
                    <a:ext cx="315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.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" name="Rectangle 32"/>
                <p:cNvSpPr/>
                <p:nvPr/>
              </p:nvSpPr>
              <p:spPr>
                <a:xfrm>
                  <a:off x="2829960" y="259920"/>
                  <a:ext cx="269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33"/>
                <p:cNvSpPr/>
                <p:nvPr/>
              </p:nvSpPr>
              <p:spPr>
                <a:xfrm>
                  <a:off x="2355480" y="590400"/>
                  <a:ext cx="464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Line 34"/>
              <p:cNvSpPr/>
              <p:nvPr/>
            </p:nvSpPr>
            <p:spPr>
              <a:xfrm flipH="1">
                <a:off x="2004480" y="2648160"/>
                <a:ext cx="564480" cy="9604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Line 35"/>
            <p:cNvSpPr/>
            <p:nvPr/>
          </p:nvSpPr>
          <p:spPr>
            <a:xfrm>
              <a:off x="2569680" y="2648520"/>
              <a:ext cx="484560" cy="43668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36"/>
          <p:cNvSpPr/>
          <p:nvPr/>
        </p:nvSpPr>
        <p:spPr>
          <a:xfrm>
            <a:off x="1619280" y="198900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>
            <a:off x="1619280" y="1989000"/>
            <a:ext cx="0" cy="0"/>
          </a:xfrm>
          <a:prstGeom prst="line">
            <a:avLst/>
          </a:prstGeom>
          <a:ln w="316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>
            <a:off x="1692360" y="1916280"/>
            <a:ext cx="71280" cy="7272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187280" y="4508640"/>
            <a:ext cx="27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It’s 4: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0"/>
          <p:cNvSpPr/>
          <p:nvPr/>
        </p:nvSpPr>
        <p:spPr>
          <a:xfrm>
            <a:off x="5508720" y="378936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Comic Sans MS"/>
              </a:rPr>
              <a:t>go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1" descr="office6\wpsassist\cache\A000220150319I93PPIC"/>
          <p:cNvPicPr/>
          <p:nvPr/>
        </p:nvPicPr>
        <p:blipFill>
          <a:blip r:embed="rId3"/>
          <a:stretch/>
        </p:blipFill>
        <p:spPr>
          <a:xfrm>
            <a:off x="5076720" y="1270080"/>
            <a:ext cx="22194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1116000" y="148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j003"/>
          <p:cNvPicPr/>
          <p:nvPr/>
        </p:nvPicPr>
        <p:blipFill>
          <a:blip r:embed="rId2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5435640" y="981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Comic Sans MS"/>
              </a:rPr>
              <a:t>go to b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843280" y="126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9"/>
          <p:cNvPicPr/>
          <p:nvPr/>
        </p:nvPicPr>
        <p:blipFill>
          <a:blip r:embed="rId3"/>
          <a:stretch/>
        </p:blipFill>
        <p:spPr>
          <a:xfrm>
            <a:off x="1116000" y="184464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"/>
          <p:cNvSpPr/>
          <p:nvPr/>
        </p:nvSpPr>
        <p:spPr>
          <a:xfrm>
            <a:off x="1619280" y="5084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It’s 9: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office6\wpsassist\cache\A000220150322J87PPIC"/>
          <p:cNvPicPr/>
          <p:nvPr/>
        </p:nvPicPr>
        <p:blipFill>
          <a:blip r:embed="rId4"/>
          <a:stretch/>
        </p:blipFill>
        <p:spPr>
          <a:xfrm>
            <a:off x="4068720" y="1844640"/>
            <a:ext cx="304812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7-09T01:18:27Z</dcterms:modified>
  <cp:revision>1</cp:revision>
  <dc:subject/>
  <dc:title/>
</cp:coreProperties>
</file>