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8.gif" ContentType="image/gif"/>
  <Override PartName="/ppt/media/image7.jpeg" ContentType="image/jpeg"/>
  <Override PartName="/ppt/media/image17.gif" ContentType="image/gif"/>
  <Override PartName="/ppt/media/image2.jpeg" ContentType="image/jpeg"/>
  <Override PartName="/ppt/media/image16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11.jpeg" ContentType="image/jpeg"/>
  <Override PartName="/ppt/media/image14.jpeg" ContentType="image/jpeg"/>
  <Override PartName="/ppt/media/image5.gif" ContentType="image/gif"/>
  <Override PartName="/ppt/media/image6.gif" ContentType="image/gi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A602-FC87-42A1-BEA5-4A97FCCD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B32-4E88-4A01-BA32-0B686C1D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42C-DC45-499A-B8CB-117CBD26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ECC-0253-4CCA-BE24-E7E64CD8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5054-7349-42A0-933D-78D06593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583E-0405-4C63-841E-61B9841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7AA0-2BA5-4C38-B812-5008A198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2F35-C66A-4713-A7B1-6C5FC163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95D9-60C4-42EE-9CBE-4F9EC42A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7840" y="147240"/>
            <a:ext cx="82152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8D01-967E-48BE-8107-F8BCD186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3FE8-E51E-44FE-9CC8-F4027FAD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B73-52DB-4542-84FB-CFA9AD81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4E38-8BF9-4C3D-A8CA-C0621B5C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2F30-CA86-44E7-B9D2-1A010AD9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C029-2A42-4A88-A6B7-E0620DB4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8730-DF08-4194-BD82-D7608012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4525-CE90-47A0-8CA4-3CA26709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1212-2246-4FD4-900B-6422C4EF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5857F-8F87-4F25-8AE2-37B6F1BD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D6805-11B9-414C-901C-402F0A27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9229C-B77A-4D88-BC75-25392026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669B0-92BA-4B13-8F34-449236B9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EF15-83B1-43BF-944B-0695FB90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47840" y="147240"/>
            <a:ext cx="82152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80493-F73B-4393-9C50-A1ED3CF35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724CB-10F9-4B60-8525-CEA919A4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6F625-5649-40A9-B8F2-F3DD025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403B-9E84-449F-94FB-4A77EE60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60E87-FC51-41C1-B71E-4138F42D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B3CC-97B9-4EA4-8E87-485EB82C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2524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03000" y="120024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78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2524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03000" y="3864600"/>
            <a:ext cx="2644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AE5EF-F17A-428D-9EF3-2A437649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A28-DCFE-4F1A-9557-F38003A5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D7E-255D-4A0B-946E-0A57E059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7840" y="147240"/>
            <a:ext cx="82152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BC5-D8DB-452C-823D-E8A93268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FB2-1BC9-4ACA-AA75-9920DCE2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7680" y="386460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50F-E660-47E9-AAAF-59A25803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7680" y="1200240"/>
            <a:ext cx="400896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7840" y="3864600"/>
            <a:ext cx="82152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0D9-49E6-4773-A64B-4C2F5B70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2CEF-4835-4E0D-B2DB-C3921DCFB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0" descr=""/>
          <p:cNvPicPr/>
          <p:nvPr/>
        </p:nvPicPr>
        <p:blipFill>
          <a:blip r:embed="rId2"/>
          <a:srcRect l="0" t="14664" r="0" b="0"/>
          <a:stretch/>
        </p:blipFill>
        <p:spPr>
          <a:xfrm>
            <a:off x="0" y="3240"/>
            <a:ext cx="9144000" cy="1062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1"/>
          <p:cNvSpPr/>
          <p:nvPr/>
        </p:nvSpPr>
        <p:spPr>
          <a:xfrm>
            <a:off x="0" y="114480"/>
            <a:ext cx="9144000" cy="865080"/>
          </a:xfrm>
          <a:prstGeom prst="rect">
            <a:avLst/>
          </a:prstGeom>
          <a:solidFill>
            <a:srgbClr val="92d05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5CA8-AC55-4D06-AE51-7281E7B8EE2E}" type="slidenum"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3b40d"/>
              </a:buClr>
              <a:buSzPct val="5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dce382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1199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83b40d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8"/>
          <p:cNvGrpSpPr/>
          <p:nvPr/>
        </p:nvGrpSpPr>
        <p:grpSpPr>
          <a:xfrm>
            <a:off x="0" y="0"/>
            <a:ext cx="9172440" cy="6453360"/>
            <a:chOff x="0" y="0"/>
            <a:chExt cx="9172440" cy="6453360"/>
          </a:xfrm>
        </p:grpSpPr>
        <p:pic>
          <p:nvPicPr>
            <p:cNvPr id="85" name="Picture 2" descr="D:\wang\office图表模板\背景素材2\Nipic_3315350_73bfbc83a5b9fa44\Nipic_3315350_20121020133448003316.jpg"/>
            <p:cNvPicPr/>
            <p:nvPr/>
          </p:nvPicPr>
          <p:blipFill>
            <a:blip r:embed="rId2"/>
            <a:srcRect l="0" t="0" r="0" b="14843"/>
            <a:stretch/>
          </p:blipFill>
          <p:spPr>
            <a:xfrm>
              <a:off x="0" y="0"/>
              <a:ext cx="9169560" cy="522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矩形 12"/>
            <p:cNvSpPr/>
            <p:nvPr/>
          </p:nvSpPr>
          <p:spPr>
            <a:xfrm>
              <a:off x="2880" y="4825080"/>
              <a:ext cx="9169560" cy="792000"/>
            </a:xfrm>
            <a:prstGeom prst="rect">
              <a:avLst/>
            </a:prstGeom>
            <a:solidFill>
              <a:srgbClr val="92d050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3"/>
            <p:cNvSpPr/>
            <p:nvPr/>
          </p:nvSpPr>
          <p:spPr>
            <a:xfrm>
              <a:off x="2880" y="5113440"/>
              <a:ext cx="9169560" cy="1339920"/>
            </a:xfrm>
            <a:prstGeom prst="rect">
              <a:avLst/>
            </a:prstGeom>
            <a:solidFill>
              <a:srgbClr val="92d050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532200"/>
            <a:ext cx="2133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532200"/>
            <a:ext cx="28958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532200"/>
            <a:ext cx="2133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CC70-D250-410B-91C2-8875F4986DD1}" type="slidenum">
              <a:rPr b="0" lang="zh-CN" sz="9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1306080" y="5156280"/>
            <a:ext cx="6396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89,5,&#24187;&#28783;&#29255; 5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44720" y="981000"/>
            <a:ext cx="676584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UNIT ONE WHAT TIME IS I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课件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48000" y="4365720"/>
            <a:ext cx="1575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9280" y="620640"/>
            <a:ext cx="77774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It’s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 quarter </a:t>
            </a: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past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24000" y="3789360"/>
            <a:ext cx="49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88000" y="335772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quarter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i="1" lang="zh-CN" sz="3600" spc="-1" strike="noStrike">
                <a:solidFill>
                  <a:srgbClr val="6600cc"/>
                </a:solidFill>
                <a:latin typeface="Arial"/>
              </a:rPr>
              <a:t>：</a:t>
            </a: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0920" y="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Learn and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16360" y="400536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在此表示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刻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268280"/>
            <a:ext cx="82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It’s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a quarter </a:t>
            </a:r>
            <a:r>
              <a:rPr b="1" lang="en-US" sz="4400" spc="-1" strike="noStrike">
                <a:solidFill>
                  <a:srgbClr val="c5d12f"/>
                </a:solidFill>
                <a:latin typeface="黑体"/>
                <a:ea typeface="黑体"/>
              </a:rPr>
              <a:t>past</a:t>
            </a: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 …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24000" y="3789360"/>
            <a:ext cx="49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3573360"/>
            <a:ext cx="813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4:15    1:15       5:15       9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3:15     6:15     8:15       12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11:15   2:15     7:15      10: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260280"/>
            <a:ext cx="53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Ask and answer in pai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79280" y="1341360"/>
            <a:ext cx="77774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It’s a quarter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   </a:t>
            </a: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t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24000" y="3789360"/>
            <a:ext cx="49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48000" y="1917720"/>
            <a:ext cx="42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Learn and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219640" y="2565360"/>
            <a:ext cx="392436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差几分钟到几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268280"/>
            <a:ext cx="82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It’s …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 to</a:t>
            </a: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 …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3789360"/>
            <a:ext cx="49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3357720"/>
            <a:ext cx="813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5:45      6:35     8:55        12: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4:45      1:55      9:45        3: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Arial"/>
              </a:rPr>
              <a:t>11:55    2:45     7:35        10: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890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Learn and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中宋"/>
              </a:rPr>
              <a:t>Time  </a:t>
            </a: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3b40d"/>
              </a:buClr>
              <a:buSzPct val="5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</a:rPr>
              <a:t>整点</a:t>
            </a: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用：</a:t>
            </a:r>
            <a:endParaRPr b="0" lang="en-US" sz="3600" spc="-1" strike="noStrike">
              <a:solidFill>
                <a:srgbClr val="83b40d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3b40d"/>
              </a:buClr>
              <a:buSzPct val="5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</a:rPr>
              <a:t>半点</a:t>
            </a: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用：</a:t>
            </a:r>
            <a:endParaRPr b="0" lang="en-US" sz="3600" spc="-1" strike="noStrike">
              <a:solidFill>
                <a:srgbClr val="83b40d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3b40d"/>
              </a:buClr>
              <a:buSzPct val="5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</a:rPr>
              <a:t>一刻钟</a:t>
            </a: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用：</a:t>
            </a:r>
            <a:endParaRPr b="0" lang="en-US" sz="3600" spc="-1" strike="noStrike">
              <a:solidFill>
                <a:srgbClr val="83b40d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3b40d"/>
              </a:buClr>
              <a:buSzPct val="5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</a:rPr>
              <a:t>几点过几分</a:t>
            </a: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用：</a:t>
            </a:r>
            <a:endParaRPr b="0" lang="en-US" sz="3600" spc="-1" strike="noStrike">
              <a:solidFill>
                <a:srgbClr val="83b40d"/>
              </a:solidFill>
              <a:latin typeface="幼圆"/>
            </a:endParaRPr>
          </a:p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3b40d"/>
              </a:buClr>
              <a:buSzPct val="5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表示</a:t>
            </a:r>
            <a:r>
              <a:rPr b="1" lang="zh-CN" sz="3600" spc="-1" strike="noStrike">
                <a:solidFill>
                  <a:srgbClr val="ff0000"/>
                </a:solidFill>
                <a:latin typeface="幼圆"/>
              </a:rPr>
              <a:t>差几分到几点</a:t>
            </a:r>
            <a:r>
              <a:rPr b="0" lang="zh-CN" sz="3600" spc="-1" strike="noStrike">
                <a:solidFill>
                  <a:srgbClr val="83b40d"/>
                </a:solidFill>
                <a:latin typeface="幼圆"/>
              </a:rPr>
              <a:t>用：</a:t>
            </a:r>
            <a:endParaRPr b="0" lang="en-US" sz="3600" spc="-1" strike="noStrike">
              <a:solidFill>
                <a:srgbClr val="83b40d"/>
              </a:solidFill>
              <a:latin typeface="幼圆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0" y="126828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o’c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3933720"/>
            <a:ext cx="230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84720" y="3213000"/>
            <a:ext cx="215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9280" y="1916280"/>
            <a:ext cx="31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half p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263700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a qua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-252360" y="90792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0099"/>
                </a:solidFill>
                <a:latin typeface="Arial"/>
              </a:rPr>
              <a:t>询问时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32000" y="1628640"/>
            <a:ext cx="568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What time is it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What is the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47628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16000" y="3357720"/>
            <a:ext cx="4032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990099"/>
                </a:solidFill>
                <a:latin typeface="Arial"/>
              </a:rPr>
              <a:t>回答都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4005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It is …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116000" y="148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1187280" y="260280"/>
            <a:ext cx="289080" cy="289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4032360" y="1844640"/>
            <a:ext cx="5111640" cy="4402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419640" y="2781360"/>
            <a:ext cx="273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f5f5f"/>
                </a:solidFill>
                <a:latin typeface="Arial"/>
              </a:rPr>
              <a:t>get up</a:t>
            </a:r>
            <a:r>
              <a:rPr b="1" i="1" lang="en-US" sz="44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7"/>
          <a:stretch/>
        </p:blipFill>
        <p:spPr>
          <a:xfrm>
            <a:off x="6691320" y="0"/>
            <a:ext cx="2452680" cy="2592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50920" y="836640"/>
            <a:ext cx="4608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What is the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It’s 6:3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7813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It’s tim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4292640"/>
            <a:ext cx="482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t’s time to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到…的时间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7" dur="2036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36"/>
                            </p:stCondLst>
                            <p:childTnLst>
                              <p:par>
                                <p:cTn id="4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203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116000" y="148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059280" y="24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Comic Sans MS"/>
              </a:rPr>
              <a:t>go to school.</a:t>
            </a: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105264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5651640" cy="301284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6227640" y="0"/>
            <a:ext cx="2734560" cy="3282120"/>
            <a:chOff x="6227640" y="0"/>
            <a:chExt cx="2734560" cy="3282120"/>
          </a:xfrm>
        </p:grpSpPr>
        <p:grpSp>
          <p:nvGrpSpPr>
            <p:cNvPr id="256" name=""/>
            <p:cNvGrpSpPr/>
            <p:nvPr/>
          </p:nvGrpSpPr>
          <p:grpSpPr>
            <a:xfrm>
              <a:off x="6227640" y="0"/>
              <a:ext cx="2734560" cy="3282120"/>
              <a:chOff x="6227640" y="0"/>
              <a:chExt cx="2734560" cy="328212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6227640" y="0"/>
                <a:ext cx="2734560" cy="3282120"/>
                <a:chOff x="6227640" y="0"/>
                <a:chExt cx="2734560" cy="328212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6227640" y="0"/>
                  <a:ext cx="2734560" cy="3282120"/>
                  <a:chOff x="6227640" y="0"/>
                  <a:chExt cx="2734560" cy="3282120"/>
                </a:xfrm>
              </p:grpSpPr>
              <p:grpSp>
                <p:nvGrpSpPr>
                  <p:cNvPr id="259" name=""/>
                  <p:cNvGrpSpPr/>
                  <p:nvPr/>
                </p:nvGrpSpPr>
                <p:grpSpPr>
                  <a:xfrm>
                    <a:off x="6227640" y="0"/>
                    <a:ext cx="2734560" cy="3282120"/>
                    <a:chOff x="6227640" y="0"/>
                    <a:chExt cx="2734560" cy="3282120"/>
                  </a:xfrm>
                </p:grpSpPr>
                <p:grpSp>
                  <p:nvGrpSpPr>
                    <p:cNvPr id="260" name=""/>
                    <p:cNvGrpSpPr/>
                    <p:nvPr/>
                  </p:nvGrpSpPr>
                  <p:grpSpPr>
                    <a:xfrm>
                      <a:off x="6227640" y="0"/>
                      <a:ext cx="2734560" cy="3282120"/>
                      <a:chOff x="6227640" y="0"/>
                      <a:chExt cx="2734560" cy="3282120"/>
                    </a:xfrm>
                  </p:grpSpPr>
                  <p:grpSp>
                    <p:nvGrpSpPr>
                      <p:cNvPr id="261" name=""/>
                      <p:cNvGrpSpPr/>
                      <p:nvPr/>
                    </p:nvGrpSpPr>
                    <p:grpSpPr>
                      <a:xfrm>
                        <a:off x="6227640" y="0"/>
                        <a:ext cx="2734560" cy="3282120"/>
                        <a:chOff x="6227640" y="0"/>
                        <a:chExt cx="2734560" cy="3282120"/>
                      </a:xfrm>
                    </p:grpSpPr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>
                          <a:off x="6227640" y="0"/>
                          <a:ext cx="2734560" cy="3282120"/>
                        </a:xfrm>
                        <a:prstGeom prst="flowChartConnector">
                          <a:avLst/>
                        </a:prstGeom>
                        <a:solidFill>
                          <a:srgbClr val="83b40d"/>
                        </a:solidFill>
                        <a:ln w="3168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6437520" y="262080"/>
                          <a:ext cx="2314080" cy="2756880"/>
                        </a:xfrm>
                        <a:prstGeom prst="flowChartConnector">
                          <a:avLst/>
                        </a:prstGeom>
                        <a:solidFill>
                          <a:srgbClr val="ffffcc"/>
                        </a:solidFill>
                        <a:ln w="3168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7595280" y="262080"/>
                        <a:ext cx="0" cy="322920"/>
                      </a:xfrm>
                      <a:prstGeom prst="line">
                        <a:avLst/>
                      </a:prstGeom>
                      <a:ln w="316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5" name=""/>
                      <p:cNvSpPr/>
                      <p:nvPr/>
                    </p:nvSpPr>
                    <p:spPr>
                      <a:xfrm flipH="1">
                        <a:off x="8493480" y="1605600"/>
                        <a:ext cx="25812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7595280" y="2696760"/>
                        <a:ext cx="0" cy="322200"/>
                      </a:xfrm>
                      <a:prstGeom prst="line">
                        <a:avLst/>
                      </a:prstGeom>
                      <a:ln w="316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 flipH="1">
                        <a:off x="6437520" y="1575360"/>
                        <a:ext cx="258840" cy="0"/>
                      </a:xfrm>
                      <a:prstGeom prst="line">
                        <a:avLst/>
                      </a:prstGeom>
                      <a:ln w="31680">
                        <a:solidFill>
                          <a:srgbClr val="0000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>
                        <a:off x="7459200" y="666000"/>
                        <a:ext cx="326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ff"/>
                            </a:solidFill>
                            <a:latin typeface="Comic Sans MS"/>
                            <a:ea typeface="仿宋_GB2312"/>
                          </a:rPr>
                          <a:t>2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7454520" y="2241720"/>
                        <a:ext cx="326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ff"/>
                            </a:solidFill>
                            <a:latin typeface="Comic Sans MS"/>
                            <a:ea typeface="仿宋_GB2312"/>
                          </a:rPr>
                          <a:t>6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6670080" y="1426680"/>
                        <a:ext cx="326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ff"/>
                            </a:solidFill>
                            <a:latin typeface="Comic Sans MS"/>
                            <a:ea typeface="仿宋_GB2312"/>
                          </a:rPr>
                          <a:t>9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1" name=""/>
                      <p:cNvSpPr/>
                      <p:nvPr/>
                    </p:nvSpPr>
                    <p:spPr>
                      <a:xfrm>
                        <a:off x="8189640" y="1426680"/>
                        <a:ext cx="32688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0000ff"/>
                            </a:solidFill>
                            <a:latin typeface="Comic Sans MS"/>
                            <a:ea typeface="仿宋_GB2312"/>
                          </a:rPr>
                          <a:t>3</a:t>
                        </a: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72" name=""/>
                      <p:cNvSpPr/>
                      <p:nvPr/>
                    </p:nvSpPr>
                    <p:spPr>
                      <a:xfrm>
                        <a:off x="7568640" y="1233360"/>
                        <a:ext cx="35460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ff"/>
                            </a:solidFill>
                            <a:latin typeface="Times New Roman"/>
                          </a:rPr>
                          <a:t>。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6908040" y="2417760"/>
                      <a:ext cx="2692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6489360" y="1887120"/>
                      <a:ext cx="2692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5" name=""/>
                  <p:cNvSpPr/>
                  <p:nvPr/>
                </p:nvSpPr>
                <p:spPr>
                  <a:xfrm>
                    <a:off x="8488800" y="1758240"/>
                    <a:ext cx="269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.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8016120" y="2289600"/>
                    <a:ext cx="315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.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7911720" y="51480"/>
                  <a:ext cx="464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437680" y="576360"/>
                  <a:ext cx="315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 flipH="1">
                <a:off x="7266960" y="1619640"/>
                <a:ext cx="342360" cy="804960"/>
              </a:xfrm>
              <a:prstGeom prst="line">
                <a:avLst/>
              </a:prstGeom>
              <a:ln w="540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7636320" y="447120"/>
                <a:ext cx="469800" cy="1138320"/>
              </a:xfrm>
              <a:prstGeom prst="line">
                <a:avLst/>
              </a:prstGeom>
              <a:ln w="3168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6777000" y="730800"/>
              <a:ext cx="0" cy="9396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0" y="24922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It’s tim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765000"/>
            <a:ext cx="4608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What is the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It’s 7:0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116000" y="14842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84360" y="1052640"/>
            <a:ext cx="244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4724280"/>
            <a:ext cx="345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407280" y="-1035360"/>
            <a:ext cx="2733840" cy="3829680"/>
            <a:chOff x="6407280" y="-1035360"/>
            <a:chExt cx="2733840" cy="3829680"/>
          </a:xfrm>
        </p:grpSpPr>
        <p:grpSp>
          <p:nvGrpSpPr>
            <p:cNvPr id="290" name=""/>
            <p:cNvGrpSpPr/>
            <p:nvPr/>
          </p:nvGrpSpPr>
          <p:grpSpPr>
            <a:xfrm>
              <a:off x="6407280" y="-1035360"/>
              <a:ext cx="2733840" cy="3829680"/>
              <a:chOff x="6407280" y="-1035360"/>
              <a:chExt cx="2733840" cy="38296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6407280" y="-1035360"/>
                <a:ext cx="2733840" cy="3829680"/>
                <a:chOff x="6407280" y="-1035360"/>
                <a:chExt cx="2733840" cy="3829680"/>
              </a:xfrm>
            </p:grpSpPr>
            <p:grpSp>
              <p:nvGrpSpPr>
                <p:cNvPr id="292" name=""/>
                <p:cNvGrpSpPr/>
                <p:nvPr/>
              </p:nvGrpSpPr>
              <p:grpSpPr>
                <a:xfrm>
                  <a:off x="6407280" y="6120"/>
                  <a:ext cx="2733840" cy="2788200"/>
                  <a:chOff x="6407280" y="6120"/>
                  <a:chExt cx="2733840" cy="278820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6407280" y="6120"/>
                    <a:ext cx="2733840" cy="2788200"/>
                    <a:chOff x="6407280" y="6120"/>
                    <a:chExt cx="2733840" cy="2788200"/>
                  </a:xfrm>
                </p:grpSpPr>
                <p:grpSp>
                  <p:nvGrpSpPr>
                    <p:cNvPr id="294" name=""/>
                    <p:cNvGrpSpPr/>
                    <p:nvPr/>
                  </p:nvGrpSpPr>
                  <p:grpSpPr>
                    <a:xfrm>
                      <a:off x="6407280" y="6120"/>
                      <a:ext cx="2733840" cy="2788200"/>
                      <a:chOff x="6407280" y="6120"/>
                      <a:chExt cx="2733840" cy="2788200"/>
                    </a:xfrm>
                  </p:grpSpPr>
                  <p:grpSp>
                    <p:nvGrpSpPr>
                      <p:cNvPr id="295" name=""/>
                      <p:cNvGrpSpPr/>
                      <p:nvPr/>
                    </p:nvGrpSpPr>
                    <p:grpSpPr>
                      <a:xfrm>
                        <a:off x="6407280" y="6120"/>
                        <a:ext cx="2733840" cy="2788200"/>
                        <a:chOff x="6407280" y="6120"/>
                        <a:chExt cx="2733840" cy="2788200"/>
                      </a:xfrm>
                    </p:grpSpPr>
                    <p:grpSp>
                      <p:nvGrpSpPr>
                        <p:cNvPr id="296" name=""/>
                        <p:cNvGrpSpPr/>
                        <p:nvPr/>
                      </p:nvGrpSpPr>
                      <p:grpSpPr>
                        <a:xfrm>
                          <a:off x="6407280" y="6120"/>
                          <a:ext cx="2733840" cy="2788200"/>
                          <a:chOff x="6407280" y="6120"/>
                          <a:chExt cx="2733840" cy="2788200"/>
                        </a:xfrm>
                      </p:grpSpPr>
                      <p:sp>
                        <p:nvSpPr>
                          <p:cNvPr id="297" name=""/>
                          <p:cNvSpPr/>
                          <p:nvPr/>
                        </p:nvSpPr>
                        <p:spPr>
                          <a:xfrm>
                            <a:off x="6407280" y="6120"/>
                            <a:ext cx="2733840" cy="2788200"/>
                          </a:xfrm>
                          <a:prstGeom prst="flowChartConnector">
                            <a:avLst/>
                          </a:prstGeom>
                          <a:solidFill>
                            <a:srgbClr val="83b40d"/>
                          </a:solidFill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8" name=""/>
                          <p:cNvSpPr/>
                          <p:nvPr/>
                        </p:nvSpPr>
                        <p:spPr>
                          <a:xfrm>
                            <a:off x="6617160" y="228960"/>
                            <a:ext cx="2313720" cy="2341800"/>
                          </a:xfrm>
                          <a:prstGeom prst="flowChartConnector">
                            <a:avLst/>
                          </a:prstGeom>
                          <a:solidFill>
                            <a:srgbClr val="ffffcc"/>
                          </a:solidFill>
                          <a:ln w="9360">
                            <a:solidFill>
                              <a:srgbClr val="5f5f5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7774560" y="228960"/>
                          <a:ext cx="0" cy="27432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 flipH="1">
                          <a:off x="8672760" y="1370160"/>
                          <a:ext cx="25812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7774560" y="2297160"/>
                          <a:ext cx="0" cy="27396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 flipH="1">
                          <a:off x="6616800" y="1344600"/>
                          <a:ext cx="258840" cy="0"/>
                        </a:xfrm>
                        <a:prstGeom prst="line">
                          <a:avLst/>
                        </a:prstGeom>
                        <a:ln w="38160">
                          <a:solidFill>
                            <a:srgbClr val="0000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7563600" y="540720"/>
                          <a:ext cx="47340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0000ff"/>
                              </a:solidFill>
                              <a:latin typeface="Comic Sans MS"/>
                              <a:ea typeface="仿宋_GB2312"/>
                            </a:rPr>
                            <a:t>12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7635960" y="1879200"/>
                          <a:ext cx="32688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0000ff"/>
                              </a:solidFill>
                              <a:latin typeface="Comic Sans MS"/>
                              <a:ea typeface="仿宋_GB2312"/>
                            </a:rPr>
                            <a:t>6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6849360" y="1184400"/>
                          <a:ext cx="32688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0000ff"/>
                              </a:solidFill>
                              <a:latin typeface="Comic Sans MS"/>
                              <a:ea typeface="仿宋_GB2312"/>
                            </a:rPr>
                            <a:t>9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8370000" y="1184400"/>
                          <a:ext cx="326880" cy="3988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2000" spc="-1" strike="noStrike">
                              <a:solidFill>
                                <a:srgbClr val="0000ff"/>
                              </a:solidFill>
                              <a:latin typeface="Comic Sans MS"/>
                              <a:ea typeface="仿宋_GB2312"/>
                            </a:rPr>
                            <a:t>3</a:t>
                          </a:r>
                          <a:endParaRPr b="0" lang="en-US" sz="20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7745040" y="1016640"/>
                          <a:ext cx="35460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ff"/>
                              </a:solidFill>
                              <a:latin typeface="Times New Roman"/>
                            </a:rPr>
                            <a:t>。</a:t>
                          </a:r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7090920" y="2019600"/>
                        <a:ext cx="2692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800" spc="-1" strike="noStrike">
                            <a:solidFill>
                              <a:srgbClr val="0000ff"/>
                            </a:solidFill>
                            <a:latin typeface="Times New Roman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6670080" y="1573920"/>
                        <a:ext cx="2692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800" spc="-1" strike="noStrike">
                            <a:solidFill>
                              <a:srgbClr val="0000ff"/>
                            </a:solidFill>
                            <a:latin typeface="Times New Roman"/>
                          </a:rPr>
                          <a:t>.</a:t>
                        </a:r>
                        <a:endParaRPr b="0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8670240" y="1463400"/>
                      <a:ext cx="2692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195400" y="1911960"/>
                      <a:ext cx="31536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"/>
                  <p:cNvSpPr/>
                  <p:nvPr/>
                </p:nvSpPr>
                <p:spPr>
                  <a:xfrm>
                    <a:off x="8090640" y="11880"/>
                    <a:ext cx="4647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.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8616600" y="458280"/>
                    <a:ext cx="3153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ff"/>
                        </a:solidFill>
                        <a:latin typeface="Times New Roman"/>
                      </a:rPr>
                      <a:t>.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"/>
                <p:cNvSpPr/>
                <p:nvPr/>
              </p:nvSpPr>
              <p:spPr>
                <a:xfrm>
                  <a:off x="8121240" y="-1035360"/>
                  <a:ext cx="269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646760" y="-704520"/>
                  <a:ext cx="4647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ff"/>
                      </a:solidFill>
                      <a:latin typeface="Times New Roman"/>
                    </a:rPr>
                    <a:t>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"/>
              <p:cNvSpPr/>
              <p:nvPr/>
            </p:nvSpPr>
            <p:spPr>
              <a:xfrm flipH="1">
                <a:off x="7295760" y="1352880"/>
                <a:ext cx="564480" cy="96048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7860960" y="1353240"/>
              <a:ext cx="484560" cy="43668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619280" y="198900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19280" y="1989000"/>
            <a:ext cx="0" cy="0"/>
          </a:xfrm>
          <a:prstGeom prst="line">
            <a:avLst/>
          </a:prstGeom>
          <a:ln w="316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692360" y="1916280"/>
            <a:ext cx="71280" cy="7272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6165720" y="3860640"/>
            <a:ext cx="2149560" cy="18748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700360" y="3284640"/>
            <a:ext cx="26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go h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125360"/>
            <a:ext cx="4608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What is the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It’s 4:3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-181080" y="3284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It’s time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3276720" y="4941720"/>
            <a:ext cx="28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Comic Sans MS"/>
              </a:rPr>
              <a:t>go to bed.</a:t>
            </a: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843280" y="126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539640" y="189000"/>
            <a:ext cx="2880000" cy="28796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0" y="49417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It’s time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403280" y="-892080"/>
            <a:ext cx="7740360" cy="4145040"/>
            <a:chOff x="1403280" y="-892080"/>
            <a:chExt cx="7740360" cy="4145040"/>
          </a:xfrm>
        </p:grpSpPr>
        <p:pic>
          <p:nvPicPr>
            <p:cNvPr id="331" name="" descr=""/>
            <p:cNvPicPr/>
            <p:nvPr/>
          </p:nvPicPr>
          <p:blipFill>
            <a:blip r:embed="rId3"/>
            <a:stretch/>
          </p:blipFill>
          <p:spPr>
            <a:xfrm>
              <a:off x="5207040" y="115920"/>
              <a:ext cx="3936600" cy="31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403280" y="-892080"/>
              <a:ext cx="41590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79280" y="2997360"/>
            <a:ext cx="4608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What is the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It’s 9:0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914400" y="-316080"/>
            <a:ext cx="8229600" cy="6477120"/>
          </a:xfrm>
          <a:prstGeom prst="sun">
            <a:avLst>
              <a:gd name="adj" fmla="val 25000"/>
            </a:avLst>
          </a:prstGeom>
          <a:solidFill>
            <a:srgbClr val="ff66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916360" y="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564000" y="184464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06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435640" y="0"/>
            <a:ext cx="25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276720" y="198900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06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11280" y="2997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2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3059280" y="184464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7305840" y="126828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2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3640" y="206064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68360" y="112536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3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2987640" y="206064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37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7416720" y="3284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4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843280" y="213372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826920" y="472428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5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3564000" y="177336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55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5508720" y="4653000"/>
            <a:ext cx="23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5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276720" y="191628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57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2484360" y="47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5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3132000" y="19162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5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256536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’re grea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356000" y="2349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843280" y="126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13413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1.What time is it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206064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It’s seven o’cloc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68360" y="3213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2.Classes begin at </a:t>
            </a:r>
            <a:r>
              <a:rPr b="1" lang="en-US" sz="4000" spc="-1" strike="noStrike" u="sng">
                <a:solidFill>
                  <a:srgbClr val="5f5f5f"/>
                </a:solidFill>
                <a:uFillTx/>
                <a:latin typeface="Arial"/>
              </a:rPr>
              <a:t>                      </a:t>
            </a: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 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19640" y="314172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seven thi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908000" y="4762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f5f5f"/>
                </a:solidFill>
                <a:latin typeface="Arial"/>
              </a:rPr>
              <a:t>Listen and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45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华文中宋"/>
                <a:ea typeface="华文彩云"/>
              </a:rPr>
              <a:t>My time table(</a:t>
            </a:r>
            <a:r>
              <a:rPr b="1" lang="zh-CN" sz="3600" spc="-1" strike="noStrike">
                <a:solidFill>
                  <a:srgbClr val="5f5f5f"/>
                </a:solidFill>
                <a:latin typeface="华文中宋"/>
              </a:rPr>
              <a:t>我的作息时间表）</a:t>
            </a:r>
            <a:endParaRPr b="1" lang="en-US" sz="3600" spc="-1" strike="noStrike">
              <a:solidFill>
                <a:srgbClr val="ffffff"/>
              </a:solidFill>
              <a:latin typeface="华文中宋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060720" y="1052640"/>
          <a:ext cx="5616720" cy="4265640"/>
        </p:xfrm>
        <a:graphic>
          <a:graphicData uri="http://schemas.openxmlformats.org/drawingml/2006/table">
            <a:tbl>
              <a:tblPr/>
              <a:tblGrid>
                <a:gridCol w="2800440"/>
                <a:gridCol w="2816280"/>
              </a:tblGrid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Activity</a:t>
                      </a:r>
                      <a:r>
                        <a:rPr b="1" lang="zh-CN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（活动）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Time </a:t>
                      </a:r>
                      <a:r>
                        <a:rPr b="1" lang="zh-CN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（时间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get u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6:30a.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have breakfa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7:00a.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go to schoo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7:20a.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have lunc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11:30a.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go hom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4:30p.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have dinne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5:00p.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go to b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1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600" spc="-1" strike="noStrike">
                          <a:solidFill>
                            <a:srgbClr val="83b40d"/>
                          </a:solidFill>
                          <a:latin typeface="幼圆"/>
                          <a:ea typeface="幼圆"/>
                        </a:rPr>
                        <a:t>10:00p.m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3" name="KSO_BC1" descr=""/>
          <p:cNvPicPr/>
          <p:nvPr/>
        </p:nvPicPr>
        <p:blipFill>
          <a:blip r:embed="rId1"/>
          <a:stretch/>
        </p:blipFill>
        <p:spPr>
          <a:xfrm>
            <a:off x="-181080" y="4221000"/>
            <a:ext cx="2059200" cy="24480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859280" y="3357720"/>
            <a:ext cx="14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68360" y="386064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24000" y="5445000"/>
            <a:ext cx="14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m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.m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03640" y="5445000"/>
            <a:ext cx="151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上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下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7840" y="147240"/>
            <a:ext cx="82152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</a:rPr>
              <a:t>homework</a:t>
            </a:r>
            <a:endParaRPr b="1" lang="en-US" sz="3200" spc="-1" strike="noStrike">
              <a:solidFill>
                <a:srgbClr val="ffffff"/>
              </a:solidFill>
              <a:latin typeface="华文中宋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47840" y="1200240"/>
            <a:ext cx="8215200" cy="51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1199"/>
              </a:spcBef>
              <a:buClr>
                <a:srgbClr val="83b40d"/>
              </a:buClr>
              <a:buSzPct val="50000"/>
              <a:buFont typeface="Wingdings 2" charset="2"/>
              <a:buChar char="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400" spc="-1" strike="noStrike">
                <a:solidFill>
                  <a:srgbClr val="83b40d"/>
                </a:solidFill>
                <a:latin typeface="幼圆"/>
              </a:rPr>
              <a:t>制作一张时间表</a:t>
            </a:r>
            <a:endParaRPr b="0" lang="en-US" sz="2400" spc="-1" strike="noStrike">
              <a:solidFill>
                <a:srgbClr val="83b40d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914400" y="-316080"/>
            <a:ext cx="8229600" cy="6477120"/>
          </a:xfrm>
          <a:prstGeom prst="sun">
            <a:avLst>
              <a:gd name="adj" fmla="val 25000"/>
            </a:avLst>
          </a:prstGeom>
          <a:solidFill>
            <a:srgbClr val="ff66cc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916360" y="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2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419640" y="191628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0600" spc="-1" strike="noStrike">
                <a:solidFill>
                  <a:srgbClr val="000000"/>
                </a:solidFill>
                <a:latin typeface="黑体"/>
                <a:ea typeface="黑体"/>
              </a:rPr>
              <a:t>22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5435640" y="0"/>
            <a:ext cx="255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3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419640" y="184464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0600" spc="-1" strike="noStrike">
                <a:solidFill>
                  <a:srgbClr val="000000"/>
                </a:solidFill>
                <a:latin typeface="黑体"/>
                <a:ea typeface="黑体"/>
              </a:rPr>
              <a:t>35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11280" y="2997360"/>
            <a:ext cx="23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4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203640" y="184464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46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7305840" y="126828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5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3419640" y="191628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57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468360" y="1125360"/>
            <a:ext cx="26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6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3276720" y="184464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62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7416720" y="3284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7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3348000" y="198900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7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826920" y="472428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8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3348000" y="198900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81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5508720" y="4653000"/>
            <a:ext cx="23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9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3276720" y="198900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92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2484360" y="47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   </a:t>
            </a:r>
            <a:r>
              <a:rPr b="1" i="1" lang="en-US" sz="7200" spc="-1" strike="noStrike">
                <a:solidFill>
                  <a:srgbClr val="0000ff"/>
                </a:solidFill>
                <a:latin typeface="Times New Roman"/>
                <a:ea typeface="黑体"/>
              </a:rPr>
              <a:t>9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3419640" y="198900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11700" spc="-1" strike="noStrike">
                <a:solidFill>
                  <a:srgbClr val="000000"/>
                </a:solidFill>
                <a:latin typeface="黑体"/>
                <a:ea typeface="黑体"/>
              </a:rPr>
              <a:t>99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256536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’re grea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27640" y="2276640"/>
            <a:ext cx="1218960" cy="121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8000" y="1270080"/>
            <a:ext cx="5327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It’s 6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o’clock</a:t>
            </a: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924280"/>
            <a:ext cx="511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time: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clock: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o’clock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：表示整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-541440" y="0"/>
            <a:ext cx="53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Learn and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8920" y="1484280"/>
            <a:ext cx="53276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It’s …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o’clock</a:t>
            </a: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3789360"/>
            <a:ext cx="49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42920" y="3500280"/>
            <a:ext cx="7416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4:00    1:00       5:00       9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11:00   2:00      7:00      10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99"/>
                </a:solidFill>
                <a:latin typeface="Arial"/>
              </a:rPr>
              <a:t>3:00     6:00      8:00      12: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4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Ask and answer in pai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662120" cy="1844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8360" y="981000"/>
            <a:ext cx="61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Bookman Old Style"/>
              </a:rPr>
              <a:t>What time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1916280"/>
            <a:ext cx="865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6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6: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6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6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6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6: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6: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6: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6028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Can you say th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9280" y="1916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 o’c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242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 f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 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3500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six fift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47640" y="4581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six forty-f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4076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six thi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56610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six fifty-f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515772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Arial"/>
              </a:rPr>
              <a:t>It i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 six fif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35640" y="3068640"/>
            <a:ext cx="345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时间的表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依次读出</a:t>
            </a:r>
            <a:r>
              <a:rPr b="1" lang="zh-CN" sz="2800" spc="-1" strike="noStrike" u="sng">
                <a:solidFill>
                  <a:srgbClr val="990099"/>
                </a:solidFill>
                <a:uFillTx/>
                <a:latin typeface="隶书"/>
                <a:ea typeface="隶书"/>
              </a:rPr>
              <a:t>小时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，</a:t>
            </a:r>
            <a:r>
              <a:rPr b="1" lang="zh-CN" sz="2800" spc="-1" strike="noStrike" u="sng">
                <a:solidFill>
                  <a:srgbClr val="990099"/>
                </a:solidFill>
                <a:uFillTx/>
                <a:latin typeface="隶书"/>
                <a:ea typeface="隶书"/>
              </a:rPr>
              <a:t>分钟</a:t>
            </a:r>
            <a:r>
              <a:rPr b="1" lang="zh-CN" sz="2800" spc="-1" strike="noStrike">
                <a:solidFill>
                  <a:srgbClr val="990099"/>
                </a:solidFill>
                <a:latin typeface="隶书"/>
                <a:ea typeface="隶书"/>
              </a:rPr>
              <a:t>的数字即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afb2b4"/>
                </a:solidFill>
                <a:latin typeface="隶书"/>
                <a:ea typeface="隶书"/>
              </a:rPr>
              <a:t>请多多练习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403280" y="1341360"/>
            <a:ext cx="53276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It’s …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3141720"/>
            <a:ext cx="6551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5:00    5:15    6:20    7:25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8:10    9:30    9:35   10: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2:33    3:55    11:22  12: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2602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sk and answer in p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719840" y="0"/>
            <a:ext cx="12081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476280"/>
            <a:ext cx="6048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It’s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half past</a:t>
            </a: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 nin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4000" y="3789360"/>
            <a:ext cx="49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500280"/>
            <a:ext cx="8640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half:</a:t>
            </a:r>
            <a:r>
              <a:rPr b="1" i="1" lang="zh-CN" sz="4000" spc="-1" strike="noStrike">
                <a:solidFill>
                  <a:srgbClr val="5f5f5f"/>
                </a:solidFill>
                <a:latin typeface="Arial"/>
              </a:rPr>
              <a:t>一半</a:t>
            </a:r>
            <a:r>
              <a:rPr b="1" i="1" lang="en-US" sz="4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Arial"/>
              </a:rPr>
              <a:t>past:</a:t>
            </a:r>
            <a:r>
              <a:rPr b="1" i="1" lang="zh-CN" sz="4000" spc="-1" strike="noStrike">
                <a:solidFill>
                  <a:srgbClr val="5f5f5f"/>
                </a:solidFill>
                <a:latin typeface="Arial"/>
              </a:rPr>
              <a:t>超过</a:t>
            </a:r>
            <a:r>
              <a:rPr b="1" i="1" lang="en-US" sz="40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f5f5f"/>
                </a:solidFill>
                <a:latin typeface="Arial"/>
              </a:rPr>
              <a:t>half past …:</a:t>
            </a:r>
            <a:r>
              <a:rPr b="1" i="1" lang="zh-CN" sz="4000" spc="-1" strike="noStrike">
                <a:solidFill>
                  <a:srgbClr val="5f5f5f"/>
                </a:solidFill>
                <a:latin typeface="Arial"/>
              </a:rPr>
              <a:t>几点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80000" y="5527800"/>
            <a:ext cx="46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Learn and s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08000" y="1413000"/>
            <a:ext cx="60483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What tim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--It’s 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half past</a:t>
            </a:r>
            <a:r>
              <a:rPr b="1" lang="en-US" sz="4400" spc="-1" strike="noStrike">
                <a:solidFill>
                  <a:srgbClr val="5f5f5f"/>
                </a:solidFill>
                <a:latin typeface="黑体"/>
                <a:ea typeface="黑体"/>
              </a:rPr>
              <a:t> …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789360"/>
            <a:ext cx="49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3141720"/>
            <a:ext cx="7705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4:30    1:30       5:30       9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11:30   2:30      7:30      10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cc"/>
                </a:solidFill>
                <a:latin typeface="Arial"/>
              </a:rPr>
              <a:t>3:30     6:30      8:30      12: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8900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Arial"/>
              </a:rPr>
              <a:t>Ask and answer in pai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1:23:29Z</dcterms:created>
  <dc:creator/>
  <dc:description/>
  <dc:language>en-US</dc:language>
  <cp:lastModifiedBy/>
  <dcterms:modified xsi:type="dcterms:W3CDTF">2015-06-22T01:12:16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