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360" y="105120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2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5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5" name="图片 10" descr="16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图片 11" descr="17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图片 12" descr="18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图片 13" descr="19.png"/>
            <p:cNvPicPr/>
            <p:nvPr/>
          </p:nvPicPr>
          <p:blipFill>
            <a:blip r:embed="rId7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6c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" descr="图片2.png"/>
          <p:cNvPicPr/>
          <p:nvPr/>
        </p:nvPicPr>
        <p:blipFill>
          <a:blip r:embed="rId2">
            <a:lum bright="70000" contrast="-70000"/>
          </a:blip>
          <a:srcRect l="0" t="0" r="0" b="1044"/>
          <a:stretch/>
        </p:blipFill>
        <p:spPr>
          <a:xfrm>
            <a:off x="1657440" y="0"/>
            <a:ext cx="53910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"/>
          <p:cNvGrpSpPr/>
          <p:nvPr/>
        </p:nvGrpSpPr>
        <p:grpSpPr>
          <a:xfrm>
            <a:off x="244440" y="1006560"/>
            <a:ext cx="8655120" cy="5607000"/>
            <a:chOff x="244440" y="1006560"/>
            <a:chExt cx="8655120" cy="5607000"/>
          </a:xfrm>
        </p:grpSpPr>
        <p:pic>
          <p:nvPicPr>
            <p:cNvPr id="49" name="圆角矩形 8" descr=""/>
            <p:cNvPicPr/>
            <p:nvPr/>
          </p:nvPicPr>
          <p:blipFill>
            <a:blip r:embed="rId3"/>
            <a:stretch/>
          </p:blipFill>
          <p:spPr>
            <a:xfrm>
              <a:off x="244440" y="1006560"/>
              <a:ext cx="8655120" cy="56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5"/>
            <p:cNvSpPr/>
            <p:nvPr/>
          </p:nvSpPr>
          <p:spPr>
            <a:xfrm>
              <a:off x="411120" y="1171800"/>
              <a:ext cx="8321760" cy="52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zcool.com.cn/pic/coolphoto/new_coolphoto2/jpg/051_1600x1200_zcool.com.cn.jpg"/>
          <p:cNvPicPr/>
          <p:nvPr/>
        </p:nvPicPr>
        <p:blipFill>
          <a:blip r:embed="rId4"/>
          <a:srcRect l="19510" t="0" r="18001" b="0"/>
          <a:stretch/>
        </p:blipFill>
        <p:spPr>
          <a:xfrm>
            <a:off x="6588000" y="4726080"/>
            <a:ext cx="1865520" cy="18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侧圆角矩形 4"/>
          <p:cNvSpPr/>
          <p:nvPr/>
        </p:nvSpPr>
        <p:spPr>
          <a:xfrm>
            <a:off x="249120" y="285840"/>
            <a:ext cx="8645760" cy="6143400"/>
          </a:xfrm>
          <a:custGeom>
            <a:avLst/>
            <a:gdLst>
              <a:gd name="textAreaLeft" fmla="*/ 115560 w 8645760"/>
              <a:gd name="textAreaRight" fmla="*/ 8530200 w 8645760"/>
              <a:gd name="textAreaTop" fmla="*/ 115560 h 6143400"/>
              <a:gd name="textAreaBottom" fmla="*/ 6143760 h 6143400"/>
            </a:gdLst>
            <a:ahLst/>
            <a:rect l="textAreaLeft" t="textAreaTop" r="textAreaRight" b="textAreaBottom"/>
            <a:pathLst>
              <a:path w="8643998" h="6143668">
                <a:moveTo>
                  <a:pt x="395345" y="0"/>
                </a:moveTo>
                <a:lnTo>
                  <a:pt x="8248653" y="0"/>
                </a:lnTo>
                <a:cubicBezTo>
                  <a:pt x="8466996" y="0"/>
                  <a:pt x="8643998" y="177001"/>
                  <a:pt x="8643998" y="395345"/>
                </a:cubicBezTo>
                <a:cubicBezTo>
                  <a:pt x="8643998" y="395345"/>
                  <a:pt x="8643997" y="395345"/>
                  <a:pt x="8643997" y="395346"/>
                </a:cubicBezTo>
                <a:lnTo>
                  <a:pt x="8643998" y="6143668"/>
                </a:lnTo>
                <a:lnTo>
                  <a:pt x="0" y="6143668"/>
                </a:lnTo>
                <a:lnTo>
                  <a:pt x="0" y="395345"/>
                </a:lnTo>
                <a:cubicBezTo>
                  <a:pt x="0" y="177001"/>
                  <a:pt x="177001" y="0"/>
                  <a:pt x="395345" y="0"/>
                </a:cubicBezTo>
                <a:cubicBezTo>
                  <a:pt x="395345" y="0"/>
                  <a:pt x="395345" y="0"/>
                  <a:pt x="395345" y="0"/>
                </a:cubicBezTo>
                <a:close/>
              </a:path>
            </a:pathLst>
          </a:custGeom>
          <a:solidFill>
            <a:srgbClr val="056c6f"/>
          </a:solidFill>
          <a:ln w="0">
            <a:noFill/>
          </a:ln>
          <a:effectLst>
            <a:outerShdw dist="38160" dir="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图片2.png"/>
          <p:cNvPicPr/>
          <p:nvPr/>
        </p:nvPicPr>
        <p:blipFill>
          <a:blip r:embed="rId2"/>
          <a:srcRect l="0" t="0" r="0" b="1044"/>
          <a:stretch/>
        </p:blipFill>
        <p:spPr>
          <a:xfrm>
            <a:off x="34920" y="3284640"/>
            <a:ext cx="9086760" cy="359568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4"/>
          <p:cNvGrpSpPr/>
          <p:nvPr/>
        </p:nvGrpSpPr>
        <p:grpSpPr>
          <a:xfrm>
            <a:off x="6667560" y="5626080"/>
            <a:ext cx="1947960" cy="774720"/>
            <a:chOff x="6667560" y="5626080"/>
            <a:chExt cx="1947960" cy="774720"/>
          </a:xfrm>
        </p:grpSpPr>
        <p:pic>
          <p:nvPicPr>
            <p:cNvPr id="93" name="图片 10" descr="16.png"/>
            <p:cNvPicPr/>
            <p:nvPr/>
          </p:nvPicPr>
          <p:blipFill>
            <a:blip r:embed="rId3">
              <a:lum bright="16000"/>
            </a:blip>
            <a:stretch/>
          </p:blipFill>
          <p:spPr>
            <a:xfrm>
              <a:off x="7239600" y="5626080"/>
              <a:ext cx="70596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图片 11" descr="17.png"/>
            <p:cNvPicPr/>
            <p:nvPr/>
          </p:nvPicPr>
          <p:blipFill>
            <a:blip r:embed="rId4">
              <a:lum bright="16000"/>
            </a:blip>
            <a:stretch/>
          </p:blipFill>
          <p:spPr>
            <a:xfrm>
              <a:off x="8089200" y="5626080"/>
              <a:ext cx="5263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12" descr="18.png"/>
            <p:cNvPicPr/>
            <p:nvPr/>
          </p:nvPicPr>
          <p:blipFill>
            <a:blip r:embed="rId5">
              <a:lum bright="16000"/>
            </a:blip>
            <a:stretch/>
          </p:blipFill>
          <p:spPr>
            <a:xfrm>
              <a:off x="6667560" y="5964480"/>
              <a:ext cx="5986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13" descr="19.png"/>
            <p:cNvPicPr/>
            <p:nvPr/>
          </p:nvPicPr>
          <p:blipFill>
            <a:blip r:embed="rId6">
              <a:lum bright="16000"/>
            </a:blip>
            <a:stretch/>
          </p:blipFill>
          <p:spPr>
            <a:xfrm>
              <a:off x="7365960" y="6105240"/>
              <a:ext cx="58788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Rectangle 1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9AE4-F164-4592-9F51-4B194926331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4"/>
          <p:cNvGrpSpPr/>
          <p:nvPr/>
        </p:nvGrpSpPr>
        <p:grpSpPr>
          <a:xfrm>
            <a:off x="468360" y="461880"/>
            <a:ext cx="8292960" cy="3336840"/>
            <a:chOff x="468360" y="461880"/>
            <a:chExt cx="8292960" cy="3336840"/>
          </a:xfrm>
        </p:grpSpPr>
        <p:pic>
          <p:nvPicPr>
            <p:cNvPr id="101" name="椭圆 16" descr=""/>
            <p:cNvPicPr/>
            <p:nvPr/>
          </p:nvPicPr>
          <p:blipFill>
            <a:blip r:embed="rId7"/>
            <a:stretch/>
          </p:blipFill>
          <p:spPr>
            <a:xfrm>
              <a:off x="468360" y="461880"/>
              <a:ext cx="34128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/>
            <p:cNvSpPr/>
            <p:nvPr/>
          </p:nvSpPr>
          <p:spPr>
            <a:xfrm>
              <a:off x="520200" y="516960"/>
              <a:ext cx="2347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椭圆 17" descr=""/>
            <p:cNvPicPr/>
            <p:nvPr/>
          </p:nvPicPr>
          <p:blipFill>
            <a:blip r:embed="rId8"/>
            <a:stretch/>
          </p:blipFill>
          <p:spPr>
            <a:xfrm>
              <a:off x="8332560" y="461880"/>
              <a:ext cx="340200" cy="3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8"/>
            <p:cNvSpPr/>
            <p:nvPr/>
          </p:nvSpPr>
          <p:spPr>
            <a:xfrm>
              <a:off x="8389080" y="516960"/>
              <a:ext cx="23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图片 6" descr="16.png"/>
            <p:cNvPicPr/>
            <p:nvPr/>
          </p:nvPicPr>
          <p:blipFill>
            <a:blip r:embed="rId9">
              <a:lum bright="16000"/>
            </a:blip>
            <a:stretch/>
          </p:blipFill>
          <p:spPr>
            <a:xfrm>
              <a:off x="7247880" y="2946240"/>
              <a:ext cx="775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7" descr="17.png"/>
            <p:cNvPicPr/>
            <p:nvPr/>
          </p:nvPicPr>
          <p:blipFill>
            <a:blip r:embed="rId10">
              <a:lum bright="16000"/>
            </a:blip>
            <a:stretch/>
          </p:blipFill>
          <p:spPr>
            <a:xfrm>
              <a:off x="8183520" y="2946240"/>
              <a:ext cx="5778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8" descr="18.png"/>
            <p:cNvPicPr/>
            <p:nvPr/>
          </p:nvPicPr>
          <p:blipFill>
            <a:blip r:embed="rId11">
              <a:lum bright="16000"/>
            </a:blip>
            <a:stretch/>
          </p:blipFill>
          <p:spPr>
            <a:xfrm>
              <a:off x="6618600" y="3318480"/>
              <a:ext cx="65772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9" descr="19.png"/>
            <p:cNvPicPr/>
            <p:nvPr/>
          </p:nvPicPr>
          <p:blipFill>
            <a:blip r:embed="rId12">
              <a:lum bright="16000"/>
            </a:blip>
            <a:stretch/>
          </p:blipFill>
          <p:spPr>
            <a:xfrm>
              <a:off x="7387200" y="3473640"/>
              <a:ext cx="646200" cy="32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12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" Target="slide5.xml"/><Relationship Id="rId11" Type="http://schemas.openxmlformats.org/officeDocument/2006/relationships/image" Target="../media/image22.png"/><Relationship Id="rId12" Type="http://schemas.openxmlformats.org/officeDocument/2006/relationships/slide" Target="slide5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2.png"/><Relationship Id="rId11" Type="http://schemas.openxmlformats.org/officeDocument/2006/relationships/slide" Target="slide5.xml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.xml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" Target="slide5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138492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真广标"/>
              </a:rPr>
              <a:t>UNIT SIX WHICH SEASON DO YOU LIKE Lesson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课件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~YV4}TJU9FB${DB`ZV7R7ZA"/>
          <p:cNvPicPr/>
          <p:nvPr/>
        </p:nvPicPr>
        <p:blipFill>
          <a:blip r:embed="rId1"/>
          <a:stretch/>
        </p:blipFill>
        <p:spPr>
          <a:xfrm>
            <a:off x="324000" y="126828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I5Q`LA97@(CGGXG@5D`NLVU"/>
          <p:cNvPicPr/>
          <p:nvPr/>
        </p:nvPicPr>
        <p:blipFill>
          <a:blip r:embed="rId2"/>
          <a:stretch/>
        </p:blipFill>
        <p:spPr>
          <a:xfrm>
            <a:off x="468360" y="2565360"/>
            <a:ext cx="993600" cy="100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8YFJZ0EY$B]X2EC}8N~RCVD"/>
          <p:cNvPicPr/>
          <p:nvPr/>
        </p:nvPicPr>
        <p:blipFill>
          <a:blip r:embed="rId3"/>
          <a:stretch/>
        </p:blipFill>
        <p:spPr>
          <a:xfrm>
            <a:off x="468360" y="3933720"/>
            <a:ext cx="1082520" cy="108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D3F43$RI])@L83DBJ`HA6B"/>
          <p:cNvPicPr/>
          <p:nvPr/>
        </p:nvPicPr>
        <p:blipFill>
          <a:blip r:embed="rId4"/>
          <a:stretch/>
        </p:blipFill>
        <p:spPr>
          <a:xfrm>
            <a:off x="468360" y="5373720"/>
            <a:ext cx="1133280" cy="100656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6"/>
          <p:cNvSpPr/>
          <p:nvPr/>
        </p:nvSpPr>
        <p:spPr>
          <a:xfrm>
            <a:off x="1763640" y="148428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1692360" y="573408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1692360" y="299736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1619280" y="422100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3966120" y="2637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3966120" y="5084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3966120" y="3860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13"/>
          <p:cNvGrpSpPr/>
          <p:nvPr/>
        </p:nvGrpSpPr>
        <p:grpSpPr>
          <a:xfrm>
            <a:off x="3635280" y="981000"/>
            <a:ext cx="5257080" cy="1584360"/>
            <a:chOff x="3635280" y="981000"/>
            <a:chExt cx="5257080" cy="1584360"/>
          </a:xfrm>
        </p:grpSpPr>
        <p:pic>
          <p:nvPicPr>
            <p:cNvPr id="251" name="Picture 14" descr="013"/>
            <p:cNvPicPr/>
            <p:nvPr/>
          </p:nvPicPr>
          <p:blipFill>
            <a:blip r:embed="rId5"/>
            <a:srcRect l="36773" t="4639" r="32042" b="3387"/>
            <a:stretch/>
          </p:blipFill>
          <p:spPr>
            <a:xfrm>
              <a:off x="3635280" y="981000"/>
              <a:ext cx="1347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5"/>
            <p:cNvSpPr/>
            <p:nvPr/>
          </p:nvSpPr>
          <p:spPr>
            <a:xfrm>
              <a:off x="5252400" y="1197000"/>
              <a:ext cx="363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fly my ki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WordArt 16" descr=""/>
          <p:cNvPicPr/>
          <p:nvPr/>
        </p:nvPicPr>
        <p:blipFill>
          <a:blip r:embed="rId6"/>
          <a:stretch/>
        </p:blipFill>
        <p:spPr>
          <a:xfrm>
            <a:off x="371520" y="249120"/>
            <a:ext cx="4859280" cy="695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7" descr="012"/>
          <p:cNvPicPr/>
          <p:nvPr/>
        </p:nvPicPr>
        <p:blipFill>
          <a:blip r:embed="rId7"/>
          <a:srcRect l="64170" t="17249" r="3689" b="41168"/>
          <a:stretch/>
        </p:blipFill>
        <p:spPr>
          <a:xfrm>
            <a:off x="1835280" y="2060640"/>
            <a:ext cx="865080" cy="9968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8" descr="05"/>
          <p:cNvPicPr/>
          <p:nvPr/>
        </p:nvPicPr>
        <p:blipFill>
          <a:blip r:embed="rId8"/>
          <a:srcRect l="54709" t="42420" r="29229" b="37445"/>
          <a:stretch/>
        </p:blipFill>
        <p:spPr>
          <a:xfrm>
            <a:off x="1763640" y="4869000"/>
            <a:ext cx="7192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9"/>
          <p:cNvGrpSpPr/>
          <p:nvPr/>
        </p:nvGrpSpPr>
        <p:grpSpPr>
          <a:xfrm>
            <a:off x="3419640" y="2708280"/>
            <a:ext cx="5477400" cy="1079640"/>
            <a:chOff x="3419640" y="2708280"/>
            <a:chExt cx="5477400" cy="1079640"/>
          </a:xfrm>
        </p:grpSpPr>
        <p:pic>
          <p:nvPicPr>
            <p:cNvPr id="257" name="Picture 20" descr="游泳"/>
            <p:cNvPicPr/>
            <p:nvPr/>
          </p:nvPicPr>
          <p:blipFill>
            <a:blip r:embed="rId9"/>
            <a:srcRect l="44478" t="31545" r="32673" b="46156"/>
            <a:stretch/>
          </p:blipFill>
          <p:spPr>
            <a:xfrm>
              <a:off x="3419640" y="2708280"/>
              <a:ext cx="1584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21">
              <a:hlinkClick r:id="rId10" action="ppaction://hlinksldjump"/>
            </p:cNvPr>
            <p:cNvSpPr/>
            <p:nvPr/>
          </p:nvSpPr>
          <p:spPr>
            <a:xfrm>
              <a:off x="5634720" y="2708280"/>
              <a:ext cx="3262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go swimm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22"/>
          <p:cNvGrpSpPr/>
          <p:nvPr/>
        </p:nvGrpSpPr>
        <p:grpSpPr>
          <a:xfrm>
            <a:off x="3419640" y="5373720"/>
            <a:ext cx="4771800" cy="1152360"/>
            <a:chOff x="3419640" y="5373720"/>
            <a:chExt cx="4771800" cy="1152360"/>
          </a:xfrm>
        </p:grpSpPr>
        <p:pic>
          <p:nvPicPr>
            <p:cNvPr id="260" name="Picture 23" descr="滑冰"/>
            <p:cNvPicPr/>
            <p:nvPr/>
          </p:nvPicPr>
          <p:blipFill>
            <a:blip r:embed="rId11"/>
            <a:srcRect l="32673" t="19530" r="31894" b="25176"/>
            <a:stretch/>
          </p:blipFill>
          <p:spPr>
            <a:xfrm>
              <a:off x="3419640" y="5373720"/>
              <a:ext cx="1655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24">
              <a:hlinkClick r:id="rId12" action="ppaction://hlinksldjump"/>
            </p:cNvPr>
            <p:cNvSpPr/>
            <p:nvPr/>
          </p:nvSpPr>
          <p:spPr>
            <a:xfrm>
              <a:off x="5659200" y="5446800"/>
              <a:ext cx="253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go skat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019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715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324000" y="5661000"/>
            <a:ext cx="42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I often       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217760" y="566100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/I often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go skat</a:t>
            </a: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2219760" y="566100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sk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~YV4}TJU9FB${DB`ZV7R7ZA"/>
          <p:cNvPicPr/>
          <p:nvPr/>
        </p:nvPicPr>
        <p:blipFill>
          <a:blip r:embed="rId1"/>
          <a:stretch/>
        </p:blipFill>
        <p:spPr>
          <a:xfrm>
            <a:off x="324000" y="126828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I5Q`LA97@(CGGXG@5D`NLVU"/>
          <p:cNvPicPr/>
          <p:nvPr/>
        </p:nvPicPr>
        <p:blipFill>
          <a:blip r:embed="rId2"/>
          <a:stretch/>
        </p:blipFill>
        <p:spPr>
          <a:xfrm>
            <a:off x="468360" y="2565360"/>
            <a:ext cx="993600" cy="100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8YFJZ0EY$B]X2EC}8N~RCVD"/>
          <p:cNvPicPr/>
          <p:nvPr/>
        </p:nvPicPr>
        <p:blipFill>
          <a:blip r:embed="rId3"/>
          <a:stretch/>
        </p:blipFill>
        <p:spPr>
          <a:xfrm>
            <a:off x="468360" y="3933720"/>
            <a:ext cx="1082520" cy="1082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CD3F43$RI])@L83DBJ`HA6B"/>
          <p:cNvPicPr/>
          <p:nvPr/>
        </p:nvPicPr>
        <p:blipFill>
          <a:blip r:embed="rId4"/>
          <a:stretch/>
        </p:blipFill>
        <p:spPr>
          <a:xfrm>
            <a:off x="468360" y="5373720"/>
            <a:ext cx="1133280" cy="100656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6"/>
          <p:cNvSpPr/>
          <p:nvPr/>
        </p:nvSpPr>
        <p:spPr>
          <a:xfrm>
            <a:off x="1763640" y="148428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692360" y="573408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1692360" y="299736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1619280" y="422100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3966120" y="2637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3966120" y="5084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3966120" y="3860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3"/>
          <p:cNvGrpSpPr/>
          <p:nvPr/>
        </p:nvGrpSpPr>
        <p:grpSpPr>
          <a:xfrm>
            <a:off x="3635280" y="981000"/>
            <a:ext cx="5257080" cy="1584360"/>
            <a:chOff x="3635280" y="981000"/>
            <a:chExt cx="5257080" cy="1584360"/>
          </a:xfrm>
        </p:grpSpPr>
        <p:pic>
          <p:nvPicPr>
            <p:cNvPr id="278" name="Picture 14" descr="013"/>
            <p:cNvPicPr/>
            <p:nvPr/>
          </p:nvPicPr>
          <p:blipFill>
            <a:blip r:embed="rId5"/>
            <a:srcRect l="36773" t="4639" r="32042" b="3387"/>
            <a:stretch/>
          </p:blipFill>
          <p:spPr>
            <a:xfrm>
              <a:off x="3635280" y="981000"/>
              <a:ext cx="1347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15"/>
            <p:cNvSpPr/>
            <p:nvPr/>
          </p:nvSpPr>
          <p:spPr>
            <a:xfrm>
              <a:off x="5252400" y="1197000"/>
              <a:ext cx="363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fly my ki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WordArt 16" descr=""/>
          <p:cNvPicPr/>
          <p:nvPr/>
        </p:nvPicPr>
        <p:blipFill>
          <a:blip r:embed="rId6"/>
          <a:stretch/>
        </p:blipFill>
        <p:spPr>
          <a:xfrm>
            <a:off x="371520" y="249120"/>
            <a:ext cx="4859280" cy="695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7" descr="012"/>
          <p:cNvPicPr/>
          <p:nvPr/>
        </p:nvPicPr>
        <p:blipFill>
          <a:blip r:embed="rId7"/>
          <a:srcRect l="64170" t="17249" r="3689" b="41168"/>
          <a:stretch/>
        </p:blipFill>
        <p:spPr>
          <a:xfrm>
            <a:off x="1835280" y="2060640"/>
            <a:ext cx="865080" cy="996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8" descr="05"/>
          <p:cNvPicPr/>
          <p:nvPr/>
        </p:nvPicPr>
        <p:blipFill>
          <a:blip r:embed="rId8"/>
          <a:srcRect l="54709" t="42420" r="29229" b="37445"/>
          <a:stretch/>
        </p:blipFill>
        <p:spPr>
          <a:xfrm>
            <a:off x="1763640" y="4869000"/>
            <a:ext cx="7192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19"/>
          <p:cNvGrpSpPr/>
          <p:nvPr/>
        </p:nvGrpSpPr>
        <p:grpSpPr>
          <a:xfrm>
            <a:off x="3419640" y="2708280"/>
            <a:ext cx="5477400" cy="1079640"/>
            <a:chOff x="3419640" y="2708280"/>
            <a:chExt cx="5477400" cy="1079640"/>
          </a:xfrm>
        </p:grpSpPr>
        <p:pic>
          <p:nvPicPr>
            <p:cNvPr id="284" name="Picture 20" descr="游泳"/>
            <p:cNvPicPr/>
            <p:nvPr/>
          </p:nvPicPr>
          <p:blipFill>
            <a:blip r:embed="rId9"/>
            <a:srcRect l="44478" t="31545" r="32673" b="46156"/>
            <a:stretch/>
          </p:blipFill>
          <p:spPr>
            <a:xfrm>
              <a:off x="3419640" y="2708280"/>
              <a:ext cx="1584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1"/>
            <p:cNvSpPr/>
            <p:nvPr/>
          </p:nvSpPr>
          <p:spPr>
            <a:xfrm>
              <a:off x="5634720" y="2708280"/>
              <a:ext cx="3262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go swimm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2"/>
          <p:cNvGrpSpPr/>
          <p:nvPr/>
        </p:nvGrpSpPr>
        <p:grpSpPr>
          <a:xfrm>
            <a:off x="3419640" y="5373720"/>
            <a:ext cx="4771800" cy="1152360"/>
            <a:chOff x="3419640" y="5373720"/>
            <a:chExt cx="4771800" cy="1152360"/>
          </a:xfrm>
        </p:grpSpPr>
        <p:pic>
          <p:nvPicPr>
            <p:cNvPr id="287" name="Picture 23" descr="滑冰"/>
            <p:cNvPicPr/>
            <p:nvPr/>
          </p:nvPicPr>
          <p:blipFill>
            <a:blip r:embed="rId10"/>
            <a:srcRect l="32673" t="19530" r="31894" b="25176"/>
            <a:stretch/>
          </p:blipFill>
          <p:spPr>
            <a:xfrm>
              <a:off x="3419640" y="5373720"/>
              <a:ext cx="1655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24">
              <a:hlinkClick r:id="rId11" action="ppaction://hlinksldjump"/>
            </p:cNvPr>
            <p:cNvSpPr/>
            <p:nvPr/>
          </p:nvSpPr>
          <p:spPr>
            <a:xfrm>
              <a:off x="5659200" y="5446800"/>
              <a:ext cx="2532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go skat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5"/>
          <p:cNvGrpSpPr/>
          <p:nvPr/>
        </p:nvGrpSpPr>
        <p:grpSpPr>
          <a:xfrm>
            <a:off x="3419640" y="3860640"/>
            <a:ext cx="5307120" cy="1295280"/>
            <a:chOff x="3419640" y="3860640"/>
            <a:chExt cx="5307120" cy="1295280"/>
          </a:xfrm>
        </p:grpSpPr>
        <p:pic>
          <p:nvPicPr>
            <p:cNvPr id="290" name="Picture 26" descr="022"/>
            <p:cNvPicPr/>
            <p:nvPr/>
          </p:nvPicPr>
          <p:blipFill>
            <a:blip r:embed="rId12"/>
            <a:srcRect l="29443" t="15428" r="30015" b="12600"/>
            <a:stretch/>
          </p:blipFill>
          <p:spPr>
            <a:xfrm>
              <a:off x="3419640" y="3860640"/>
              <a:ext cx="16552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27"/>
            <p:cNvSpPr/>
            <p:nvPr/>
          </p:nvSpPr>
          <p:spPr>
            <a:xfrm>
              <a:off x="5619960" y="4076640"/>
              <a:ext cx="3106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cc"/>
                  </a:solidFill>
                  <a:latin typeface="Calibri"/>
                </a:rPr>
                <a:t>play footbal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Do you like win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Yes, I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No, I don't. or No, I don't like win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Do you lik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肯定回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900000" y="2708280"/>
            <a:ext cx="208764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es,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office6\wpsassist\cache\A000320150525A79PPIC"/>
          <p:cNvPicPr/>
          <p:nvPr/>
        </p:nvPicPr>
        <p:blipFill>
          <a:blip r:embed="rId1"/>
          <a:stretch/>
        </p:blipFill>
        <p:spPr>
          <a:xfrm>
            <a:off x="5508720" y="2492280"/>
            <a:ext cx="1914480" cy="1847880"/>
          </a:xfrm>
          <a:prstGeom prst="rect">
            <a:avLst/>
          </a:prstGeom>
          <a:ln w="0">
            <a:noFill/>
          </a:ln>
        </p:spPr>
      </p:pic>
      <p:sp>
        <p:nvSpPr>
          <p:cNvPr id="298" name="WordArt 6"/>
          <p:cNvSpPr txBox="1"/>
          <p:nvPr/>
        </p:nvSpPr>
        <p:spPr>
          <a:xfrm>
            <a:off x="3886200" y="3168720"/>
            <a:ext cx="1371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spring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Do you lik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否定回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900000" y="2708280"/>
            <a:ext cx="2087640" cy="1152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, I do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office6\wpsassist\cache\A000320150525A79PPIC"/>
          <p:cNvPicPr/>
          <p:nvPr/>
        </p:nvPicPr>
        <p:blipFill>
          <a:blip r:embed="rId1"/>
          <a:stretch/>
        </p:blipFill>
        <p:spPr>
          <a:xfrm>
            <a:off x="5508720" y="2492280"/>
            <a:ext cx="1914480" cy="1847880"/>
          </a:xfrm>
          <a:prstGeom prst="rect">
            <a:avLst/>
          </a:prstGeom>
          <a:ln w="0">
            <a:noFill/>
          </a:ln>
        </p:spPr>
      </p:pic>
      <p:sp>
        <p:nvSpPr>
          <p:cNvPr id="303" name="WordArt 6"/>
          <p:cNvSpPr txBox="1"/>
          <p:nvPr/>
        </p:nvSpPr>
        <p:spPr>
          <a:xfrm>
            <a:off x="3886200" y="3168720"/>
            <a:ext cx="13716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spring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pic_167599"/>
          <p:cNvPicPr/>
          <p:nvPr/>
        </p:nvPicPr>
        <p:blipFill>
          <a:blip r:embed="rId1"/>
          <a:srcRect l="6071" t="4109" r="6189" b="27536"/>
          <a:stretch/>
        </p:blipFill>
        <p:spPr>
          <a:xfrm>
            <a:off x="2124000" y="549360"/>
            <a:ext cx="3711600" cy="4032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3"/>
          <p:cNvSpPr/>
          <p:nvPr/>
        </p:nvSpPr>
        <p:spPr>
          <a:xfrm>
            <a:off x="755640" y="4437000"/>
            <a:ext cx="813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_______ best. It’s ______. Everywhere is ______. I can ____________ in spr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2268360" y="4397400"/>
            <a:ext cx="18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6877080" y="4437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w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4572000" y="5084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1825560" y="59436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fly  a k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pic_167601"/>
          <p:cNvPicPr/>
          <p:nvPr/>
        </p:nvPicPr>
        <p:blipFill>
          <a:blip r:embed="rId1"/>
          <a:srcRect l="6071" t="2055" r="6260" b="27536"/>
          <a:stretch/>
        </p:blipFill>
        <p:spPr>
          <a:xfrm>
            <a:off x="2268360" y="434880"/>
            <a:ext cx="3597480" cy="40752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395280" y="465444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_______best. It’s very ____. But I can ______ in summer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762200" y="465444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sum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7451640" y="46832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h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2928960" y="542448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pic_167603"/>
          <p:cNvPicPr/>
          <p:nvPr/>
        </p:nvPicPr>
        <p:blipFill>
          <a:blip r:embed="rId1"/>
          <a:srcRect l="3000" t="2055" r="9261" b="27536"/>
          <a:stretch/>
        </p:blipFill>
        <p:spPr>
          <a:xfrm>
            <a:off x="2556000" y="460440"/>
            <a:ext cx="3330360" cy="36162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395280" y="407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______ best. The weather is ______. I can _________ and _____________ with my frie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547640" y="4005360"/>
            <a:ext cx="223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autu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12720" y="465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c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564000" y="4726080"/>
            <a:ext cx="346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pick ap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12720" y="5373720"/>
            <a:ext cx="36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go  clim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pic_167605"/>
          <p:cNvPicPr/>
          <p:nvPr/>
        </p:nvPicPr>
        <p:blipFill>
          <a:blip r:embed="rId1"/>
          <a:srcRect l="9072" t="1375" r="6260" b="24074"/>
          <a:stretch/>
        </p:blipFill>
        <p:spPr>
          <a:xfrm>
            <a:off x="2556000" y="476280"/>
            <a:ext cx="3311280" cy="38894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826920" y="4365720"/>
            <a:ext cx="79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______ best. ________ I can ______ and ______a snowman. But it’s very _____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340000" y="43228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wi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5003640" y="429264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Be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828720" y="494172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sk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3708360" y="50864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3708360" y="56610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alibri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>
            <a:hlinkClick r:id="rId2" action="ppaction://hlinksldjump"/>
          </p:cNvPr>
          <p:cNvSpPr/>
          <p:nvPr/>
        </p:nvSpPr>
        <p:spPr>
          <a:xfrm>
            <a:off x="7812000" y="333360"/>
            <a:ext cx="576360" cy="293760"/>
          </a:xfrm>
          <a:prstGeom prst="smileyFace">
            <a:avLst>
              <a:gd name="adj" fmla="val 928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关系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207"/>
          <p:cNvSpPr/>
          <p:nvPr/>
        </p:nvSpPr>
        <p:spPr>
          <a:xfrm>
            <a:off x="611280" y="25160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2104920" y="2154240"/>
            <a:ext cx="4751640" cy="719280"/>
            <a:chOff x="2104920" y="2154240"/>
            <a:chExt cx="4751640" cy="719280"/>
          </a:xfrm>
        </p:grpSpPr>
        <p:sp>
          <p:nvSpPr>
            <p:cNvPr id="152" name="AutoShape 3"/>
            <p:cNvSpPr/>
            <p:nvPr/>
          </p:nvSpPr>
          <p:spPr>
            <a:xfrm>
              <a:off x="2104920" y="2154240"/>
              <a:ext cx="4751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"/>
            <p:cNvSpPr/>
            <p:nvPr/>
          </p:nvSpPr>
          <p:spPr>
            <a:xfrm>
              <a:off x="2104920" y="2243520"/>
              <a:ext cx="4751640" cy="54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c0093"/>
                </a:gs>
                <a:gs pos="100000">
                  <a:srgbClr val="ff61e8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3"/>
          <p:cNvSpPr/>
          <p:nvPr/>
        </p:nvSpPr>
        <p:spPr>
          <a:xfrm>
            <a:off x="4147920" y="23144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3276720" y="3213000"/>
            <a:ext cx="2303280" cy="3130200"/>
            <a:chOff x="3276720" y="3213000"/>
            <a:chExt cx="2303280" cy="3130200"/>
          </a:xfrm>
        </p:grpSpPr>
        <p:grpSp>
          <p:nvGrpSpPr>
            <p:cNvPr id="156" name="Group 9"/>
            <p:cNvGrpSpPr/>
            <p:nvPr/>
          </p:nvGrpSpPr>
          <p:grpSpPr>
            <a:xfrm>
              <a:off x="3276720" y="3213000"/>
              <a:ext cx="2303280" cy="720360"/>
              <a:chOff x="3276720" y="3213000"/>
              <a:chExt cx="2303280" cy="720360"/>
            </a:xfrm>
          </p:grpSpPr>
          <p:sp>
            <p:nvSpPr>
              <p:cNvPr id="157" name="AutoShape 3"/>
              <p:cNvSpPr/>
              <p:nvPr/>
            </p:nvSpPr>
            <p:spPr>
              <a:xfrm>
                <a:off x="3276720" y="3213000"/>
                <a:ext cx="2303280" cy="720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3"/>
              <p:cNvSpPr/>
              <p:nvPr/>
            </p:nvSpPr>
            <p:spPr>
              <a:xfrm>
                <a:off x="3276720" y="3303000"/>
                <a:ext cx="2303280" cy="540360"/>
              </a:xfrm>
              <a:prstGeom prst="roundRect">
                <a:avLst>
                  <a:gd name="adj" fmla="val 16667"/>
                </a:avLst>
              </a:prstGeom>
              <a:solidFill>
                <a:srgbClr val="777777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ff"/>
                    </a:solidFill>
                    <a:latin typeface="Calibri"/>
                    <a:ea typeface="微软雅黑"/>
                  </a:rPr>
                  <a:t>形容词，凉爽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12"/>
            <p:cNvGrpSpPr/>
            <p:nvPr/>
          </p:nvGrpSpPr>
          <p:grpSpPr>
            <a:xfrm>
              <a:off x="3348360" y="4005000"/>
              <a:ext cx="2191680" cy="2338200"/>
              <a:chOff x="3348360" y="4005000"/>
              <a:chExt cx="2191680" cy="2338200"/>
            </a:xfrm>
          </p:grpSpPr>
          <p:sp>
            <p:nvSpPr>
              <p:cNvPr id="160" name="AutoShape 196"/>
              <p:cNvSpPr/>
              <p:nvPr/>
            </p:nvSpPr>
            <p:spPr>
              <a:xfrm>
                <a:off x="3420720" y="4149000"/>
                <a:ext cx="2119320" cy="2194200"/>
              </a:xfrm>
              <a:custGeom>
                <a:avLst/>
                <a:gdLst>
                  <a:gd name="textAreaLeft" fmla="*/ 23040 w 2119320"/>
                  <a:gd name="textAreaRight" fmla="*/ 2096280 w 2119320"/>
                  <a:gd name="textAreaTop" fmla="*/ 23040 h 2194200"/>
                  <a:gd name="textAreaBottom" fmla="*/ 2171160 h 2194200"/>
                </a:gdLst>
                <a:ahLst/>
                <a:rect l="textAreaLeft" t="textAreaTop" r="textAreaRight" b="textAreaBottom"/>
                <a:pathLst>
                  <a:path w="21600" h="22363">
                    <a:moveTo>
                      <a:pt x="805" y="0"/>
                    </a:moveTo>
                    <a:arcTo wR="805" hR="805" stAng="16200000" swAng="-5400000"/>
                    <a:lnTo>
                      <a:pt x="0" y="21558"/>
                    </a:lnTo>
                    <a:arcTo wR="805" hR="805" stAng="10800000" swAng="-5400000"/>
                    <a:lnTo>
                      <a:pt x="20795" y="22363"/>
                    </a:lnTo>
                    <a:arcTo wR="805" hR="805" stAng="5400000" swAng="-5400000"/>
                    <a:lnTo>
                      <a:pt x="21600" y="805"/>
                    </a:lnTo>
                    <a:arcTo wR="805" hR="805" stAng="0" swAng="-5400000"/>
                    <a:close/>
                  </a:path>
                </a:pathLst>
              </a:cu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228"/>
              <p:cNvSpPr/>
              <p:nvPr/>
            </p:nvSpPr>
            <p:spPr>
              <a:xfrm>
                <a:off x="3708000" y="4581360"/>
                <a:ext cx="156960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微软雅黑"/>
                    <a:ea typeface="微软雅黑"/>
                  </a:rPr>
                  <a:t>a cool breeze, day, surfa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微软雅黑"/>
                    <a:ea typeface="微软雅黑"/>
                  </a:rPr>
                  <a:t>凉爽的微风﹑ 一天﹑ 表面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222"/>
              <p:cNvSpPr/>
              <p:nvPr/>
            </p:nvSpPr>
            <p:spPr>
              <a:xfrm>
                <a:off x="3348360" y="4005000"/>
                <a:ext cx="2160000" cy="74520"/>
              </a:xfrm>
              <a:custGeom>
                <a:avLst/>
                <a:gdLst>
                  <a:gd name="textAreaLeft" fmla="*/ 220320 w 2160000"/>
                  <a:gd name="textAreaRight" fmla="*/ 1939680 w 2160000"/>
                  <a:gd name="textAreaTop" fmla="*/ 7560 h 74520"/>
                  <a:gd name="textAreaBottom" fmla="*/ 6696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10" y="21600"/>
                    </a:lnTo>
                    <a:lnTo>
                      <a:pt x="2079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sing a s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Spring, spring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Let us 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we  are all happ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To sing for spring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背诵课文和单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和同学表演会对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08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汉真广标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关系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207"/>
          <p:cNvSpPr/>
          <p:nvPr/>
        </p:nvSpPr>
        <p:spPr>
          <a:xfrm>
            <a:off x="611280" y="25160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2104920" y="2154240"/>
            <a:ext cx="4751640" cy="719280"/>
            <a:chOff x="2104920" y="2154240"/>
            <a:chExt cx="4751640" cy="719280"/>
          </a:xfrm>
        </p:grpSpPr>
        <p:sp>
          <p:nvSpPr>
            <p:cNvPr id="166" name="AutoShape 3"/>
            <p:cNvSpPr/>
            <p:nvPr/>
          </p:nvSpPr>
          <p:spPr>
            <a:xfrm>
              <a:off x="2104920" y="2154240"/>
              <a:ext cx="4751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"/>
            <p:cNvSpPr/>
            <p:nvPr/>
          </p:nvSpPr>
          <p:spPr>
            <a:xfrm>
              <a:off x="2104920" y="2243520"/>
              <a:ext cx="4751640" cy="54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c0093"/>
                </a:gs>
                <a:gs pos="100000">
                  <a:srgbClr val="ff61e8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3"/>
          <p:cNvSpPr/>
          <p:nvPr/>
        </p:nvSpPr>
        <p:spPr>
          <a:xfrm>
            <a:off x="4147920" y="23144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3276720" y="3213000"/>
            <a:ext cx="2303280" cy="3130200"/>
            <a:chOff x="3276720" y="3213000"/>
            <a:chExt cx="2303280" cy="3130200"/>
          </a:xfrm>
        </p:grpSpPr>
        <p:grpSp>
          <p:nvGrpSpPr>
            <p:cNvPr id="170" name="Group 9"/>
            <p:cNvGrpSpPr/>
            <p:nvPr/>
          </p:nvGrpSpPr>
          <p:grpSpPr>
            <a:xfrm>
              <a:off x="3276720" y="3213000"/>
              <a:ext cx="2303280" cy="720360"/>
              <a:chOff x="3276720" y="3213000"/>
              <a:chExt cx="2303280" cy="720360"/>
            </a:xfrm>
          </p:grpSpPr>
          <p:sp>
            <p:nvSpPr>
              <p:cNvPr id="171" name="AutoShape 3"/>
              <p:cNvSpPr/>
              <p:nvPr/>
            </p:nvSpPr>
            <p:spPr>
              <a:xfrm>
                <a:off x="3276720" y="3213000"/>
                <a:ext cx="2303280" cy="720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3"/>
              <p:cNvSpPr/>
              <p:nvPr/>
            </p:nvSpPr>
            <p:spPr>
              <a:xfrm>
                <a:off x="3276720" y="3303000"/>
                <a:ext cx="2303280" cy="540360"/>
              </a:xfrm>
              <a:prstGeom prst="roundRect">
                <a:avLst>
                  <a:gd name="adj" fmla="val 16667"/>
                </a:avLst>
              </a:prstGeom>
              <a:solidFill>
                <a:srgbClr val="777777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ff"/>
                    </a:solidFill>
                    <a:latin typeface="Calibri"/>
                    <a:ea typeface="微软雅黑"/>
                  </a:rPr>
                  <a:t>形容词，凉爽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12"/>
            <p:cNvGrpSpPr/>
            <p:nvPr/>
          </p:nvGrpSpPr>
          <p:grpSpPr>
            <a:xfrm>
              <a:off x="3348360" y="4005000"/>
              <a:ext cx="2191680" cy="2338200"/>
              <a:chOff x="3348360" y="4005000"/>
              <a:chExt cx="2191680" cy="2338200"/>
            </a:xfrm>
          </p:grpSpPr>
          <p:sp>
            <p:nvSpPr>
              <p:cNvPr id="174" name="AutoShape 196"/>
              <p:cNvSpPr/>
              <p:nvPr/>
            </p:nvSpPr>
            <p:spPr>
              <a:xfrm>
                <a:off x="3420720" y="4149000"/>
                <a:ext cx="2119320" cy="2194200"/>
              </a:xfrm>
              <a:custGeom>
                <a:avLst/>
                <a:gdLst>
                  <a:gd name="textAreaLeft" fmla="*/ 23040 w 2119320"/>
                  <a:gd name="textAreaRight" fmla="*/ 2096280 w 2119320"/>
                  <a:gd name="textAreaTop" fmla="*/ 23040 h 2194200"/>
                  <a:gd name="textAreaBottom" fmla="*/ 2171160 h 2194200"/>
                </a:gdLst>
                <a:ahLst/>
                <a:rect l="textAreaLeft" t="textAreaTop" r="textAreaRight" b="textAreaBottom"/>
                <a:pathLst>
                  <a:path w="21600" h="22363">
                    <a:moveTo>
                      <a:pt x="805" y="0"/>
                    </a:moveTo>
                    <a:arcTo wR="805" hR="805" stAng="16200000" swAng="-5400000"/>
                    <a:lnTo>
                      <a:pt x="0" y="21558"/>
                    </a:lnTo>
                    <a:arcTo wR="805" hR="805" stAng="10800000" swAng="-5400000"/>
                    <a:lnTo>
                      <a:pt x="20795" y="22363"/>
                    </a:lnTo>
                    <a:arcTo wR="805" hR="805" stAng="5400000" swAng="-5400000"/>
                    <a:lnTo>
                      <a:pt x="21600" y="805"/>
                    </a:lnTo>
                    <a:arcTo wR="805" hR="805" stAng="0" swAng="-5400000"/>
                    <a:close/>
                  </a:path>
                </a:pathLst>
              </a:cu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228"/>
              <p:cNvSpPr/>
              <p:nvPr/>
            </p:nvSpPr>
            <p:spPr>
              <a:xfrm>
                <a:off x="3708000" y="4581360"/>
                <a:ext cx="156960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微软雅黑"/>
                    <a:ea typeface="微软雅黑"/>
                  </a:rPr>
                  <a:t>a cool breeze, day, surfac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ff"/>
                    </a:solidFill>
                    <a:latin typeface="微软雅黑"/>
                    <a:ea typeface="微软雅黑"/>
                  </a:rPr>
                  <a:t>凉爽的微风﹑ 一天﹑ 表面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222"/>
              <p:cNvSpPr/>
              <p:nvPr/>
            </p:nvSpPr>
            <p:spPr>
              <a:xfrm>
                <a:off x="3348360" y="4005000"/>
                <a:ext cx="2160000" cy="74520"/>
              </a:xfrm>
              <a:custGeom>
                <a:avLst/>
                <a:gdLst>
                  <a:gd name="textAreaLeft" fmla="*/ 220320 w 2160000"/>
                  <a:gd name="textAreaRight" fmla="*/ 1939680 w 2160000"/>
                  <a:gd name="textAreaTop" fmla="*/ 7560 h 74520"/>
                  <a:gd name="textAreaBottom" fmla="*/ 6696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10" y="21600"/>
                    </a:lnTo>
                    <a:lnTo>
                      <a:pt x="2079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关系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207"/>
          <p:cNvSpPr/>
          <p:nvPr/>
        </p:nvSpPr>
        <p:spPr>
          <a:xfrm>
            <a:off x="611280" y="2516040"/>
            <a:ext cx="7702560" cy="379260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2104920" y="2154240"/>
            <a:ext cx="4751640" cy="719280"/>
            <a:chOff x="2104920" y="2154240"/>
            <a:chExt cx="4751640" cy="719280"/>
          </a:xfrm>
        </p:grpSpPr>
        <p:sp>
          <p:nvSpPr>
            <p:cNvPr id="180" name="AutoShape 3"/>
            <p:cNvSpPr/>
            <p:nvPr/>
          </p:nvSpPr>
          <p:spPr>
            <a:xfrm>
              <a:off x="2104920" y="2154240"/>
              <a:ext cx="4751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"/>
            <p:cNvSpPr/>
            <p:nvPr/>
          </p:nvSpPr>
          <p:spPr>
            <a:xfrm>
              <a:off x="2104920" y="2243520"/>
              <a:ext cx="4751640" cy="54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c0093"/>
                </a:gs>
                <a:gs pos="100000">
                  <a:srgbClr val="ff61e8"/>
                </a:gs>
              </a:gsLst>
              <a:lin ang="189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13"/>
          <p:cNvSpPr/>
          <p:nvPr/>
        </p:nvSpPr>
        <p:spPr>
          <a:xfrm>
            <a:off x="4066560" y="231444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3276720" y="3213000"/>
            <a:ext cx="2303280" cy="3130200"/>
            <a:chOff x="3276720" y="3213000"/>
            <a:chExt cx="2303280" cy="3130200"/>
          </a:xfrm>
        </p:grpSpPr>
        <p:grpSp>
          <p:nvGrpSpPr>
            <p:cNvPr id="184" name="Group 9"/>
            <p:cNvGrpSpPr/>
            <p:nvPr/>
          </p:nvGrpSpPr>
          <p:grpSpPr>
            <a:xfrm>
              <a:off x="3276720" y="3213000"/>
              <a:ext cx="2303280" cy="720360"/>
              <a:chOff x="3276720" y="3213000"/>
              <a:chExt cx="2303280" cy="720360"/>
            </a:xfrm>
          </p:grpSpPr>
          <p:sp>
            <p:nvSpPr>
              <p:cNvPr id="185" name="AutoShape 3"/>
              <p:cNvSpPr/>
              <p:nvPr/>
            </p:nvSpPr>
            <p:spPr>
              <a:xfrm>
                <a:off x="3276720" y="3213000"/>
                <a:ext cx="2303280" cy="7203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3"/>
              <p:cNvSpPr/>
              <p:nvPr/>
            </p:nvSpPr>
            <p:spPr>
              <a:xfrm>
                <a:off x="3276720" y="3303000"/>
                <a:ext cx="2303280" cy="540360"/>
              </a:xfrm>
              <a:prstGeom prst="roundRect">
                <a:avLst>
                  <a:gd name="adj" fmla="val 16667"/>
                </a:avLst>
              </a:prstGeom>
              <a:solidFill>
                <a:srgbClr val="777777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动词，制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2"/>
            <p:cNvGrpSpPr/>
            <p:nvPr/>
          </p:nvGrpSpPr>
          <p:grpSpPr>
            <a:xfrm>
              <a:off x="3348360" y="4005000"/>
              <a:ext cx="2191680" cy="2338200"/>
              <a:chOff x="3348360" y="4005000"/>
              <a:chExt cx="2191680" cy="2338200"/>
            </a:xfrm>
          </p:grpSpPr>
          <p:sp>
            <p:nvSpPr>
              <p:cNvPr id="188" name="AutoShape 196"/>
              <p:cNvSpPr/>
              <p:nvPr/>
            </p:nvSpPr>
            <p:spPr>
              <a:xfrm>
                <a:off x="3420720" y="4149000"/>
                <a:ext cx="2119320" cy="2194200"/>
              </a:xfrm>
              <a:custGeom>
                <a:avLst/>
                <a:gdLst>
                  <a:gd name="textAreaLeft" fmla="*/ 23040 w 2119320"/>
                  <a:gd name="textAreaRight" fmla="*/ 2096280 w 2119320"/>
                  <a:gd name="textAreaTop" fmla="*/ 23040 h 2194200"/>
                  <a:gd name="textAreaBottom" fmla="*/ 2171160 h 2194200"/>
                </a:gdLst>
                <a:ahLst/>
                <a:rect l="textAreaLeft" t="textAreaTop" r="textAreaRight" b="textAreaBottom"/>
                <a:pathLst>
                  <a:path w="21600" h="22363">
                    <a:moveTo>
                      <a:pt x="805" y="0"/>
                    </a:moveTo>
                    <a:arcTo wR="805" hR="805" stAng="16200000" swAng="-5400000"/>
                    <a:lnTo>
                      <a:pt x="0" y="21558"/>
                    </a:lnTo>
                    <a:arcTo wR="805" hR="805" stAng="10800000" swAng="-5400000"/>
                    <a:lnTo>
                      <a:pt x="20795" y="22363"/>
                    </a:lnTo>
                    <a:arcTo wR="805" hR="805" stAng="5400000" swAng="-5400000"/>
                    <a:lnTo>
                      <a:pt x="21600" y="805"/>
                    </a:lnTo>
                    <a:arcTo wR="805" hR="805" stAng="0" swAng="-5400000"/>
                    <a:close/>
                  </a:path>
                </a:pathLst>
              </a:cu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228"/>
              <p:cNvSpPr/>
              <p:nvPr/>
            </p:nvSpPr>
            <p:spPr>
              <a:xfrm>
                <a:off x="3708000" y="4581360"/>
                <a:ext cx="15696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ff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400" spc="-1" strike="noStrike">
                    <a:solidFill>
                      <a:srgbClr val="0000ff"/>
                    </a:solidFill>
                    <a:latin typeface="微软雅黑"/>
                    <a:ea typeface="微软雅黑"/>
                  </a:rPr>
                  <a:t>make a car, a dress, a cake </a:t>
                </a:r>
                <a:r>
                  <a:rPr b="0" lang="zh-CN" sz="1400" spc="-1" strike="noStrike">
                    <a:solidFill>
                      <a:srgbClr val="0000ff"/>
                    </a:solidFill>
                    <a:latin typeface="微软雅黑"/>
                    <a:ea typeface="微软雅黑"/>
                  </a:rPr>
                  <a:t>制造汽车﹑ 做连衣裙﹑ 做蛋糕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22"/>
              <p:cNvSpPr/>
              <p:nvPr/>
            </p:nvSpPr>
            <p:spPr>
              <a:xfrm>
                <a:off x="3348360" y="4005000"/>
                <a:ext cx="2160000" cy="74520"/>
              </a:xfrm>
              <a:custGeom>
                <a:avLst/>
                <a:gdLst>
                  <a:gd name="textAreaLeft" fmla="*/ 220320 w 2160000"/>
                  <a:gd name="textAreaRight" fmla="*/ 1939680 w 2160000"/>
                  <a:gd name="textAreaTop" fmla="*/ 7560 h 74520"/>
                  <a:gd name="textAreaBottom" fmla="*/ 66960 h 7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10" y="21600"/>
                    </a:lnTo>
                    <a:lnTo>
                      <a:pt x="2079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404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693499_082330058890_2"/>
          <p:cNvPicPr/>
          <p:nvPr/>
        </p:nvPicPr>
        <p:blipFill>
          <a:blip r:embed="rId1"/>
          <a:srcRect l="2999" t="26255" r="2168" b="7827"/>
          <a:stretch/>
        </p:blipFill>
        <p:spPr>
          <a:xfrm>
            <a:off x="311040" y="803160"/>
            <a:ext cx="8670960" cy="46911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831680" y="6033960"/>
            <a:ext cx="477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alibri"/>
              </a:rPr>
              <a:t>I often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 fly my ki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068720" y="189000"/>
            <a:ext cx="489600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t0168c3cc9dba0083aa"/>
          <p:cNvPicPr/>
          <p:nvPr/>
        </p:nvPicPr>
        <p:blipFill>
          <a:blip r:embed="rId2"/>
          <a:srcRect l="5391" t="0" r="0" b="6468"/>
          <a:stretch/>
        </p:blipFill>
        <p:spPr>
          <a:xfrm>
            <a:off x="4753080" y="189000"/>
            <a:ext cx="1908000" cy="14968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5975280" y="1700280"/>
            <a:ext cx="9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1480912_194344064_2"/>
          <p:cNvPicPr/>
          <p:nvPr/>
        </p:nvPicPr>
        <p:blipFill>
          <a:blip r:embed="rId1"/>
          <a:srcRect l="0" t="9979" r="0" b="11170"/>
          <a:stretch/>
        </p:blipFill>
        <p:spPr>
          <a:xfrm>
            <a:off x="0" y="18900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3"/>
          <p:cNvSpPr/>
          <p:nvPr/>
        </p:nvSpPr>
        <p:spPr>
          <a:xfrm>
            <a:off x="1928160" y="6033960"/>
            <a:ext cx="529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alibri"/>
              </a:rPr>
              <a:t>They often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 fly  kite</a:t>
            </a:r>
            <a:r>
              <a:rPr b="1" lang="zh-CN" sz="4800" spc="-1" strike="noStrike">
                <a:solidFill>
                  <a:srgbClr val="0000cc"/>
                </a:solidFill>
                <a:latin typeface="Calibri"/>
              </a:rPr>
              <a:t>s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~YV4}TJU9FB${DB`ZV7R7ZA"/>
          <p:cNvPicPr/>
          <p:nvPr/>
        </p:nvPicPr>
        <p:blipFill>
          <a:blip r:embed="rId1"/>
          <a:stretch/>
        </p:blipFill>
        <p:spPr>
          <a:xfrm>
            <a:off x="324000" y="126828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I5Q`LA97@(CGGXG@5D`NLVU"/>
          <p:cNvPicPr/>
          <p:nvPr/>
        </p:nvPicPr>
        <p:blipFill>
          <a:blip r:embed="rId2"/>
          <a:stretch/>
        </p:blipFill>
        <p:spPr>
          <a:xfrm>
            <a:off x="468360" y="2565360"/>
            <a:ext cx="99360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8YFJZ0EY$B]X2EC}8N~RCVD"/>
          <p:cNvPicPr/>
          <p:nvPr/>
        </p:nvPicPr>
        <p:blipFill>
          <a:blip r:embed="rId3"/>
          <a:stretch/>
        </p:blipFill>
        <p:spPr>
          <a:xfrm>
            <a:off x="468360" y="3933720"/>
            <a:ext cx="1082520" cy="1082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D3F43$RI])@L83DBJ`HA6B"/>
          <p:cNvPicPr/>
          <p:nvPr/>
        </p:nvPicPr>
        <p:blipFill>
          <a:blip r:embed="rId4"/>
          <a:stretch/>
        </p:blipFill>
        <p:spPr>
          <a:xfrm>
            <a:off x="468360" y="5373720"/>
            <a:ext cx="1133280" cy="10065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6"/>
          <p:cNvSpPr/>
          <p:nvPr/>
        </p:nvSpPr>
        <p:spPr>
          <a:xfrm>
            <a:off x="1763640" y="148428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1692360" y="573408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1692360" y="299736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1619280" y="422100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3966120" y="2637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3966120" y="5084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966120" y="3860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3"/>
          <p:cNvGrpSpPr/>
          <p:nvPr/>
        </p:nvGrpSpPr>
        <p:grpSpPr>
          <a:xfrm>
            <a:off x="3635280" y="981000"/>
            <a:ext cx="5257080" cy="1584360"/>
            <a:chOff x="3635280" y="981000"/>
            <a:chExt cx="5257080" cy="1584360"/>
          </a:xfrm>
        </p:grpSpPr>
        <p:pic>
          <p:nvPicPr>
            <p:cNvPr id="210" name="Picture 14" descr="013"/>
            <p:cNvPicPr/>
            <p:nvPr/>
          </p:nvPicPr>
          <p:blipFill>
            <a:blip r:embed="rId5"/>
            <a:srcRect l="36773" t="4639" r="32042" b="3387"/>
            <a:stretch/>
          </p:blipFill>
          <p:spPr>
            <a:xfrm>
              <a:off x="3635280" y="981000"/>
              <a:ext cx="1347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Text Box 15"/>
            <p:cNvSpPr/>
            <p:nvPr/>
          </p:nvSpPr>
          <p:spPr>
            <a:xfrm>
              <a:off x="5252400" y="1197000"/>
              <a:ext cx="363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fly my ki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WordArt 16" descr=""/>
          <p:cNvPicPr/>
          <p:nvPr/>
        </p:nvPicPr>
        <p:blipFill>
          <a:blip r:embed="rId6"/>
          <a:stretch/>
        </p:blipFill>
        <p:spPr>
          <a:xfrm>
            <a:off x="371520" y="249120"/>
            <a:ext cx="4859280" cy="695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012"/>
          <p:cNvPicPr/>
          <p:nvPr/>
        </p:nvPicPr>
        <p:blipFill>
          <a:blip r:embed="rId7"/>
          <a:srcRect l="64170" t="17249" r="3689" b="41168"/>
          <a:stretch/>
        </p:blipFill>
        <p:spPr>
          <a:xfrm>
            <a:off x="1835280" y="2060640"/>
            <a:ext cx="865080" cy="996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05"/>
          <p:cNvPicPr/>
          <p:nvPr/>
        </p:nvPicPr>
        <p:blipFill>
          <a:blip r:embed="rId8"/>
          <a:srcRect l="54709" t="42420" r="29229" b="37445"/>
          <a:stretch/>
        </p:blipFill>
        <p:spPr>
          <a:xfrm>
            <a:off x="1763640" y="4869000"/>
            <a:ext cx="71928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92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92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92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92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8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385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38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~YV4}TJU9FB${DB`ZV7R7ZA"/>
          <p:cNvPicPr/>
          <p:nvPr/>
        </p:nvPicPr>
        <p:blipFill>
          <a:blip r:embed="rId1"/>
          <a:stretch/>
        </p:blipFill>
        <p:spPr>
          <a:xfrm>
            <a:off x="324000" y="126828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I5Q`LA97@(CGGXG@5D`NLVU"/>
          <p:cNvPicPr/>
          <p:nvPr/>
        </p:nvPicPr>
        <p:blipFill>
          <a:blip r:embed="rId2"/>
          <a:stretch/>
        </p:blipFill>
        <p:spPr>
          <a:xfrm>
            <a:off x="468360" y="2565360"/>
            <a:ext cx="993600" cy="100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8YFJZ0EY$B]X2EC}8N~RCVD"/>
          <p:cNvPicPr/>
          <p:nvPr/>
        </p:nvPicPr>
        <p:blipFill>
          <a:blip r:embed="rId3"/>
          <a:stretch/>
        </p:blipFill>
        <p:spPr>
          <a:xfrm>
            <a:off x="468360" y="3933720"/>
            <a:ext cx="1082520" cy="1082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D3F43$RI])@L83DBJ`HA6B"/>
          <p:cNvPicPr/>
          <p:nvPr/>
        </p:nvPicPr>
        <p:blipFill>
          <a:blip r:embed="rId4"/>
          <a:stretch/>
        </p:blipFill>
        <p:spPr>
          <a:xfrm>
            <a:off x="468360" y="5373720"/>
            <a:ext cx="1133280" cy="10065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1763640" y="1484280"/>
            <a:ext cx="1295640" cy="360360"/>
          </a:xfrm>
          <a:prstGeom prst="rightArrow">
            <a:avLst>
              <a:gd name="adj1" fmla="val 50000"/>
              <a:gd name="adj2" fmla="val 898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692360" y="573408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1692360" y="2997360"/>
            <a:ext cx="1295280" cy="360360"/>
          </a:xfrm>
          <a:prstGeom prst="rightArrow">
            <a:avLst>
              <a:gd name="adj1" fmla="val 50000"/>
              <a:gd name="adj2" fmla="val 8986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619280" y="4221000"/>
            <a:ext cx="1368360" cy="360360"/>
          </a:xfrm>
          <a:prstGeom prst="rightArrow">
            <a:avLst>
              <a:gd name="adj1" fmla="val 50000"/>
              <a:gd name="adj2" fmla="val 9493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3966120" y="2637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1"/>
          <p:cNvSpPr/>
          <p:nvPr/>
        </p:nvSpPr>
        <p:spPr>
          <a:xfrm>
            <a:off x="3966120" y="5084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3966120" y="3860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3"/>
          <p:cNvGrpSpPr/>
          <p:nvPr/>
        </p:nvGrpSpPr>
        <p:grpSpPr>
          <a:xfrm>
            <a:off x="3635280" y="981000"/>
            <a:ext cx="5257080" cy="1584360"/>
            <a:chOff x="3635280" y="981000"/>
            <a:chExt cx="5257080" cy="1584360"/>
          </a:xfrm>
        </p:grpSpPr>
        <p:pic>
          <p:nvPicPr>
            <p:cNvPr id="227" name="Picture 14" descr="013"/>
            <p:cNvPicPr/>
            <p:nvPr/>
          </p:nvPicPr>
          <p:blipFill>
            <a:blip r:embed="rId5"/>
            <a:srcRect l="36773" t="4639" r="32042" b="3387"/>
            <a:stretch/>
          </p:blipFill>
          <p:spPr>
            <a:xfrm>
              <a:off x="3635280" y="981000"/>
              <a:ext cx="13478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15"/>
            <p:cNvSpPr/>
            <p:nvPr/>
          </p:nvSpPr>
          <p:spPr>
            <a:xfrm>
              <a:off x="5252400" y="1197000"/>
              <a:ext cx="363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fly my ki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WordArt 16" descr=""/>
          <p:cNvPicPr/>
          <p:nvPr/>
        </p:nvPicPr>
        <p:blipFill>
          <a:blip r:embed="rId6"/>
          <a:stretch/>
        </p:blipFill>
        <p:spPr>
          <a:xfrm>
            <a:off x="371520" y="249120"/>
            <a:ext cx="4859280" cy="69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7" descr="012"/>
          <p:cNvPicPr/>
          <p:nvPr/>
        </p:nvPicPr>
        <p:blipFill>
          <a:blip r:embed="rId7"/>
          <a:srcRect l="64170" t="17249" r="3689" b="41168"/>
          <a:stretch/>
        </p:blipFill>
        <p:spPr>
          <a:xfrm>
            <a:off x="1835280" y="2060640"/>
            <a:ext cx="865080" cy="996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05"/>
          <p:cNvPicPr/>
          <p:nvPr/>
        </p:nvPicPr>
        <p:blipFill>
          <a:blip r:embed="rId8"/>
          <a:srcRect l="54709" t="42420" r="29229" b="37445"/>
          <a:stretch/>
        </p:blipFill>
        <p:spPr>
          <a:xfrm>
            <a:off x="1763640" y="4869000"/>
            <a:ext cx="719280" cy="94932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19"/>
          <p:cNvGrpSpPr/>
          <p:nvPr/>
        </p:nvGrpSpPr>
        <p:grpSpPr>
          <a:xfrm>
            <a:off x="3419640" y="2708280"/>
            <a:ext cx="5477400" cy="1079640"/>
            <a:chOff x="3419640" y="2708280"/>
            <a:chExt cx="5477400" cy="1079640"/>
          </a:xfrm>
        </p:grpSpPr>
        <p:pic>
          <p:nvPicPr>
            <p:cNvPr id="233" name="Picture 20" descr="游泳"/>
            <p:cNvPicPr/>
            <p:nvPr/>
          </p:nvPicPr>
          <p:blipFill>
            <a:blip r:embed="rId9"/>
            <a:srcRect l="44478" t="31545" r="32673" b="46156"/>
            <a:stretch/>
          </p:blipFill>
          <p:spPr>
            <a:xfrm>
              <a:off x="3419640" y="2708280"/>
              <a:ext cx="15843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21">
              <a:hlinkClick r:id="rId10" action="ppaction://hlinksldjump"/>
            </p:cNvPr>
            <p:cNvSpPr/>
            <p:nvPr/>
          </p:nvSpPr>
          <p:spPr>
            <a:xfrm>
              <a:off x="5634720" y="2708280"/>
              <a:ext cx="3262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Calibri"/>
                </a:rPr>
                <a:t>go swimm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011"/>
          <p:cNvPicPr/>
          <p:nvPr/>
        </p:nvPicPr>
        <p:blipFill>
          <a:blip r:embed="rId1"/>
          <a:srcRect l="11332" t="5027" r="12125" b="5499"/>
          <a:stretch/>
        </p:blipFill>
        <p:spPr>
          <a:xfrm>
            <a:off x="0" y="0"/>
            <a:ext cx="9144000" cy="530208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488600" y="5445000"/>
            <a:ext cx="14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sw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544500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I can       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  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>
            <a:hlinkClick r:id="rId2" action="ppaction://hlinksldjump"/>
          </p:cNvPr>
          <p:cNvSpPr/>
          <p:nvPr/>
        </p:nvSpPr>
        <p:spPr>
          <a:xfrm>
            <a:off x="3534120" y="5445000"/>
            <a:ext cx="49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/ I can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go swim</a:t>
            </a:r>
            <a:r>
              <a:rPr b="1" lang="zh-CN" sz="4400" spc="-1" strike="noStrike">
                <a:solidFill>
                  <a:srgbClr val="0000cc"/>
                </a:solidFill>
                <a:latin typeface="Calibri"/>
              </a:rPr>
              <a:t>m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6:20:01Z</dcterms:created>
  <dc:creator/>
  <dc:description/>
  <cp:keywords/>
  <dc:language>en-US</dc:language>
  <cp:lastModifiedBy/>
  <dcterms:modified xsi:type="dcterms:W3CDTF">2017-03-08T03:54:4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