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8779-E856-4E1C-9BFC-6046BF4E9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8E4-F45C-4DB4-9700-12ADD1CB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E97-3F2C-454C-87A0-4A215B49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DFC-13F5-49C5-88FD-9893EEE7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502-B893-480D-8CA9-652F04BF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E49-2FD4-48C5-94DF-8B8E1AE6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5F1-8DBD-462C-8C36-1B9A1B25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C194-EEF6-4FF3-99C5-C1D30566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1AC-1731-46EE-AB18-CFC80EF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4DB-2323-4FE8-A0A0-95D40ED6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3B24-BE1F-4F44-9829-FA9F1CB5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05B-C00E-4BFD-9DF9-FA0A0C39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2A63-996E-44BF-AF1F-B7597E68F2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700360" y="3357720"/>
            <a:ext cx="6012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UNIT SIX WHICH SEASON DO YOU LIKE Lesson 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ordArt 3" descr=""/>
          <p:cNvPicPr/>
          <p:nvPr/>
        </p:nvPicPr>
        <p:blipFill>
          <a:blip r:embed="rId1"/>
          <a:stretch/>
        </p:blipFill>
        <p:spPr>
          <a:xfrm>
            <a:off x="3054240" y="5218200"/>
            <a:ext cx="502920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M3U3-4"/>
          <p:cNvPicPr/>
          <p:nvPr/>
        </p:nvPicPr>
        <p:blipFill>
          <a:blip r:embed="rId1"/>
          <a:srcRect l="23587" t="67240" r="51339" b="-74"/>
          <a:stretch/>
        </p:blipFill>
        <p:spPr>
          <a:xfrm>
            <a:off x="3492360" y="3933720"/>
            <a:ext cx="3024360" cy="1648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127600" y="765000"/>
            <a:ext cx="63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in summ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564000" y="5229360"/>
            <a:ext cx="27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leep on the b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3U3-4"/>
          <p:cNvPicPr/>
          <p:nvPr/>
        </p:nvPicPr>
        <p:blipFill>
          <a:blip r:embed="rId1"/>
          <a:srcRect l="48665" t="1913" r="27535" b="63460"/>
          <a:stretch/>
        </p:blipFill>
        <p:spPr>
          <a:xfrm>
            <a:off x="4211640" y="3213000"/>
            <a:ext cx="2952720" cy="2017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764720" y="350028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ide a bi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891440" y="83664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autum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3U3-4"/>
          <p:cNvPicPr/>
          <p:nvPr/>
        </p:nvPicPr>
        <p:blipFill>
          <a:blip r:embed="rId1"/>
          <a:srcRect l="23587" t="32539" r="51339" b="29905"/>
          <a:stretch/>
        </p:blipFill>
        <p:spPr>
          <a:xfrm>
            <a:off x="2411280" y="2492280"/>
            <a:ext cx="2592360" cy="1684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2127600" y="765000"/>
            <a:ext cx="63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in summ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81080" y="335772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ive in the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M3U3-4"/>
          <p:cNvPicPr/>
          <p:nvPr/>
        </p:nvPicPr>
        <p:blipFill>
          <a:blip r:embed="rId1"/>
          <a:srcRect l="48665" t="36549" r="27535" b="31688"/>
          <a:stretch/>
        </p:blipFill>
        <p:spPr>
          <a:xfrm>
            <a:off x="3564000" y="1844640"/>
            <a:ext cx="2808360" cy="1852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564360" y="4437000"/>
            <a:ext cx="17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ly the k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891440" y="83664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autum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3U3-4"/>
          <p:cNvPicPr/>
          <p:nvPr/>
        </p:nvPicPr>
        <p:blipFill>
          <a:blip r:embed="rId1"/>
          <a:srcRect l="48665" t="68321" r="27535" b="-74"/>
          <a:stretch/>
        </p:blipFill>
        <p:spPr>
          <a:xfrm>
            <a:off x="1979640" y="2492280"/>
            <a:ext cx="3382920" cy="1774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197440" y="4653000"/>
            <a:ext cx="17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ke a 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891440" y="83664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autum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891440" y="83664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autum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03"/>
          <p:cNvPicPr/>
          <p:nvPr/>
        </p:nvPicPr>
        <p:blipFill>
          <a:blip r:embed="rId1"/>
          <a:stretch/>
        </p:blipFill>
        <p:spPr>
          <a:xfrm>
            <a:off x="2771640" y="2565360"/>
            <a:ext cx="2243160" cy="1986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5651640" y="479736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limb h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3U3-4"/>
          <p:cNvPicPr/>
          <p:nvPr/>
        </p:nvPicPr>
        <p:blipFill>
          <a:blip r:embed="rId1"/>
          <a:srcRect l="72469" t="1913" r="0" b="66325"/>
          <a:stretch/>
        </p:blipFill>
        <p:spPr>
          <a:xfrm>
            <a:off x="1908000" y="3429000"/>
            <a:ext cx="2160720" cy="1492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2198880" y="1052640"/>
            <a:ext cx="64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win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861440" y="4221000"/>
            <a:ext cx="240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ki on the s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M3U3-4"/>
          <p:cNvPicPr/>
          <p:nvPr/>
        </p:nvPicPr>
        <p:blipFill>
          <a:blip r:embed="rId1"/>
          <a:srcRect l="72469" t="30755" r="0" b="31688"/>
          <a:stretch/>
        </p:blipFill>
        <p:spPr>
          <a:xfrm>
            <a:off x="4427640" y="2276640"/>
            <a:ext cx="2663640" cy="1819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2198880" y="1052640"/>
            <a:ext cx="64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win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348720" y="429264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kate on the 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M3U3-4"/>
          <p:cNvPicPr/>
          <p:nvPr/>
        </p:nvPicPr>
        <p:blipFill>
          <a:blip r:embed="rId1"/>
          <a:srcRect l="72469" t="65456" r="0" b="-74"/>
          <a:stretch/>
        </p:blipFill>
        <p:spPr>
          <a:xfrm>
            <a:off x="3203640" y="2708280"/>
            <a:ext cx="3240000" cy="20890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2198880" y="1052640"/>
            <a:ext cx="64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win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421080" y="5086440"/>
            <a:ext cx="246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ve a barbec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198880" y="1052640"/>
            <a:ext cx="64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wint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" descr="04"/>
          <p:cNvPicPr/>
          <p:nvPr/>
        </p:nvPicPr>
        <p:blipFill>
          <a:blip r:embed="rId1"/>
          <a:stretch/>
        </p:blipFill>
        <p:spPr>
          <a:xfrm>
            <a:off x="3132000" y="3068640"/>
            <a:ext cx="2303640" cy="1979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5150520" y="537372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ake a snow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11280" y="1413000"/>
            <a:ext cx="288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sp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84360" y="3573360"/>
            <a:ext cx="2881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autum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508720" y="3645000"/>
            <a:ext cx="288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win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508720" y="1413000"/>
            <a:ext cx="288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sum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23680" y="333360"/>
            <a:ext cx="73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How many seasons are there in a ye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97120" y="981000"/>
            <a:ext cx="61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There are four seasons in a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8" descr="p36"/>
          <p:cNvPicPr/>
          <p:nvPr/>
        </p:nvPicPr>
        <p:blipFill>
          <a:blip r:embed="rId1">
            <a:lum contrast="30000"/>
          </a:blip>
          <a:srcRect l="2210" t="65149" r="5162" b="0"/>
          <a:stretch/>
        </p:blipFill>
        <p:spPr>
          <a:xfrm>
            <a:off x="4932360" y="2133720"/>
            <a:ext cx="3672000" cy="1666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p36"/>
          <p:cNvPicPr/>
          <p:nvPr/>
        </p:nvPicPr>
        <p:blipFill>
          <a:blip r:embed="rId2">
            <a:lum contrast="30000"/>
          </a:blip>
          <a:srcRect l="0" t="0" r="26" b="67993"/>
          <a:stretch/>
        </p:blipFill>
        <p:spPr>
          <a:xfrm>
            <a:off x="539640" y="2133720"/>
            <a:ext cx="3529080" cy="161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p37"/>
          <p:cNvPicPr/>
          <p:nvPr/>
        </p:nvPicPr>
        <p:blipFill>
          <a:blip r:embed="rId3">
            <a:lum contrast="48000"/>
          </a:blip>
          <a:srcRect l="0" t="0" r="1535" b="65332"/>
          <a:stretch/>
        </p:blipFill>
        <p:spPr>
          <a:xfrm>
            <a:off x="324000" y="4365720"/>
            <a:ext cx="4105080" cy="2095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p37"/>
          <p:cNvPicPr/>
          <p:nvPr/>
        </p:nvPicPr>
        <p:blipFill>
          <a:blip r:embed="rId4">
            <a:lum contrast="30000"/>
          </a:blip>
          <a:srcRect l="20003" t="67945" r="0" b="-5"/>
          <a:stretch/>
        </p:blipFill>
        <p:spPr>
          <a:xfrm>
            <a:off x="4788000" y="4221000"/>
            <a:ext cx="4032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Let’s do exerci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5480" y="1915920"/>
            <a:ext cx="7346880" cy="62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所给词的适当形式完成句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There are four ________ ( season ) in a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In autumn, ___________( leaf ) autumn d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Is this ______ ( a ) ice- cre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 Where is my _____ ( kite )? It’s on the roo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.______( she ) is a doctor. _____( she ) name is Bet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772720" y="3718080"/>
            <a:ext cx="5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709080" y="227664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709080" y="29242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636000" y="4292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k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20000" y="48704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5220360" y="4869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背诵课文，学习新单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了解四季变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WordArt 5" descr=""/>
          <p:cNvPicPr/>
          <p:nvPr/>
        </p:nvPicPr>
        <p:blipFill>
          <a:blip r:embed="rId2"/>
          <a:stretch/>
        </p:blipFill>
        <p:spPr>
          <a:xfrm>
            <a:off x="2266920" y="4657680"/>
            <a:ext cx="2921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01"/>
          <p:cNvPicPr/>
          <p:nvPr/>
        </p:nvPicPr>
        <p:blipFill>
          <a:blip r:embed="rId1"/>
          <a:stretch/>
        </p:blipFill>
        <p:spPr>
          <a:xfrm>
            <a:off x="2340000" y="1341360"/>
            <a:ext cx="2381400" cy="20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03"/>
          <p:cNvPicPr/>
          <p:nvPr/>
        </p:nvPicPr>
        <p:blipFill>
          <a:blip r:embed="rId2"/>
          <a:stretch/>
        </p:blipFill>
        <p:spPr>
          <a:xfrm>
            <a:off x="5148360" y="3645000"/>
            <a:ext cx="2314440" cy="2047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5148720" y="1916280"/>
            <a:ext cx="203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t’s sp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t’s sp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843280" y="4149720"/>
            <a:ext cx="227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t’s autum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t’s autum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4"/>
          <p:cNvPicPr/>
          <p:nvPr/>
        </p:nvPicPr>
        <p:blipFill>
          <a:blip r:embed="rId1"/>
          <a:stretch/>
        </p:blipFill>
        <p:spPr>
          <a:xfrm>
            <a:off x="1979640" y="3573360"/>
            <a:ext cx="2736720" cy="235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02"/>
          <p:cNvPicPr/>
          <p:nvPr/>
        </p:nvPicPr>
        <p:blipFill>
          <a:blip r:embed="rId2"/>
          <a:stretch/>
        </p:blipFill>
        <p:spPr>
          <a:xfrm>
            <a:off x="5364000" y="692280"/>
            <a:ext cx="2808360" cy="2408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68360" y="1628640"/>
            <a:ext cx="239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t’s summ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t’s summ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436360" y="4149720"/>
            <a:ext cx="200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t’s win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It’s win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Which season do you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喜欢哪个季节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like spring. I can fly a k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3348000" y="2492280"/>
            <a:ext cx="2519280" cy="2395440"/>
            <a:chOff x="3348000" y="2492280"/>
            <a:chExt cx="2519280" cy="2395440"/>
          </a:xfrm>
        </p:grpSpPr>
        <p:pic>
          <p:nvPicPr>
            <p:cNvPr id="64" name="Picture 3" descr="M3U3-4"/>
            <p:cNvPicPr/>
            <p:nvPr/>
          </p:nvPicPr>
          <p:blipFill>
            <a:blip r:embed="rId1">
              <a:lum contrast="30000"/>
            </a:blip>
            <a:srcRect l="0" t="0" r="77190" b="65086"/>
            <a:stretch/>
          </p:blipFill>
          <p:spPr>
            <a:xfrm>
              <a:off x="3348000" y="2492280"/>
              <a:ext cx="2519280" cy="19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4"/>
            <p:cNvSpPr/>
            <p:nvPr/>
          </p:nvSpPr>
          <p:spPr>
            <a:xfrm>
              <a:off x="3564720" y="4367160"/>
              <a:ext cx="205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have a picni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Text Box 5"/>
          <p:cNvSpPr/>
          <p:nvPr/>
        </p:nvSpPr>
        <p:spPr>
          <a:xfrm>
            <a:off x="2198520" y="9810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spring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3348000" y="3789360"/>
            <a:ext cx="2278440" cy="2247840"/>
            <a:chOff x="3348000" y="3789360"/>
            <a:chExt cx="2278440" cy="2247840"/>
          </a:xfrm>
        </p:grpSpPr>
        <p:pic>
          <p:nvPicPr>
            <p:cNvPr id="68" name="Picture 3" descr="M3U3-4"/>
            <p:cNvPicPr/>
            <p:nvPr/>
          </p:nvPicPr>
          <p:blipFill>
            <a:blip r:embed="rId1"/>
            <a:srcRect l="333" t="67868" r="76413" b="-74"/>
            <a:stretch/>
          </p:blipFill>
          <p:spPr>
            <a:xfrm>
              <a:off x="3348000" y="3789360"/>
              <a:ext cx="223200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4"/>
            <p:cNvSpPr/>
            <p:nvPr/>
          </p:nvSpPr>
          <p:spPr>
            <a:xfrm>
              <a:off x="3636720" y="5516640"/>
              <a:ext cx="198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play footba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Text Box 5"/>
          <p:cNvSpPr/>
          <p:nvPr/>
        </p:nvSpPr>
        <p:spPr>
          <a:xfrm>
            <a:off x="2198520" y="9810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spring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2483280" y="2708280"/>
            <a:ext cx="2174040" cy="2287440"/>
            <a:chOff x="2483280" y="2708280"/>
            <a:chExt cx="2174040" cy="2287440"/>
          </a:xfrm>
        </p:grpSpPr>
        <p:pic>
          <p:nvPicPr>
            <p:cNvPr id="72" name="Picture 3" descr="M3U3-4"/>
            <p:cNvPicPr/>
            <p:nvPr/>
          </p:nvPicPr>
          <p:blipFill>
            <a:blip r:embed="rId1"/>
            <a:srcRect l="5776" t="38804" r="85591" b="34063"/>
            <a:stretch/>
          </p:blipFill>
          <p:spPr>
            <a:xfrm>
              <a:off x="2556000" y="2708280"/>
              <a:ext cx="194292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4"/>
            <p:cNvSpPr/>
            <p:nvPr/>
          </p:nvSpPr>
          <p:spPr>
            <a:xfrm>
              <a:off x="2483280" y="4475160"/>
              <a:ext cx="217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plant the tre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Text Box 5"/>
          <p:cNvSpPr/>
          <p:nvPr/>
        </p:nvSpPr>
        <p:spPr>
          <a:xfrm>
            <a:off x="2198520" y="9810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_ in spring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3U3-4"/>
          <p:cNvPicPr/>
          <p:nvPr/>
        </p:nvPicPr>
        <p:blipFill>
          <a:blip r:embed="rId1"/>
          <a:srcRect l="23587" t="12041" r="51339" b="66888"/>
          <a:stretch/>
        </p:blipFill>
        <p:spPr>
          <a:xfrm>
            <a:off x="2771640" y="4005360"/>
            <a:ext cx="2521080" cy="22604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2127600" y="765000"/>
            <a:ext cx="63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can ___________in summ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269800" y="3429000"/>
            <a:ext cx="23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wim in the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6T04:48:05Z</dcterms:created>
  <dc:creator/>
  <dc:description/>
  <cp:keywords/>
  <dc:language>en-US</dc:language>
  <cp:lastModifiedBy/>
  <dcterms:modified xsi:type="dcterms:W3CDTF">2015-07-09T03:48:59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  <property fmtid="{D5CDD505-2E9C-101B-9397-08002B2CF9AE}" pid="3" name="NXTAG2">
    <vt:lpwstr>0008003608000000000001024120</vt:lpwstr>
  </property>
</Properties>
</file>