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BD9-AC2D-4DAA-BE54-5C7ADC94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82915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843000"/>
            <a:ext cx="82915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F46-F06C-4F24-BFBA-2936A09F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84300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84300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89D-61A5-45E3-96CD-6DC0B685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12392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12392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84300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84300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84300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FED-1A67-4BB5-8813-DF6AE674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FC94-B014-44B5-9B9B-694B00E3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7282-0742-4A00-B8B3-53B19B89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80D4-E7A7-4BDD-873A-026CBD95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BAD6-4C52-42E2-A03C-3733CA35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39AC-8C5F-4902-9624-23B0E62F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9040" y="23472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941F-2FCA-42AD-8E22-9F90B05F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9040" y="384300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ED71-B5B7-482D-9CC2-2DFCBEA6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6EC-8CBC-47A0-954F-6B153652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7760" y="384300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C705-E8C2-441C-9133-261D17BE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9040" y="3843000"/>
            <a:ext cx="82915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348A-EECA-4C4E-94DE-45DDAF09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82915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9040" y="3843000"/>
            <a:ext cx="82915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0994-63B3-4519-A2C6-57D88DD0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9040" y="384300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7760" y="384300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B060-00A8-49CC-9097-72F0FD92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2720" y="112392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6400" y="112392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9040" y="384300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2720" y="384300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6400" y="384300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091A-F0B1-4800-B57E-AAD5895F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1321F-BAE8-48E8-BCF8-4999FE1D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46C9B-7604-44E1-947E-962317D8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C1BD0-97C2-4BB6-8C7D-971A8965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17E7-1DA8-474D-B4CE-BD49E44E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9AA9A-9414-4D76-BE25-C60EF85E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D44-F4BB-46B5-95BB-F73B6C24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19040" y="23472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8E37B-D9F2-4D8D-BD4E-C2D2FFCA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84300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9F29-6D32-4454-AB02-C2F6DEFF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7760" y="384300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8D50-5875-4FAA-BD7E-277290A3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9040" y="3843000"/>
            <a:ext cx="82915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A696-E8B4-4DAB-83BB-549642A7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82915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9040" y="3843000"/>
            <a:ext cx="82915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35A1F-B4CB-44FF-A87C-8BF86DB9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19040" y="384300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7760" y="384300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3EDE-A141-4E0E-AFA1-88A0F2C7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2720" y="112392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6400" y="112392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19040" y="384300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2720" y="384300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6400" y="3843000"/>
            <a:ext cx="26697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F15E5-5AC8-4C3C-AB4C-E27B974C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417-0318-45CD-B6CD-0207EA5A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E47-E23A-4DAC-9658-AA1004FC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23472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98A-1AAE-44AA-9667-4CD640FC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84300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8B9-2874-4719-98AF-4B566203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84300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F41-A77C-4E0D-AF18-A33D0FC9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123920"/>
            <a:ext cx="40460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843000"/>
            <a:ext cx="82915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044-EB0F-40CA-9835-8C1257C5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A243-6A62-4A45-B534-44BF63F38B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AAD2-5E57-40CF-8643-D2933C9937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2"/>
          <p:cNvGrpSpPr/>
          <p:nvPr/>
        </p:nvGrpSpPr>
        <p:grpSpPr>
          <a:xfrm>
            <a:off x="0" y="3809880"/>
            <a:ext cx="9144000" cy="3075120"/>
            <a:chOff x="0" y="3809880"/>
            <a:chExt cx="9144000" cy="3075120"/>
          </a:xfrm>
        </p:grpSpPr>
        <p:pic>
          <p:nvPicPr>
            <p:cNvPr id="42" name="图片 30" descr=""/>
            <p:cNvPicPr/>
            <p:nvPr/>
          </p:nvPicPr>
          <p:blipFill>
            <a:blip r:embed="rId2"/>
            <a:srcRect l="0" t="0" r="1036" b="41165"/>
            <a:stretch/>
          </p:blipFill>
          <p:spPr>
            <a:xfrm>
              <a:off x="5760" y="5085000"/>
              <a:ext cx="9138240" cy="18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矩形 31"/>
            <p:cNvGrpSpPr/>
            <p:nvPr/>
          </p:nvGrpSpPr>
          <p:grpSpPr>
            <a:xfrm>
              <a:off x="0" y="3809880"/>
              <a:ext cx="9144000" cy="2194560"/>
              <a:chOff x="0" y="3809880"/>
              <a:chExt cx="9144000" cy="2194560"/>
            </a:xfrm>
          </p:grpSpPr>
          <p:pic>
            <p:nvPicPr>
              <p:cNvPr id="44" name="矩形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809880"/>
                <a:ext cx="9144000" cy="219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0" y="3809880"/>
                <a:ext cx="9144000" cy="219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28200" y="6374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DAA7-FEED-4652-B77D-6600743E9E20}" type="datetime">
              <a:rPr b="0" lang="zh-CN" sz="1200" spc="-1" strike="noStrike">
                <a:solidFill>
                  <a:srgbClr val="1c1c1c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029040" y="6374880"/>
            <a:ext cx="3085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457680" y="6374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955F-3778-418C-84AA-6A669583D597}" type="slidenum">
              <a:rPr b="0" lang="zh-CN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218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d958c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218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218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218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218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218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218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9"/>
          <p:cNvGrpSpPr/>
          <p:nvPr/>
        </p:nvGrpSpPr>
        <p:grpSpPr>
          <a:xfrm>
            <a:off x="0" y="0"/>
            <a:ext cx="9144000" cy="6878520"/>
            <a:chOff x="0" y="0"/>
            <a:chExt cx="9144000" cy="6878520"/>
          </a:xfrm>
        </p:grpSpPr>
        <p:pic>
          <p:nvPicPr>
            <p:cNvPr id="88" name="图片 10" descr=""/>
            <p:cNvPicPr/>
            <p:nvPr/>
          </p:nvPicPr>
          <p:blipFill>
            <a:blip r:embed="rId2"/>
            <a:srcRect l="273" t="0" r="700" b="0"/>
            <a:stretch/>
          </p:blipFill>
          <p:spPr>
            <a:xfrm>
              <a:off x="0" y="2181240"/>
              <a:ext cx="9144000" cy="469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矩形 11"/>
            <p:cNvGrpSpPr/>
            <p:nvPr/>
          </p:nvGrpSpPr>
          <p:grpSpPr>
            <a:xfrm>
              <a:off x="0" y="0"/>
              <a:ext cx="9144000" cy="3596760"/>
              <a:chOff x="0" y="0"/>
              <a:chExt cx="9144000" cy="3596760"/>
            </a:xfrm>
          </p:grpSpPr>
          <p:pic>
            <p:nvPicPr>
              <p:cNvPr id="90" name="矩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359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0" y="0"/>
                <a:ext cx="9144000" cy="359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4715-2A2D-468D-B9BB-8D8D3E56B923}" type="datetime">
              <a:rPr b="0" lang="zh-CN" sz="1200" spc="-1" strike="noStrike">
                <a:solidFill>
                  <a:srgbClr val="1c1c1c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75DF-50A1-4FA4-954A-F2B9F86484E6}" type="slidenum">
              <a:rPr b="0" lang="zh-CN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1371600" y="1053720"/>
            <a:ext cx="64101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218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e42180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6d6d"/>
                </a:solidFill>
                <a:latin typeface="幼圆"/>
              </a:rPr>
              <a:t>Click to edit the outline text format</a:t>
            </a:r>
            <a:endParaRPr b="0" lang="en-US" sz="1800" spc="-1" strike="noStrike">
              <a:solidFill>
                <a:srgbClr val="6d6d6d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1053720"/>
            <a:ext cx="64101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2180"/>
                </a:solidFill>
                <a:latin typeface="微软雅黑"/>
              </a:rPr>
              <a:t>UNIT THREE WELCOME TO MY HOUSE Lesson 10</a:t>
            </a:r>
            <a:endParaRPr b="1" lang="en-US" sz="3600" spc="-1" strike="noStrike">
              <a:solidFill>
                <a:srgbClr val="e42180"/>
              </a:solidFill>
              <a:latin typeface="微软雅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2304720"/>
            <a:ext cx="6400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d6d6d"/>
                </a:solidFill>
                <a:latin typeface="幼圆"/>
              </a:rPr>
              <a:t>课件</a:t>
            </a:r>
            <a:r>
              <a:rPr b="0" lang="zh-CN" sz="1800" spc="-1" strike="noStrike">
                <a:solidFill>
                  <a:srgbClr val="6d6d6d"/>
                </a:solidFill>
                <a:latin typeface="幼圆"/>
              </a:rPr>
              <a:t>2</a:t>
            </a:r>
            <a:endParaRPr b="0" lang="en-US" sz="1800" spc="-1" strike="noStrike">
              <a:solidFill>
                <a:srgbClr val="6d6d6d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f5f5f"/>
                </a:solidFill>
                <a:latin typeface="微软雅黑"/>
              </a:rPr>
              <a:t>We have…..</a:t>
            </a:r>
            <a:endParaRPr b="1" lang="en-US" sz="60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b4e3f"/>
                </a:solidFill>
                <a:latin typeface="幼圆"/>
              </a:rPr>
              <a:t>A small study</a:t>
            </a:r>
            <a:endParaRPr b="0" lang="en-US" sz="5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b4e3f"/>
                </a:solidFill>
                <a:latin typeface="幼圆"/>
              </a:rPr>
              <a:t>A large kitchen</a:t>
            </a:r>
            <a:endParaRPr b="0" lang="en-US" sz="5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b4e3f"/>
                </a:solidFill>
                <a:latin typeface="幼圆"/>
              </a:rPr>
              <a:t>A clean toilet</a:t>
            </a:r>
            <a:endParaRPr b="0" lang="en-US" sz="5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b4e3f"/>
                </a:solidFill>
                <a:latin typeface="幼圆"/>
              </a:rPr>
              <a:t>A beautiful garden</a:t>
            </a:r>
            <a:r>
              <a:rPr b="0" lang="en-US" sz="2400" spc="-1" strike="noStrike">
                <a:solidFill>
                  <a:srgbClr val="e42180"/>
                </a:solidFill>
                <a:latin typeface="幼圆"/>
              </a:rPr>
              <a:t> 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微软雅黑"/>
              </a:rPr>
              <a:t>read the textbook</a:t>
            </a: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Q:  Who is thirsty?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     </a:t>
            </a: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would they use the glasses on the table?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微软雅黑"/>
              </a:rPr>
              <a:t>read the textbook</a:t>
            </a: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Q:  Who is thirsty?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      </a:t>
            </a: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Guoguo is thirsty.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     </a:t>
            </a: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Would they use the glasses on the table?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No.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59080" y="3060720"/>
            <a:ext cx="2514600" cy="2352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73680" y="385920"/>
            <a:ext cx="5421240" cy="30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421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Would you like to use the bow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73680" y="385920"/>
            <a:ext cx="5421240" cy="30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421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Would you like to use the sp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93600" y="4067280"/>
            <a:ext cx="29800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73680" y="385920"/>
            <a:ext cx="5421240" cy="30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421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Would you like to use the chopstic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44480" y="2901960"/>
            <a:ext cx="24958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73680" y="385920"/>
            <a:ext cx="5421240" cy="30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421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Would you like to use the gla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1232" b="9433"/>
          <a:stretch/>
        </p:blipFill>
        <p:spPr>
          <a:xfrm>
            <a:off x="1314360" y="3784680"/>
            <a:ext cx="29448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微软雅黑"/>
              </a:rPr>
              <a:t>chant</a:t>
            </a: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Apple juice, orange juice,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Drink them with your food.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Orange juice, apple juice,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They are good for Ruth.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微软雅黑"/>
              </a:rPr>
              <a:t>Homework</a:t>
            </a: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背诵课文和单词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完成课后习题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5f5f5f"/>
                </a:solidFill>
                <a:latin typeface="微软雅黑"/>
              </a:rPr>
              <a:t>   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5f5f5f"/>
                </a:solidFill>
                <a:latin typeface="微软雅黑"/>
              </a:rPr>
              <a:t>   </a:t>
            </a:r>
            <a:r>
              <a:rPr b="1" lang="zh-CN" sz="3600" spc="-1" strike="noStrike">
                <a:solidFill>
                  <a:srgbClr val="5f5f5f"/>
                </a:solidFill>
                <a:latin typeface="微软雅黑"/>
              </a:rPr>
              <a:t>review           </a:t>
            </a:r>
            <a:r>
              <a:rPr b="1" lang="zh-CN" sz="3600" spc="-1" strike="noStrike">
                <a:solidFill>
                  <a:srgbClr val="5f5f5f"/>
                </a:solidFill>
                <a:latin typeface="微软雅黑"/>
              </a:rPr>
              <a:t>回顾单词的意思</a:t>
            </a:r>
            <a:endParaRPr b="1" lang="en-US" sz="36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chair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bed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love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37" name=""/>
          <p:cNvSpPr/>
          <p:nvPr/>
        </p:nvSpPr>
        <p:spPr>
          <a:xfrm>
            <a:off x="34592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  <a:ea typeface="幼圆"/>
              </a:rPr>
              <a:t>椅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  <a:ea typeface="幼圆"/>
              </a:rPr>
              <a:t>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  <a:ea typeface="幼圆"/>
              </a:rPr>
              <a:t>喜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big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room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sit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sp>
        <p:nvSpPr>
          <p:cNvPr id="139" name=""/>
          <p:cNvSpPr/>
          <p:nvPr/>
        </p:nvSpPr>
        <p:spPr>
          <a:xfrm>
            <a:off x="2898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  <a:ea typeface="幼圆"/>
              </a:rPr>
              <a:t>大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  <a:ea typeface="幼圆"/>
              </a:rPr>
              <a:t>房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421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  <a:ea typeface="幼圆"/>
              </a:rPr>
              <a:t>坐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592280"/>
            <a:ext cx="8315280" cy="5265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19640" y="260280"/>
            <a:ext cx="5184720" cy="1368360"/>
          </a:xfrm>
          <a:prstGeom prst="wedgeEllipseCallout">
            <a:avLst>
              <a:gd name="adj1" fmla="val 21310"/>
              <a:gd name="adj2" fmla="val 149884"/>
            </a:avLst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4e3f"/>
                </a:solidFill>
                <a:latin typeface="Arial"/>
              </a:rPr>
              <a:t>large(</a:t>
            </a:r>
            <a:r>
              <a:rPr b="0" lang="zh-CN" sz="4800" spc="-1" strike="noStrike">
                <a:solidFill>
                  <a:srgbClr val="fb4e3f"/>
                </a:solidFill>
                <a:latin typeface="Arial"/>
              </a:rPr>
              <a:t>大的</a:t>
            </a:r>
            <a:r>
              <a:rPr b="0" lang="en-US" sz="4800" spc="-1" strike="noStrike">
                <a:solidFill>
                  <a:srgbClr val="fb4e3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97000"/>
            <a:ext cx="4788000" cy="1224000"/>
          </a:xfrm>
          <a:prstGeom prst="wedgeEllipseCallout">
            <a:avLst>
              <a:gd name="adj1" fmla="val -16675"/>
              <a:gd name="adj2" fmla="val 145981"/>
            </a:avLst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4e3f"/>
                </a:solidFill>
                <a:latin typeface="Arial"/>
              </a:rPr>
              <a:t>small(</a:t>
            </a:r>
            <a:r>
              <a:rPr b="0" lang="zh-CN" sz="4800" spc="-1" strike="noStrike">
                <a:solidFill>
                  <a:srgbClr val="fb4e3f"/>
                </a:solidFill>
                <a:latin typeface="Arial"/>
              </a:rPr>
              <a:t>小的</a:t>
            </a:r>
            <a:r>
              <a:rPr b="0" lang="en-US" sz="4800" spc="-1" strike="noStrike">
                <a:solidFill>
                  <a:srgbClr val="fb4e3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23472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微软雅黑"/>
              </a:rPr>
              <a:t>fridge</a:t>
            </a:r>
            <a:endParaRPr b="1" lang="en-US" sz="3200" spc="-1" strike="noStrike">
              <a:solidFill>
                <a:srgbClr val="5f5f5f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9040" y="1123920"/>
            <a:ext cx="8291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2180"/>
                </a:solidFill>
                <a:latin typeface="幼圆"/>
              </a:rPr>
              <a:t>冰箱</a:t>
            </a:r>
            <a:endParaRPr b="0" lang="en-US" sz="2400" spc="-1" strike="noStrike">
              <a:solidFill>
                <a:srgbClr val="e42180"/>
              </a:solidFill>
              <a:latin typeface="幼圆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46520" y="2041560"/>
            <a:ext cx="50482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KSO_BC1" descr=""/>
          <p:cNvPicPr/>
          <p:nvPr/>
        </p:nvPicPr>
        <p:blipFill>
          <a:blip r:embed="rId1"/>
          <a:stretch/>
        </p:blipFill>
        <p:spPr>
          <a:xfrm>
            <a:off x="2771640" y="1900080"/>
            <a:ext cx="6610320" cy="4957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2808360" cy="2106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76360" y="404640"/>
            <a:ext cx="6696000" cy="1368720"/>
          </a:xfrm>
          <a:prstGeom prst="wedgeEllipseCallout">
            <a:avLst>
              <a:gd name="adj1" fmla="val 34236"/>
              <a:gd name="adj2" fmla="val 139328"/>
            </a:avLst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4e3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b4e3f"/>
                </a:solidFill>
                <a:latin typeface="Arial"/>
              </a:rPr>
              <a:t>a large kitch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044720" y="1916280"/>
            <a:ext cx="6912000" cy="1368360"/>
          </a:xfrm>
          <a:prstGeom prst="wedgeEllipseCallout">
            <a:avLst>
              <a:gd name="adj1" fmla="val -11875"/>
              <a:gd name="adj2" fmla="val 133990"/>
            </a:avLst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4e3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b4e3f"/>
                </a:solidFill>
                <a:latin typeface="Arial"/>
              </a:rPr>
              <a:t>a small kitch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6300720" cy="4725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260280"/>
            <a:ext cx="5651640" cy="1368360"/>
          </a:xfrm>
          <a:prstGeom prst="wedgeEllipseCallout">
            <a:avLst>
              <a:gd name="adj1" fmla="val -21402"/>
              <a:gd name="adj2" fmla="val 179004"/>
            </a:avLst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4e3f"/>
                </a:solidFill>
                <a:latin typeface="Arial"/>
              </a:rPr>
              <a:t>a small stu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1413000"/>
            <a:ext cx="5651280" cy="1368360"/>
          </a:xfrm>
          <a:prstGeom prst="wedgeEllipseCallout">
            <a:avLst>
              <a:gd name="adj1" fmla="val 7305"/>
              <a:gd name="adj2" fmla="val 155569"/>
            </a:avLst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4e3f"/>
                </a:solidFill>
                <a:latin typeface="Arial"/>
              </a:rPr>
              <a:t>a large stu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593640"/>
            <a:ext cx="8352000" cy="6264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0920" y="404640"/>
            <a:ext cx="4535280" cy="1224000"/>
          </a:xfrm>
          <a:prstGeom prst="wedgeRoundRectCallout">
            <a:avLst>
              <a:gd name="adj1" fmla="val 37782"/>
              <a:gd name="adj2" fmla="val 130675"/>
              <a:gd name="adj3" fmla="val 16667"/>
            </a:avLst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b4e3f"/>
                </a:solidFill>
                <a:latin typeface="Arial"/>
              </a:rPr>
              <a:t>a clean toil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404640"/>
            <a:ext cx="4535280" cy="1224000"/>
          </a:xfrm>
          <a:prstGeom prst="wedgeRoundRectCallout">
            <a:avLst>
              <a:gd name="adj1" fmla="val 37782"/>
              <a:gd name="adj2" fmla="val 130675"/>
              <a:gd name="adj3" fmla="val 16667"/>
            </a:avLst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b4e3f"/>
                </a:solidFill>
                <a:latin typeface="Arial"/>
              </a:rPr>
              <a:t>a big frid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1520" y="2793960"/>
            <a:ext cx="446544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dc:language>en-US</dc:language>
  <cp:lastModifiedBy/>
  <dcterms:modified xsi:type="dcterms:W3CDTF">2015-06-27T10:17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