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582-6F3B-4FB5-BEBC-C3D996F9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F66-68D9-487C-A6DD-435FB1D4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D07-F66A-469E-9900-8A5E6C75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A8D-2E52-4910-B96C-89FE163D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A21-3411-478E-81A7-C4EF520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F23-31D0-4B19-889B-6780485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22D-B46C-401E-8799-75C1606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07E-1779-4827-873D-05B48A3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05D-DD09-4DE9-95BB-44D17D0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91B-C234-4DBA-BADA-C68ECD00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FFD-F198-410E-87C6-A200A65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300-6CE0-46EC-B64B-1D82AF3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C431-C479-4819-937C-5E8A5D628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S UI Gothic"/>
                <a:ea typeface="MS UI Gothic"/>
              </a:rPr>
              <a:t>Unit 3 Welcome to 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0560" y="2997360"/>
            <a:ext cx="295272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haroni"/>
              </a:rPr>
              <a:t>Lesso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haroni"/>
              </a:rPr>
              <a:t>课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um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bathroom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019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bathroo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044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04440" cy="441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 flipH="1" rot="21480000">
            <a:off x="178920" y="3645000"/>
            <a:ext cx="2721240" cy="3049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84280" y="40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ure. It's over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9880" cy="358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79280" y="117360"/>
            <a:ext cx="8866440" cy="6599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I want to call my mum. Can I use your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phone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 pl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24000" y="5518080"/>
            <a:ext cx="5565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Yes. Go ah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932360" y="2492280"/>
            <a:ext cx="1511280" cy="1513080"/>
          </a:xfrm>
          <a:prstGeom prst="flowChartConnector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627280" y="2997360"/>
            <a:ext cx="2243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c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692360" y="2438280"/>
            <a:ext cx="43657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an I use the bathroom,p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an I use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260360" y="328608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an I use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44720" y="3213000"/>
            <a:ext cx="28652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an I use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63640" y="2925720"/>
            <a:ext cx="28288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习前面所学课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课后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 flipH="1" rot="21480000">
            <a:off x="323280" y="3500280"/>
            <a:ext cx="2720880" cy="3049920"/>
          </a:xfrm>
          <a:prstGeom prst="rect">
            <a:avLst/>
          </a:prstGeom>
          <a:ln w="0">
            <a:noFill/>
          </a:ln>
        </p:spPr>
      </p:pic>
      <p:pic>
        <p:nvPicPr>
          <p:cNvPr id="45" name="Object 3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2403360" cy="33084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4" descr=""/>
          <p:cNvPicPr/>
          <p:nvPr/>
        </p:nvPicPr>
        <p:blipFill>
          <a:blip r:embed="rId3"/>
          <a:stretch/>
        </p:blipFill>
        <p:spPr>
          <a:xfrm>
            <a:off x="6227640" y="1628640"/>
            <a:ext cx="2640240" cy="358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584280" y="4017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haroni"/>
                <a:ea typeface="Aharoni"/>
              </a:rPr>
              <a:t>Welcome to my house</a:t>
            </a:r>
            <a:r>
              <a:rPr b="1" lang="zh-CN" sz="4400" spc="-1" strike="noStrike">
                <a:solidFill>
                  <a:srgbClr val="ff0000"/>
                </a:solidFill>
                <a:latin typeface="Aharoni"/>
                <a:ea typeface="Aharoni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6836040" cy="50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 flipH="1" rot="21480000">
            <a:off x="178920" y="3645000"/>
            <a:ext cx="2721240" cy="3049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24000" y="260280"/>
            <a:ext cx="820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S UI Gothic"/>
                <a:ea typeface="MS UI Gothic"/>
              </a:rPr>
              <a:t>Would you like to</a:t>
            </a:r>
            <a:r>
              <a:rPr b="1" lang="zh-CN" sz="4000" spc="-1" strike="noStrike">
                <a:solidFill>
                  <a:srgbClr val="000000"/>
                </a:solidFill>
                <a:latin typeface="MS UI Gothic"/>
                <a:ea typeface="MS UI Gothic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MS UI Gothic"/>
                <a:ea typeface="MS UI Gothic"/>
              </a:rPr>
              <a:t>come to my room</a:t>
            </a:r>
            <a:r>
              <a:rPr b="1" lang="zh-CN" sz="4000" spc="-1" strike="noStrike">
                <a:solidFill>
                  <a:srgbClr val="000000"/>
                </a:solidFill>
                <a:latin typeface="Aharoni"/>
                <a:ea typeface="Aharoni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S UI Gothic"/>
                <a:ea typeface="MS UI Gothic"/>
              </a:rPr>
              <a:t>Yes</a:t>
            </a:r>
            <a:r>
              <a:rPr b="1" lang="zh-CN" sz="4400" spc="-1" strike="noStrike">
                <a:solidFill>
                  <a:srgbClr val="ff0000"/>
                </a:solidFill>
                <a:latin typeface="MS UI Gothic"/>
                <a:ea typeface="MS UI Gothic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MS UI Gothic"/>
                <a:ea typeface="MS UI Gothic"/>
              </a:rPr>
              <a:t>we'd lov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435560" y="3213000"/>
            <a:ext cx="4459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9440" y="614520"/>
            <a:ext cx="8923320" cy="5627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11280" y="5157720"/>
            <a:ext cx="5832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e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332000" y="981000"/>
            <a:ext cx="640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ou have a nice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hai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2640240" cy="3584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84280" y="40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S UI Gothic"/>
                <a:ea typeface="MS UI Gothic"/>
              </a:rPr>
              <a:t>I'm thir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583240" cy="6048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You have a big fridg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I'd like to have some apple ju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5280" y="1339920"/>
            <a:ext cx="2790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0:01:03Z</dcterms:created>
  <dc:creator/>
  <dc:description/>
  <dc:language>en-US</dc:language>
  <cp:lastModifiedBy>Administrator</cp:lastModifiedBy>
  <dcterms:modified xsi:type="dcterms:W3CDTF">2017-04-19T07:40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