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487-0F13-4C26-97ED-2C8E1D92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080" y="3915000"/>
            <a:ext cx="8289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21AA-9086-4AE8-8027-F7C7722A4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6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4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718-279D-4072-B93D-2B13BA57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9040" y="11304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2000" y="11304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6080" y="39150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9040" y="39150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2000" y="39150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142-1DA1-4B83-A3D8-0C946A31A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1586-DCDC-49D1-BEAC-77F8A430C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6797-E046-41A5-8A1A-E495485B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AF858-7330-465E-9A0B-B737BE71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9CBB-B859-4FAE-8B13-D3A637D2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4DCFC-5ABE-42CB-99B8-08D32C21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26960" y="90360"/>
            <a:ext cx="8290080" cy="35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B61D-39AA-4925-BE36-F528D26F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6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617C-7586-45AC-B592-35F4329C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E35-16A9-4268-A712-6569EF7B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4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AF28-4F15-4033-9856-C591A969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06080" y="3915000"/>
            <a:ext cx="8289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9EBC-810E-493F-92F0-77967871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6080" y="3915000"/>
            <a:ext cx="8289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62912-6D52-46C4-BC71-C8CB85CD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06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4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1107-25BC-4F4D-BC9B-A146D61D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09040" y="11304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2000" y="11304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06080" y="39150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09040" y="39150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2000" y="39150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6CF2-C366-441B-AB9E-02FEF4B2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08D3A-1E5B-422B-9D7B-78B97C50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9C764-B676-419E-8EF8-46D664C7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FEE18-B2A8-468F-B566-1F9CCA29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AE921-C471-4E04-8D9E-74C6029D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7191A-39A3-4191-A3F1-E59B5BA9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B49F-7CF4-4A8F-8F9F-CD745C08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26960" y="90360"/>
            <a:ext cx="8290080" cy="35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90B4-90AD-4869-85F8-B47B4802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6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4320B-29F5-42F9-BD0C-414349FE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54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8D5AE-682E-4A9B-98D6-10243939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06080" y="3915000"/>
            <a:ext cx="8289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0DAC7-3BC1-4F30-9A99-CE529CAE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06080" y="3915000"/>
            <a:ext cx="8289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9AC84-58FF-4F0B-B753-F57B2A5AE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06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54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AB02-AF98-42DA-BDEC-6BF8788A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09040" y="11304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12000" y="11304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06080" y="39150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09040" y="39150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12000" y="3915000"/>
            <a:ext cx="266904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CC70A-0591-408F-8738-EB09F50D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3E5-FDD3-49A9-898A-AB33D730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6AC-E53F-40EC-B204-D2D3E170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6960" y="90360"/>
            <a:ext cx="8290080" cy="35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2B5F-B2C9-4055-80F8-BF167B89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6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12BA-2A45-42C7-9CD7-8646A097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4080" y="39150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DB5-C3C9-4D4E-8D21-D19194BA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4080" y="1130400"/>
            <a:ext cx="40453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6080" y="3915000"/>
            <a:ext cx="8289720" cy="254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A7B-7C2F-49B1-81E2-9CD3379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0845-A7C6-43F6-B9C7-BC29587B3DF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88094-9B36-40DA-ACF0-B48A4AC7F21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8"/>
          <p:cNvGrpSpPr/>
          <p:nvPr/>
        </p:nvGrpSpPr>
        <p:grpSpPr>
          <a:xfrm>
            <a:off x="0" y="0"/>
            <a:ext cx="9144000" cy="927000"/>
            <a:chOff x="0" y="0"/>
            <a:chExt cx="9144000" cy="927000"/>
          </a:xfrm>
        </p:grpSpPr>
        <p:pic>
          <p:nvPicPr>
            <p:cNvPr id="42" name="图片 7" descr=""/>
            <p:cNvPicPr/>
            <p:nvPr/>
          </p:nvPicPr>
          <p:blipFill>
            <a:blip r:embed="rId2"/>
            <a:srcRect l="0" t="89119" r="0" b="0"/>
            <a:stretch/>
          </p:blipFill>
          <p:spPr>
            <a:xfrm>
              <a:off x="0" y="2160"/>
              <a:ext cx="914400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矩形 6"/>
            <p:cNvSpPr/>
            <p:nvPr/>
          </p:nvSpPr>
          <p:spPr>
            <a:xfrm>
              <a:off x="0" y="0"/>
              <a:ext cx="9144000" cy="927000"/>
            </a:xfrm>
            <a:prstGeom prst="rect">
              <a:avLst/>
            </a:prstGeom>
            <a:solidFill>
              <a:srgbClr val="358cc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1" marL="266760" indent="-26676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Calibri"/>
              <a:buChar char=" 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2" marL="360360" indent="-712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Calibri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3" marL="504720" indent="-712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Calibri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4" marL="650880" indent="-712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Calibri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5" marL="650880" indent="-712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Calibri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6" marL="650880" indent="-712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Calibri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33F6-4E22-483E-A466-242050AD3826}" type="datetime">
              <a:rPr b="0" lang="zh-CN" sz="300" spc="-1" strike="noStrike">
                <a:solidFill>
                  <a:srgbClr val="a6a6a6"/>
                </a:solidFill>
                <a:latin typeface="Times New Roman"/>
              </a:rPr>
              <a:t>26/7/28</a:t>
            </a:fld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98F1-7F0F-4649-BB11-458C249295C4}" type="slidenum">
              <a:rPr b="0" lang="zh-CN" sz="3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grpSp>
        <p:nvGrpSpPr>
          <p:cNvPr id="49" name="组合 10"/>
          <p:cNvGrpSpPr/>
          <p:nvPr/>
        </p:nvGrpSpPr>
        <p:grpSpPr>
          <a:xfrm>
            <a:off x="0" y="6461280"/>
            <a:ext cx="9144000" cy="396720"/>
            <a:chOff x="0" y="6461280"/>
            <a:chExt cx="9144000" cy="396720"/>
          </a:xfrm>
        </p:grpSpPr>
        <p:pic>
          <p:nvPicPr>
            <p:cNvPr id="50" name="图片 11" descr=""/>
            <p:cNvPicPr/>
            <p:nvPr/>
          </p:nvPicPr>
          <p:blipFill>
            <a:blip r:embed="rId3"/>
            <a:srcRect l="0" t="89119" r="0" b="0"/>
            <a:stretch/>
          </p:blipFill>
          <p:spPr>
            <a:xfrm>
              <a:off x="0" y="6462000"/>
              <a:ext cx="9144000" cy="3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矩形 12"/>
            <p:cNvSpPr/>
            <p:nvPr/>
          </p:nvSpPr>
          <p:spPr>
            <a:xfrm>
              <a:off x="0" y="6461280"/>
              <a:ext cx="9144000" cy="396720"/>
            </a:xfrm>
            <a:prstGeom prst="rect">
              <a:avLst/>
            </a:prstGeom>
            <a:solidFill>
              <a:srgbClr val="358cc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3"/>
          <p:cNvSpPr/>
          <p:nvPr/>
        </p:nvSpPr>
        <p:spPr>
          <a:xfrm>
            <a:off x="0" y="0"/>
            <a:ext cx="9144000" cy="6896160"/>
          </a:xfrm>
          <a:prstGeom prst="rect">
            <a:avLst/>
          </a:prstGeom>
          <a:solidFill>
            <a:srgbClr val="358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任意多边形 14"/>
          <p:cNvSpPr/>
          <p:nvPr/>
        </p:nvSpPr>
        <p:spPr>
          <a:xfrm rot="13350600">
            <a:off x="17640" y="-2843280"/>
            <a:ext cx="8618400" cy="8877240"/>
          </a:xfrm>
          <a:custGeom>
            <a:avLst/>
            <a:gdLst/>
            <a:ahLst/>
            <a:rect l="l" t="t" r="r" b="b"/>
            <a:pathLst>
              <a:path w="8618466" h="8877638">
                <a:moveTo>
                  <a:pt x="8618466" y="2717637"/>
                </a:moveTo>
                <a:lnTo>
                  <a:pt x="1843929" y="8877638"/>
                </a:lnTo>
                <a:lnTo>
                  <a:pt x="139426" y="7033167"/>
                </a:lnTo>
                <a:lnTo>
                  <a:pt x="104969" y="6872697"/>
                </a:lnTo>
                <a:cubicBezTo>
                  <a:pt x="-316496" y="4683300"/>
                  <a:pt x="547487" y="2390745"/>
                  <a:pt x="2403984" y="1058989"/>
                </a:cubicBezTo>
                <a:cubicBezTo>
                  <a:pt x="3521088" y="257635"/>
                  <a:pt x="4838669" y="-82769"/>
                  <a:pt x="6122066" y="16900"/>
                </a:cubicBezTo>
                <a:lnTo>
                  <a:pt x="6144967" y="19287"/>
                </a:lnTo>
                <a:lnTo>
                  <a:pt x="8618466" y="27176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等腰三角形 15"/>
          <p:cNvSpPr/>
          <p:nvPr/>
        </p:nvSpPr>
        <p:spPr>
          <a:xfrm flipH="1" rot="18000000">
            <a:off x="6141600" y="2166840"/>
            <a:ext cx="444960" cy="28908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等腰三角形 16"/>
          <p:cNvSpPr/>
          <p:nvPr/>
        </p:nvSpPr>
        <p:spPr>
          <a:xfrm flipH="1" rot="19813800">
            <a:off x="3701520" y="1487520"/>
            <a:ext cx="331920" cy="385200"/>
          </a:xfrm>
          <a:prstGeom prst="triangle">
            <a:avLst>
              <a:gd name="adj" fmla="val 50000"/>
            </a:avLst>
          </a:prstGeom>
          <a:solidFill>
            <a:srgbClr val="1b90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等腰三角形 17"/>
          <p:cNvSpPr/>
          <p:nvPr/>
        </p:nvSpPr>
        <p:spPr>
          <a:xfrm flipH="1" rot="18000000">
            <a:off x="2220120" y="6292080"/>
            <a:ext cx="442800" cy="2887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等腰三角形 18"/>
          <p:cNvSpPr/>
          <p:nvPr/>
        </p:nvSpPr>
        <p:spPr>
          <a:xfrm flipH="1" rot="19813800">
            <a:off x="1685520" y="1046160"/>
            <a:ext cx="333360" cy="385560"/>
          </a:xfrm>
          <a:prstGeom prst="triangle">
            <a:avLst>
              <a:gd name="adj" fmla="val 50000"/>
            </a:avLst>
          </a:prstGeom>
          <a:solidFill>
            <a:srgbClr val="fdc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19"/>
          <p:cNvSpPr/>
          <p:nvPr/>
        </p:nvSpPr>
        <p:spPr>
          <a:xfrm flipH="1" rot="18000000">
            <a:off x="2637720" y="5220720"/>
            <a:ext cx="442800" cy="288720"/>
          </a:xfrm>
          <a:prstGeom prst="triangle">
            <a:avLst>
              <a:gd name="adj" fmla="val 50000"/>
            </a:avLst>
          </a:prstGeom>
          <a:solidFill>
            <a:srgbClr val="55c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0"/>
          <p:cNvSpPr/>
          <p:nvPr/>
        </p:nvSpPr>
        <p:spPr>
          <a:xfrm flipH="1" rot="18000000">
            <a:off x="963360" y="2544480"/>
            <a:ext cx="442800" cy="290520"/>
          </a:xfrm>
          <a:prstGeom prst="triangle">
            <a:avLst>
              <a:gd name="adj" fmla="val 50000"/>
            </a:avLst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21"/>
          <p:cNvGrpSpPr/>
          <p:nvPr/>
        </p:nvGrpSpPr>
        <p:grpSpPr>
          <a:xfrm>
            <a:off x="1245240" y="3284280"/>
            <a:ext cx="1049400" cy="944640"/>
            <a:chOff x="1245240" y="3284280"/>
            <a:chExt cx="1049400" cy="944640"/>
          </a:xfrm>
        </p:grpSpPr>
        <p:sp>
          <p:nvSpPr>
            <p:cNvPr id="97" name="等腰三角形 22"/>
            <p:cNvSpPr/>
            <p:nvPr/>
          </p:nvSpPr>
          <p:spPr>
            <a:xfrm flipH="1" rot="19813800">
              <a:off x="1603440" y="3341160"/>
              <a:ext cx="332640" cy="385560"/>
            </a:xfrm>
            <a:prstGeom prst="triangle">
              <a:avLst>
                <a:gd name="adj" fmla="val 50000"/>
              </a:avLst>
            </a:prstGeom>
            <a:solidFill>
              <a:srgbClr val="1b9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等腰三角形 23"/>
            <p:cNvSpPr/>
            <p:nvPr/>
          </p:nvSpPr>
          <p:spPr>
            <a:xfrm flipH="1" rot="19813800">
              <a:off x="1603440" y="3785760"/>
              <a:ext cx="332640" cy="385560"/>
            </a:xfrm>
            <a:prstGeom prst="triangle">
              <a:avLst>
                <a:gd name="adj" fmla="val 50000"/>
              </a:avLst>
            </a:prstGeom>
            <a:solidFill>
              <a:srgbClr val="93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等腰三角形 24"/>
            <p:cNvSpPr/>
            <p:nvPr/>
          </p:nvSpPr>
          <p:spPr>
            <a:xfrm flipH="1" rot="19813800">
              <a:off x="1888200" y="3563280"/>
              <a:ext cx="332640" cy="385560"/>
            </a:xfrm>
            <a:prstGeom prst="triangle">
              <a:avLst>
                <a:gd name="adj" fmla="val 50000"/>
              </a:avLst>
            </a:prstGeom>
            <a:solidFill>
              <a:srgbClr val="55c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等腰三角形 25"/>
            <p:cNvSpPr/>
            <p:nvPr/>
          </p:nvSpPr>
          <p:spPr>
            <a:xfrm flipH="1" rot="19813800">
              <a:off x="1319040" y="3563280"/>
              <a:ext cx="332640" cy="385560"/>
            </a:xfrm>
            <a:prstGeom prst="triangle">
              <a:avLst>
                <a:gd name="adj" fmla="val 50000"/>
              </a:avLst>
            </a:prstGeom>
            <a:solidFill>
              <a:srgbClr val="fdc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26"/>
          <p:cNvGrpSpPr/>
          <p:nvPr/>
        </p:nvGrpSpPr>
        <p:grpSpPr>
          <a:xfrm>
            <a:off x="6849000" y="3284280"/>
            <a:ext cx="1049400" cy="944280"/>
            <a:chOff x="6849000" y="3284280"/>
            <a:chExt cx="1049400" cy="944280"/>
          </a:xfrm>
        </p:grpSpPr>
        <p:sp>
          <p:nvSpPr>
            <p:cNvPr id="102" name="等腰三角形 27"/>
            <p:cNvSpPr/>
            <p:nvPr/>
          </p:nvSpPr>
          <p:spPr>
            <a:xfrm rot="1786200">
              <a:off x="7207560" y="3341160"/>
              <a:ext cx="332640" cy="385560"/>
            </a:xfrm>
            <a:prstGeom prst="triangle">
              <a:avLst>
                <a:gd name="adj" fmla="val 50000"/>
              </a:avLst>
            </a:prstGeom>
            <a:solidFill>
              <a:srgbClr val="1b9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等腰三角形 28"/>
            <p:cNvSpPr/>
            <p:nvPr/>
          </p:nvSpPr>
          <p:spPr>
            <a:xfrm rot="1786200">
              <a:off x="7207560" y="3785760"/>
              <a:ext cx="332640" cy="385560"/>
            </a:xfrm>
            <a:prstGeom prst="triangle">
              <a:avLst>
                <a:gd name="adj" fmla="val 50000"/>
              </a:avLst>
            </a:prstGeom>
            <a:solidFill>
              <a:srgbClr val="93b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等腰三角形 29"/>
            <p:cNvSpPr/>
            <p:nvPr/>
          </p:nvSpPr>
          <p:spPr>
            <a:xfrm rot="1786200">
              <a:off x="6922800" y="3563280"/>
              <a:ext cx="332640" cy="385560"/>
            </a:xfrm>
            <a:prstGeom prst="triangle">
              <a:avLst>
                <a:gd name="adj" fmla="val 50000"/>
              </a:avLst>
            </a:prstGeom>
            <a:solidFill>
              <a:srgbClr val="55c1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等腰三角形 30"/>
            <p:cNvSpPr/>
            <p:nvPr/>
          </p:nvSpPr>
          <p:spPr>
            <a:xfrm rot="1786200">
              <a:off x="7491960" y="3563280"/>
              <a:ext cx="332640" cy="385560"/>
            </a:xfrm>
            <a:prstGeom prst="triangle">
              <a:avLst>
                <a:gd name="adj" fmla="val 50000"/>
              </a:avLst>
            </a:prstGeom>
            <a:solidFill>
              <a:srgbClr val="fdcd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685800"/>
                  <a:tab algn="l" pos="1371600"/>
                  <a:tab algn="l" pos="2057400"/>
                  <a:tab algn="l" pos="2743200"/>
                  <a:tab algn="l" pos="3429000"/>
                  <a:tab algn="l" pos="4114800"/>
                  <a:tab algn="l" pos="4800600"/>
                  <a:tab algn="l" pos="5486400"/>
                  <a:tab algn="l" pos="6172200"/>
                  <a:tab algn="l" pos="6858000"/>
                  <a:tab algn="l" pos="7543800"/>
                  <a:tab algn="l" pos="8229600"/>
                  <a:tab algn="l" pos="8915400"/>
                  <a:tab algn="l" pos="96012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等腰三角形 31"/>
          <p:cNvSpPr/>
          <p:nvPr/>
        </p:nvSpPr>
        <p:spPr>
          <a:xfrm flipH="1" rot="6300000">
            <a:off x="7957080" y="5193720"/>
            <a:ext cx="442800" cy="288360"/>
          </a:xfrm>
          <a:prstGeom prst="triangle">
            <a:avLst>
              <a:gd name="adj" fmla="val 50000"/>
            </a:avLst>
          </a:prstGeom>
          <a:solidFill>
            <a:srgbClr val="55c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等腰三角形 32"/>
          <p:cNvSpPr/>
          <p:nvPr/>
        </p:nvSpPr>
        <p:spPr>
          <a:xfrm flipH="1" rot="21257400">
            <a:off x="452520" y="5433840"/>
            <a:ext cx="333360" cy="385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等腰三角形 33"/>
          <p:cNvSpPr/>
          <p:nvPr/>
        </p:nvSpPr>
        <p:spPr>
          <a:xfrm flipH="1" rot="1540200">
            <a:off x="808920" y="5562360"/>
            <a:ext cx="333360" cy="385560"/>
          </a:xfrm>
          <a:prstGeom prst="triangle">
            <a:avLst>
              <a:gd name="adj" fmla="val 50000"/>
            </a:avLst>
          </a:prstGeom>
          <a:solidFill>
            <a:srgbClr val="55c1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等腰三角形 34"/>
          <p:cNvSpPr/>
          <p:nvPr/>
        </p:nvSpPr>
        <p:spPr>
          <a:xfrm flipH="1" rot="20541000">
            <a:off x="1387080" y="6281280"/>
            <a:ext cx="332280" cy="385560"/>
          </a:xfrm>
          <a:prstGeom prst="triangle">
            <a:avLst>
              <a:gd name="adj" fmla="val 50000"/>
            </a:avLst>
          </a:prstGeom>
          <a:solidFill>
            <a:srgbClr val="fdc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等腰三角形 35"/>
          <p:cNvSpPr/>
          <p:nvPr/>
        </p:nvSpPr>
        <p:spPr>
          <a:xfrm flipH="1" rot="20541000">
            <a:off x="7246440" y="6281280"/>
            <a:ext cx="332280" cy="385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等腰三角形 36"/>
          <p:cNvSpPr/>
          <p:nvPr/>
        </p:nvSpPr>
        <p:spPr>
          <a:xfrm flipH="1">
            <a:off x="8497800" y="6167520"/>
            <a:ext cx="333360" cy="385560"/>
          </a:xfrm>
          <a:prstGeom prst="triangle">
            <a:avLst>
              <a:gd name="adj" fmla="val 50000"/>
            </a:avLst>
          </a:prstGeom>
          <a:solidFill>
            <a:srgbClr val="fdcd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1" marL="266760" indent="-26676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Calibri"/>
              <a:buChar char=" 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2" marL="360360" indent="-712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Calibri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3" marL="504720" indent="-712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Calibri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4" marL="650880" indent="-71280">
              <a:lnSpc>
                <a:spcPct val="90000"/>
              </a:lnSpc>
              <a:spcBef>
                <a:spcPts val="901"/>
              </a:spcBef>
              <a:buClr>
                <a:srgbClr val="7f7f7f"/>
              </a:buClr>
              <a:buFont typeface="Calibri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5" marL="650880" indent="-712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Calibri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lvl="6" marL="650880" indent="-71280">
              <a:lnSpc>
                <a:spcPct val="90000"/>
              </a:lnSpc>
              <a:spcBef>
                <a:spcPts val="901"/>
              </a:spcBef>
              <a:buClr>
                <a:srgbClr val="5f5f5f"/>
              </a:buClr>
              <a:buFont typeface="Calibri"/>
              <a:buChar char="•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en-US" sz="2800" spc="-1" strike="noStrike">
                <a:solidFill>
                  <a:srgbClr val="358cc1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roadway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4FDC-963B-4510-90FE-49B32351C054}" type="datetime">
              <a:rPr b="0" lang="zh-CN" sz="300" spc="-1" strike="noStrike">
                <a:solidFill>
                  <a:srgbClr val="a6a6a6"/>
                </a:solidFill>
                <a:latin typeface="Times New Roman"/>
              </a:rPr>
              <a:t>26/7/28</a:t>
            </a:fld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3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F4A2-A9B9-4DF0-9A15-067DAF9D73FA}" type="slidenum">
              <a:rPr b="0" lang="zh-CN" sz="3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30320" y="3107880"/>
            <a:ext cx="5587920" cy="10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358cc1"/>
                </a:solidFill>
                <a:latin typeface="Broadway"/>
              </a:rPr>
              <a:t>UNIT THREE WELCOME TO MY HOUSE Lesson 11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930320" y="4229280"/>
            <a:ext cx="558792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Calibri"/>
              </a:rPr>
              <a:t>课件</a:t>
            </a:r>
            <a:endParaRPr b="0" lang="en-US" sz="2400" spc="-1" strike="noStrike">
              <a:solidFill>
                <a:srgbClr val="358cc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否定回答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85" name="AutoShape 3"/>
          <p:cNvSpPr/>
          <p:nvPr/>
        </p:nvSpPr>
        <p:spPr>
          <a:xfrm flipH="1">
            <a:off x="59760" y="1014480"/>
            <a:ext cx="4741560" cy="3322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shampoo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2428920" cy="2428560"/>
          </a:xfrm>
          <a:prstGeom prst="rect">
            <a:avLst/>
          </a:prstGeom>
          <a:ln w="0">
            <a:noFill/>
          </a:ln>
        </p:spPr>
      </p:pic>
      <p:sp>
        <p:nvSpPr>
          <p:cNvPr id="187" name="正圆 66"/>
          <p:cNvSpPr/>
          <p:nvPr/>
        </p:nvSpPr>
        <p:spPr>
          <a:xfrm>
            <a:off x="6945480" y="774720"/>
            <a:ext cx="2290680" cy="2190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5f5f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ou ca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肯定回答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89" name="AutoShape 3"/>
          <p:cNvSpPr/>
          <p:nvPr/>
        </p:nvSpPr>
        <p:spPr>
          <a:xfrm flipH="1">
            <a:off x="59760" y="1014480"/>
            <a:ext cx="4741560" cy="3322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othpast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正圆 66"/>
          <p:cNvSpPr/>
          <p:nvPr/>
        </p:nvSpPr>
        <p:spPr>
          <a:xfrm>
            <a:off x="6818400" y="647640"/>
            <a:ext cx="2290680" cy="2190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ur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984920" y="3952800"/>
            <a:ext cx="30477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否定回答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93" name="AutoShape 3"/>
          <p:cNvSpPr/>
          <p:nvPr/>
        </p:nvSpPr>
        <p:spPr>
          <a:xfrm flipH="1">
            <a:off x="59760" y="1014480"/>
            <a:ext cx="4741560" cy="3322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othpast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984920" y="3952800"/>
            <a:ext cx="3047760" cy="1933560"/>
          </a:xfrm>
          <a:prstGeom prst="rect">
            <a:avLst/>
          </a:prstGeom>
          <a:ln w="0">
            <a:noFill/>
          </a:ln>
        </p:spPr>
      </p:pic>
      <p:sp>
        <p:nvSpPr>
          <p:cNvPr id="195" name="正圆 66"/>
          <p:cNvSpPr/>
          <p:nvPr/>
        </p:nvSpPr>
        <p:spPr>
          <a:xfrm>
            <a:off x="6945480" y="774720"/>
            <a:ext cx="2290680" cy="2190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ou ca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肯定回答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97" name="AutoShape 3"/>
          <p:cNvSpPr/>
          <p:nvPr/>
        </p:nvSpPr>
        <p:spPr>
          <a:xfrm flipH="1">
            <a:off x="59760" y="1014480"/>
            <a:ext cx="4741560" cy="3322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wel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正圆 66"/>
          <p:cNvSpPr/>
          <p:nvPr/>
        </p:nvSpPr>
        <p:spPr>
          <a:xfrm>
            <a:off x="6818400" y="647640"/>
            <a:ext cx="2290680" cy="2190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ur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rcRect l="1411" t="0" r="0" b="7631"/>
          <a:stretch/>
        </p:blipFill>
        <p:spPr>
          <a:xfrm>
            <a:off x="4802040" y="3564000"/>
            <a:ext cx="337032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否定回答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01" name="AutoShape 3"/>
          <p:cNvSpPr/>
          <p:nvPr/>
        </p:nvSpPr>
        <p:spPr>
          <a:xfrm flipH="1">
            <a:off x="59760" y="1014480"/>
            <a:ext cx="4741560" cy="3322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wel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rcRect l="1411" t="0" r="0" b="7631"/>
          <a:stretch/>
        </p:blipFill>
        <p:spPr>
          <a:xfrm>
            <a:off x="4802040" y="3564000"/>
            <a:ext cx="3370320" cy="2365200"/>
          </a:xfrm>
          <a:prstGeom prst="rect">
            <a:avLst/>
          </a:prstGeom>
          <a:ln w="0">
            <a:noFill/>
          </a:ln>
        </p:spPr>
      </p:pic>
      <p:sp>
        <p:nvSpPr>
          <p:cNvPr id="203" name="正圆 66"/>
          <p:cNvSpPr/>
          <p:nvPr/>
        </p:nvSpPr>
        <p:spPr>
          <a:xfrm>
            <a:off x="6945480" y="774720"/>
            <a:ext cx="2290680" cy="2190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ou ca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肯定回答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05" name="AutoShape 3"/>
          <p:cNvSpPr/>
          <p:nvPr/>
        </p:nvSpPr>
        <p:spPr>
          <a:xfrm flipH="1">
            <a:off x="59760" y="1014480"/>
            <a:ext cx="4741560" cy="3322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soap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rcRect l="-2305" t="4416" r="174" b="13337"/>
          <a:stretch/>
        </p:blipFill>
        <p:spPr>
          <a:xfrm>
            <a:off x="5462640" y="3498840"/>
            <a:ext cx="2967120" cy="1676520"/>
          </a:xfrm>
          <a:prstGeom prst="rect">
            <a:avLst/>
          </a:prstGeom>
          <a:ln w="0">
            <a:noFill/>
          </a:ln>
        </p:spPr>
      </p:pic>
      <p:sp>
        <p:nvSpPr>
          <p:cNvPr id="207" name="正圆 66"/>
          <p:cNvSpPr/>
          <p:nvPr/>
        </p:nvSpPr>
        <p:spPr>
          <a:xfrm>
            <a:off x="6818400" y="647640"/>
            <a:ext cx="2290680" cy="2190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5f5f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ur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否定回答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09" name="AutoShape 3"/>
          <p:cNvSpPr/>
          <p:nvPr/>
        </p:nvSpPr>
        <p:spPr>
          <a:xfrm flipH="1">
            <a:off x="59760" y="1014480"/>
            <a:ext cx="4741560" cy="3322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soap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正圆 66"/>
          <p:cNvSpPr/>
          <p:nvPr/>
        </p:nvSpPr>
        <p:spPr>
          <a:xfrm>
            <a:off x="6945480" y="774720"/>
            <a:ext cx="2290680" cy="21906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ou ca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rcRect l="-2305" t="4416" r="174" b="13337"/>
          <a:stretch/>
        </p:blipFill>
        <p:spPr>
          <a:xfrm>
            <a:off x="5462640" y="3498840"/>
            <a:ext cx="29671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Answers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Who wants to use the bathroom?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Maomao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Who wants to use the phone?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Guoguo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Homework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背诵课文和单词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表演对话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Review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kitchen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fridge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table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3476520" y="11304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  <a:ea typeface="幼圆"/>
              </a:rPr>
              <a:t>厨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  <a:ea typeface="幼圆"/>
              </a:rPr>
              <a:t>冰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  <a:ea typeface="幼圆"/>
              </a:rPr>
              <a:t>桌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Review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Would you like to use the glasses?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肯定回答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Yes</a:t>
            </a: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， </a:t>
            </a: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I'd love to.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否定回答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No</a:t>
            </a: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，</a:t>
            </a: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thank you.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Questions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Who wants to use the bathroom?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-266760">
              <a:lnSpc>
                <a:spcPct val="90000"/>
              </a:lnSpc>
              <a:spcBef>
                <a:spcPts val="901"/>
              </a:spcBef>
              <a:buClr>
                <a:srgbClr val="009999"/>
              </a:buClr>
              <a:buSzPct val="60000"/>
              <a:buFont typeface="Wingdings 2" charset="2"/>
              <a:buChar char=""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0" lang="zh-CN" sz="2800" spc="-1" strike="noStrike">
                <a:solidFill>
                  <a:srgbClr val="358cc1"/>
                </a:solidFill>
                <a:latin typeface="Calibri"/>
              </a:rPr>
              <a:t>Who wants to use the phone?</a:t>
            </a: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  <a:p>
            <a:pPr marL="2667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en-US" sz="2800" spc="-1" strike="noStrike">
              <a:solidFill>
                <a:srgbClr val="358cc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1" lang="zh-CN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zh-CN" sz="2800" spc="-1" strike="noStrike">
              <a:solidFill>
                <a:srgbClr val="358cc1"/>
              </a:solidFill>
              <a:latin typeface="Calibri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87200" y="433440"/>
            <a:ext cx="9056880" cy="602784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5"/>
          <p:cNvSpPr/>
          <p:nvPr/>
        </p:nvSpPr>
        <p:spPr>
          <a:xfrm flipH="1">
            <a:off x="4826160" y="1444680"/>
            <a:ext cx="3062160" cy="15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athroo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 flipH="1">
            <a:off x="405720" y="1744560"/>
            <a:ext cx="2887560" cy="15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Sur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t's over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 flipH="1">
            <a:off x="5623920" y="2981160"/>
            <a:ext cx="3362040" cy="1538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06080" y="1130400"/>
            <a:ext cx="82897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endParaRPr b="0" lang="zh-CN" sz="2800" spc="-1" strike="noStrike">
              <a:solidFill>
                <a:srgbClr val="358cc1"/>
              </a:solidFill>
              <a:latin typeface="Calibri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290520" y="500040"/>
            <a:ext cx="8561520" cy="5856480"/>
          </a:xfrm>
          <a:prstGeom prst="rect">
            <a:avLst/>
          </a:prstGeom>
          <a:ln w="0">
            <a:noFill/>
          </a:ln>
        </p:spPr>
      </p:pic>
      <p:sp>
        <p:nvSpPr>
          <p:cNvPr id="170" name="AutoShape 4"/>
          <p:cNvSpPr/>
          <p:nvPr/>
        </p:nvSpPr>
        <p:spPr>
          <a:xfrm>
            <a:off x="290520" y="500040"/>
            <a:ext cx="4941720" cy="18511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I want to call my 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hone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 flipH="1">
            <a:off x="5587200" y="1979640"/>
            <a:ext cx="2886120" cy="1536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Yes, go h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肯定回答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73" name="AutoShape 3"/>
          <p:cNvSpPr/>
          <p:nvPr/>
        </p:nvSpPr>
        <p:spPr>
          <a:xfrm flipH="1">
            <a:off x="59760" y="1014480"/>
            <a:ext cx="4741560" cy="3322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athroo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正圆 66"/>
          <p:cNvSpPr/>
          <p:nvPr/>
        </p:nvSpPr>
        <p:spPr>
          <a:xfrm>
            <a:off x="6818400" y="647640"/>
            <a:ext cx="2290680" cy="2190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ur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rcRect l="2665" t="0" r="0" b="3644"/>
          <a:stretch/>
        </p:blipFill>
        <p:spPr>
          <a:xfrm>
            <a:off x="5027760" y="4340160"/>
            <a:ext cx="2735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否定回答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77" name="AutoShape 3"/>
          <p:cNvSpPr/>
          <p:nvPr/>
        </p:nvSpPr>
        <p:spPr>
          <a:xfrm flipH="1">
            <a:off x="59760" y="1014480"/>
            <a:ext cx="4741560" cy="3322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bathroom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正圆 66"/>
          <p:cNvSpPr/>
          <p:nvPr/>
        </p:nvSpPr>
        <p:spPr>
          <a:xfrm>
            <a:off x="6818400" y="647640"/>
            <a:ext cx="2290680" cy="2190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ou can'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rcRect l="2665" t="0" r="0" b="3644"/>
          <a:stretch/>
        </p:blipFill>
        <p:spPr>
          <a:xfrm>
            <a:off x="5027760" y="4340160"/>
            <a:ext cx="2735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26960" y="90360"/>
            <a:ext cx="829008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289080"/>
                <a:tab algn="l" pos="577800"/>
                <a:tab algn="l" pos="866880"/>
                <a:tab algn="l" pos="1155600"/>
                <a:tab algn="l" pos="1444680"/>
                <a:tab algn="l" pos="1733400"/>
                <a:tab algn="l" pos="2022480"/>
                <a:tab algn="l" pos="2311560"/>
                <a:tab algn="l" pos="2600280"/>
                <a:tab algn="l" pos="2889360"/>
                <a:tab algn="l" pos="3178080"/>
                <a:tab algn="l" pos="3467160"/>
                <a:tab algn="l" pos="3755880"/>
                <a:tab algn="l" pos="4044960"/>
                <a:tab algn="l" pos="4334040"/>
                <a:tab algn="l" pos="4622760"/>
                <a:tab algn="l" pos="4911840"/>
                <a:tab algn="l" pos="5200560"/>
                <a:tab algn="l" pos="5489640"/>
                <a:tab algn="l" pos="577836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Broadway"/>
              </a:rPr>
              <a:t>肯定回答</a:t>
            </a:r>
            <a:endParaRPr b="1" lang="en-US" sz="3200" spc="-1" strike="noStrike">
              <a:solidFill>
                <a:srgbClr val="ffffff"/>
              </a:solidFill>
              <a:latin typeface="Broadway"/>
            </a:endParaRPr>
          </a:p>
        </p:txBody>
      </p:sp>
      <p:sp>
        <p:nvSpPr>
          <p:cNvPr id="181" name="AutoShape 3"/>
          <p:cNvSpPr/>
          <p:nvPr/>
        </p:nvSpPr>
        <p:spPr>
          <a:xfrm flipH="1">
            <a:off x="59760" y="1014480"/>
            <a:ext cx="4741560" cy="33224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Can I use the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shampoo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,ple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正圆 66"/>
          <p:cNvSpPr/>
          <p:nvPr/>
        </p:nvSpPr>
        <p:spPr>
          <a:xfrm>
            <a:off x="6818400" y="647640"/>
            <a:ext cx="2290680" cy="21909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ur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4716360" y="3357720"/>
            <a:ext cx="24289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/>
  <dc:language>en-US</dc:language>
  <cp:lastModifiedBy/>
  <dcterms:modified xsi:type="dcterms:W3CDTF">2017-03-08T03:43:15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