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chimes.wav" ContentType="audio/x-wav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EC8-ED8A-40FD-A3D1-CBCF60C5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CEB9-C6D8-4FDF-89AC-657FECF1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3E9A-9CA1-4591-BD1A-753FCA7D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394C-8B12-4449-88D0-FE63F29C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1FF6-5E16-4597-B57F-F353665A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1F33-77EB-4797-8D7D-D4B32982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47AE-385D-4CF1-92F8-1E00A786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C05-13EC-44EF-9408-DD1D23B9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1D2F-D56C-4DC5-BDD3-47F79EE3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52E9-3A05-42A2-9B5F-99F9B941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7BE7-C4FD-458A-84A9-30DDDB54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77C3-891C-4B8E-BC72-2C2D0899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774D-F58A-4E87-A61C-628F8BD237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1066680"/>
            <a:ext cx="53341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Microsoft Sans Serif"/>
              </a:rPr>
              <a:t>Unit 1 My ho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Oranda Cn BT"/>
              </a:rPr>
              <a:t>Part 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Oranda Cn BT"/>
              </a:rPr>
              <a:t>Look and s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未标题-8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90720" y="615636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’s at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twenty-se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Beijing  stre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未标题-12%20拷贝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38080" y="615636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It’s at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twenty-eigh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Chaoyang   stre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未标题-11%20拷贝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14400" y="615636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It’s at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twenty-nine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Heping  stre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11280" y="333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听一听，选一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9810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  )1.A.thirty-three B. twenty-two C. fifty-e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8446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  )2.A.thirteen  B. eighteen  C. sixt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6370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  )3.A.street  B. estate  C. bl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5002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  )4.A.forty  B. ninety   C. hund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3657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  )5.A.when  B. what  C. w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90920" y="121932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Comic Sans MS"/>
              </a:rPr>
              <a:t>Homework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2819520"/>
            <a:ext cx="48769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Listen to the tape and follow it. (part A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Recite th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Arial"/>
              </a:rPr>
              <a:t>Finish the workb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75248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教学要求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: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Using  the  Prep ‘in’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and‘at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重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The No. 1-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难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That’s Huayuan Estat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It’s at twenty-five Tianjindong Stre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关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We use “at” for a street addr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教具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Computer, Transparency, Record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教时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Two peri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00400" y="1523880"/>
            <a:ext cx="236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Sing A Song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未标题-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36840" y="934920"/>
            <a:ext cx="42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760" y="6156360"/>
            <a:ext cx="779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It’s at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twenty-five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Tianjindong stre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265880" cy="5450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0000" y="58770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It’s at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twenty-on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Suzhou stre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未标题-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14400" y="11430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’s at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wenty-tw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Chang’an stre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未标题-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480" y="615636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It’s at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twenty-three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Zhongshan stre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6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90920" y="12193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2193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It’s at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twenty-four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Jianguo stre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未标题-7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371600" y="615636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’s at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twenty-si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Sichuan stre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08:27:00Z</dcterms:created>
  <dc:creator>闫煜娟</dc:creator>
  <dc:description/>
  <dc:language>en-US</dc:language>
  <cp:lastModifiedBy>FtpDown</cp:lastModifiedBy>
  <dcterms:modified xsi:type="dcterms:W3CDTF">2007-09-13T01:47:34Z</dcterms:modified>
  <cp:revision>6</cp:revision>
  <dc:subject/>
  <dc:title>PowerPoint 演示文稿</dc:title>
</cp:coreProperties>
</file>