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657B-5E8F-4277-B162-6BA98542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798-45D3-4AAF-8826-E3A3D9CE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575E-FE85-4416-9C9A-331E0808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AF6-B07C-4868-8181-CFEE6BC2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C360-C264-41F5-B0AB-0214DEFA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AB50-0630-4D8C-9F84-B24FD37F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8EE-133F-4DFD-80F8-B4AE38FA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0F7B-074E-4984-8119-865E198A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C9F-5A41-4021-A613-8F86211D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F44-3EB7-44B8-B558-D1A37A06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232-0D0E-4342-9157-725BBC0F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34E-9C8D-487D-BF47-C192AD4A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0FEB-039F-4636-A768-F2F71E822D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762120"/>
            <a:ext cx="53341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66"/>
                </a:solidFill>
                <a:latin typeface="Microsoft Sans Serif"/>
              </a:rPr>
              <a:t>Unit 1 My ho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Oranda Cn BT"/>
              </a:rPr>
              <a:t>Part 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Oranda Cn BT"/>
              </a:rPr>
              <a:t>Say and a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260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选择最佳答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981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Where ____you li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557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. is   B. are   C.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13372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Peter lives ___ Flat 604, Block3, Park Est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31417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This is 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4221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It____twenty-five bloc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53737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I ____take you h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2637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. in   B. at   C.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716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A. Houshan  Estate B. hou shan Estate C. Hou Shan e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4797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. have   B. is   C. 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595008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. can   B. do   C. 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90720" y="251460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Comic Sans MS"/>
                <a:ea typeface="仿宋_GB2312"/>
              </a:rPr>
              <a:t>Homework</a:t>
            </a:r>
            <a:r>
              <a:rPr b="1" lang="en-US" sz="5400" spc="-1" strike="noStrike">
                <a:solidFill>
                  <a:srgbClr val="00cc99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3733920"/>
            <a:ext cx="5029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Listen to the tape and read after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t out the dialogue with your partn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py the sentence patter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410080" y="1073160"/>
            <a:ext cx="213372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87800" y="17398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教学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2666880"/>
            <a:ext cx="769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重点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: Where do you l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难点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: I live at 49 Fumin stre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          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I live in Flat 202, Block 6, Houshan E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关键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:We use in to refer to a flat or a 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教具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: Computer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、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Transparency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、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Recorder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、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教时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: The second period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52480" y="990720"/>
            <a:ext cx="6477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1. Warming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2. Re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(1) Numbers: 1 to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(2) four words: (big       smal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street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estate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block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fl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380988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6481800" cy="2457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987640" y="3429000"/>
            <a:ext cx="3143160" cy="229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street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6913800" cy="2314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771640" y="3429000"/>
            <a:ext cx="3143520" cy="229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estate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5761080" cy="2714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987640" y="4076640"/>
            <a:ext cx="2619360" cy="229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block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6048360" cy="2828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916360" y="3645000"/>
            <a:ext cx="3319200" cy="22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flat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21091200">
            <a:off x="1676520" y="99036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DIALOGU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2362320"/>
            <a:ext cx="4724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cc33"/>
                </a:solidFill>
                <a:latin typeface="Times New Roman"/>
              </a:rPr>
              <a:t>Where do you li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cc33"/>
                </a:solidFill>
                <a:latin typeface="Times New Roman"/>
              </a:rPr>
              <a:t>I live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at</a:t>
            </a:r>
            <a:r>
              <a:rPr b="0" lang="zh-CN" sz="3600" spc="-1" strike="noStrike">
                <a:solidFill>
                  <a:srgbClr val="33cc33"/>
                </a:solidFill>
                <a:latin typeface="Times New Roman"/>
              </a:rPr>
              <a:t> 49 Fumin Stre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cc33"/>
                </a:solidFill>
                <a:latin typeface="Times New Roman"/>
              </a:rPr>
              <a:t>I live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in</a:t>
            </a:r>
            <a:r>
              <a:rPr b="0" lang="zh-CN" sz="3600" spc="-1" strike="noStrike">
                <a:solidFill>
                  <a:srgbClr val="33cc33"/>
                </a:solidFill>
                <a:latin typeface="Times New Roman"/>
              </a:rPr>
              <a:t> Flat 202, Block 6, Houshan Est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 rot="714000">
            <a:off x="5409720" y="91440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cc33"/>
                </a:solidFill>
                <a:latin typeface="Times New Roman"/>
              </a:rPr>
              <a:t>Practi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91440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Flat 204     Block 5   Daming 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2590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I live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Flat 204, Block 5, Daming E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76440" y="3429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78 Yunnan Str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43434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I live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t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78 Yunnan Str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09:14:37Z</dcterms:created>
  <dc:creator>闫煜娟</dc:creator>
  <dc:description/>
  <dc:language>en-US</dc:language>
  <cp:lastModifiedBy>FtpDown</cp:lastModifiedBy>
  <dcterms:modified xsi:type="dcterms:W3CDTF">2007-09-13T02:05:21Z</dcterms:modified>
  <cp:revision>4</cp:revision>
  <dc:subject/>
  <dc:title>PowerPoint 演示文稿</dc:title>
</cp:coreProperties>
</file>