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14.png" ContentType="image/png"/>
  <Override PartName="/ppt/media/image13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CAMERA.WAV" ContentType="audio/x-wav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70D-586A-4593-96C6-D5EABEF5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D30-A529-4FAA-8C2B-5CB761B4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A74-7298-4AC8-8DDF-32D192C8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414-0C79-4154-98D1-11761C87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3A8-ABC9-4424-BEC9-7AA6AC0B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54E-2963-4962-8078-218C8A65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71A-DA47-41AB-9873-B809BB87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AD7-C6D3-4F0F-8B70-0CA15E2E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34D-F36A-4460-ACC8-979B453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078-CA2C-48B1-8A24-76BBD302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413-6411-45ED-954E-D10F26F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56B-F099-4878-BA76-53CA093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DA89-048F-4950-A175-86C924E6A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387"/>
          <p:cNvSpPr txBox="1"/>
          <p:nvPr/>
        </p:nvSpPr>
        <p:spPr>
          <a:xfrm>
            <a:off x="2286000" y="990720"/>
            <a:ext cx="4724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y home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文本框 16388"/>
          <p:cNvSpPr/>
          <p:nvPr/>
        </p:nvSpPr>
        <p:spPr>
          <a:xfrm>
            <a:off x="3886200" y="2895480"/>
            <a:ext cx="408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--Unit 1 part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33793"/>
          <p:cNvSpPr/>
          <p:nvPr/>
        </p:nvSpPr>
        <p:spPr>
          <a:xfrm>
            <a:off x="1219320" y="914400"/>
            <a:ext cx="69339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6600"/>
                </a:solidFill>
                <a:latin typeface="Comic Sans MS"/>
              </a:rPr>
              <a:t>Practic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3794"/>
          <p:cNvSpPr/>
          <p:nvPr/>
        </p:nvSpPr>
        <p:spPr>
          <a:xfrm>
            <a:off x="2057400" y="3108240"/>
            <a:ext cx="556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cc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Comic Sans MS"/>
              </a:rPr>
              <a:t>Listen and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cc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Comic Sans MS"/>
              </a:rPr>
              <a:t>Group 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cc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Comic Sans MS"/>
              </a:rPr>
              <a:t>Act out the dialo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4340"/>
          <p:cNvSpPr/>
          <p:nvPr/>
        </p:nvSpPr>
        <p:spPr>
          <a:xfrm>
            <a:off x="2882880" y="914400"/>
            <a:ext cx="327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Arial"/>
              </a:rPr>
              <a:t>Play tim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4341" descr="Gif0405_036"/>
          <p:cNvPicPr/>
          <p:nvPr/>
        </p:nvPicPr>
        <p:blipFill>
          <a:blip r:embed="rId2"/>
          <a:stretch/>
        </p:blipFill>
        <p:spPr>
          <a:xfrm rot="786000">
            <a:off x="5866920" y="0"/>
            <a:ext cx="2822760" cy="28224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4343" descr="k1"/>
          <p:cNvPicPr/>
          <p:nvPr/>
        </p:nvPicPr>
        <p:blipFill>
          <a:blip r:embed="rId3"/>
          <a:stretch/>
        </p:blipFill>
        <p:spPr>
          <a:xfrm>
            <a:off x="6095880" y="3581280"/>
            <a:ext cx="23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35841"/>
          <p:cNvSpPr/>
          <p:nvPr/>
        </p:nvSpPr>
        <p:spPr>
          <a:xfrm>
            <a:off x="39528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连词成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5842"/>
          <p:cNvSpPr/>
          <p:nvPr/>
        </p:nvSpPr>
        <p:spPr>
          <a:xfrm>
            <a:off x="395280" y="981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is, our, this, e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5844"/>
          <p:cNvSpPr/>
          <p:nvPr/>
        </p:nvSpPr>
        <p:spPr>
          <a:xfrm>
            <a:off x="324000" y="2133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twenty-one, has, blocks,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5845"/>
          <p:cNvSpPr/>
          <p:nvPr/>
        </p:nvSpPr>
        <p:spPr>
          <a:xfrm>
            <a:off x="179280" y="3213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The, cat, a, park, in,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5846"/>
          <p:cNvSpPr/>
          <p:nvPr/>
        </p:nvSpPr>
        <p:spPr>
          <a:xfrm>
            <a:off x="250920" y="4221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small, my, very, is, 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5847"/>
          <p:cNvSpPr/>
          <p:nvPr/>
        </p:nvSpPr>
        <p:spPr>
          <a:xfrm>
            <a:off x="250920" y="537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home, take, can, you,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5848"/>
          <p:cNvSpPr/>
          <p:nvPr/>
        </p:nvSpPr>
        <p:spPr>
          <a:xfrm>
            <a:off x="324000" y="2637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5852"/>
          <p:cNvSpPr/>
          <p:nvPr/>
        </p:nvSpPr>
        <p:spPr>
          <a:xfrm>
            <a:off x="395280" y="1557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5853"/>
          <p:cNvSpPr/>
          <p:nvPr/>
        </p:nvSpPr>
        <p:spPr>
          <a:xfrm>
            <a:off x="468360" y="3645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5854"/>
          <p:cNvSpPr/>
          <p:nvPr/>
        </p:nvSpPr>
        <p:spPr>
          <a:xfrm>
            <a:off x="468360" y="4797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5855"/>
          <p:cNvSpPr/>
          <p:nvPr/>
        </p:nvSpPr>
        <p:spPr>
          <a:xfrm>
            <a:off x="395280" y="59500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8435"/>
          <p:cNvSpPr/>
          <p:nvPr/>
        </p:nvSpPr>
        <p:spPr>
          <a:xfrm>
            <a:off x="2286000" y="80640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ff33"/>
                </a:solidFill>
                <a:latin typeface="바탕"/>
                <a:ea typeface="바탕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8436"/>
          <p:cNvSpPr/>
          <p:nvPr/>
        </p:nvSpPr>
        <p:spPr>
          <a:xfrm>
            <a:off x="2209680" y="2313000"/>
            <a:ext cx="50292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mic Sans MS"/>
              </a:rPr>
              <a:t>Listen to the tape, then read after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mic Sans MS"/>
              </a:rPr>
              <a:t>Act out the dialogue with your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7174"/>
          <p:cNvSpPr/>
          <p:nvPr/>
        </p:nvSpPr>
        <p:spPr>
          <a:xfrm>
            <a:off x="2895480" y="533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教学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175"/>
          <p:cNvSpPr/>
          <p:nvPr/>
        </p:nvSpPr>
        <p:spPr>
          <a:xfrm>
            <a:off x="762120" y="14479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重点 </a:t>
            </a:r>
            <a:r>
              <a:rPr b="0" lang="en-US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Where do you liv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难点 </a:t>
            </a:r>
            <a:r>
              <a:rPr b="0" lang="en-US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I live in Flat 201, Block 7, Panyu Estate. Is that your e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关键  </a:t>
            </a:r>
            <a:r>
              <a:rPr b="0" lang="en-US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We live at…str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教具 </a:t>
            </a:r>
            <a:r>
              <a:rPr b="0" lang="en-US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Computer, Transparency, story-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教时 </a:t>
            </a:r>
            <a:r>
              <a:rPr b="0" lang="en-US" sz="32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The third </a:t>
            </a:r>
            <a:r>
              <a:rPr b="0" lang="en-US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period.</a:t>
            </a:r>
            <a:r>
              <a:rPr b="0" lang="en-US" sz="25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7409" descr="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7410"/>
          <p:cNvSpPr/>
          <p:nvPr/>
        </p:nvSpPr>
        <p:spPr>
          <a:xfrm>
            <a:off x="2362320" y="31240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Let’s enjoy a st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0241" descr="小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0242"/>
          <p:cNvSpPr/>
          <p:nvPr/>
        </p:nvSpPr>
        <p:spPr>
          <a:xfrm>
            <a:off x="1981080" y="83808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tory ti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819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8196"/>
          <p:cNvSpPr/>
          <p:nvPr/>
        </p:nvSpPr>
        <p:spPr>
          <a:xfrm>
            <a:off x="3348000" y="4365720"/>
            <a:ext cx="54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8197"/>
          <p:cNvSpPr/>
          <p:nvPr/>
        </p:nvSpPr>
        <p:spPr>
          <a:xfrm>
            <a:off x="0" y="4581360"/>
            <a:ext cx="997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Look, it’s our old neighbour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536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5364"/>
          <p:cNvSpPr/>
          <p:nvPr/>
        </p:nvSpPr>
        <p:spPr>
          <a:xfrm>
            <a:off x="395280" y="5157720"/>
            <a:ext cx="82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Yes, it’s Uncle Zha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409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8772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4100"/>
          <p:cNvSpPr/>
          <p:nvPr/>
        </p:nvSpPr>
        <p:spPr>
          <a:xfrm>
            <a:off x="324000" y="364500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Hello, Tom. hello, Mrs li.  I can take you home. Where do you live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075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461952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3076"/>
          <p:cNvSpPr/>
          <p:nvPr/>
        </p:nvSpPr>
        <p:spPr>
          <a:xfrm>
            <a:off x="395280" y="475308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Sorry, this isn’t our estat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6148"/>
          <p:cNvSpPr/>
          <p:nvPr/>
        </p:nvSpPr>
        <p:spPr>
          <a:xfrm>
            <a:off x="324000" y="407664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s that your esta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149"/>
          <p:cNvSpPr/>
          <p:nvPr/>
        </p:nvSpPr>
        <p:spPr>
          <a:xfrm>
            <a:off x="395280" y="4935600"/>
            <a:ext cx="770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Yes! That’s our esta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is is Shanxi Stre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5:09:26Z</dcterms:created>
  <dc:creator>Administrator</dc:creator>
  <dc:description/>
  <dc:language>en-US</dc:language>
  <cp:lastModifiedBy>Administrator</cp:lastModifiedBy>
  <dcterms:modified xsi:type="dcterms:W3CDTF">2016-12-07T07:38:4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