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7.png" ContentType="image/png"/>
  <Override PartName="/ppt/media/image4.gif" ContentType="image/gif"/>
  <Override PartName="/ppt/media/image18.wmf" ContentType="image/x-wmf"/>
  <Override PartName="/ppt/media/image1.png" ContentType="image/png"/>
  <Override PartName="/ppt/media/image17.jpeg" ContentType="image/jpeg"/>
  <Override PartName="/ppt/media/image16.gif" ContentType="image/gif"/>
  <Override PartName="/ppt/media/image2.png" ContentType="image/png"/>
  <Override PartName="/ppt/media/image14.gif" ContentType="image/gif"/>
  <Override PartName="/ppt/media/image13.png" ContentType="image/png"/>
  <Override PartName="/ppt/media/image8.png" ContentType="image/png"/>
  <Override PartName="/ppt/media/whoosh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AA0-1D85-4906-B86B-5D9F83E6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F0E-9199-4603-89E4-67B93340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B39-A259-4C2F-8D36-2DA48995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C70-1B96-4E12-ACF7-309E23A5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F16-2357-4952-B9A4-5974819A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F400-D735-4DCF-B437-1D12973F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92F-4DC7-4050-95A3-7724F4E6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45A-3136-405D-99D9-3C3A04A2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6B1-CF28-4549-AD67-287AADF4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60A-BA75-4915-9DB5-7F530804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3A59-0C62-41C1-93D9-29C2569F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08F-0C6B-4246-876A-E5D8B454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588B-FA51-44BE-A135-B221B1E649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4.gi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" Target="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80880" y="-28584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763640" y="0"/>
            <a:ext cx="4724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My home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716360" y="1268280"/>
            <a:ext cx="37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-Unit 1 part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2369880" cy="4508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00360" y="1628640"/>
            <a:ext cx="6026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Ask you fri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Arial"/>
              </a:rPr>
              <a:t>Where do you liv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43000" y="1676520"/>
            <a:ext cx="73152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67640" y="3573360"/>
            <a:ext cx="2376360" cy="244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00360" y="1268280"/>
            <a:ext cx="518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 live in Flat202,Block8,Jiangsu Estate,33Renming Stree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9360"/>
          <a:ext cx="9144000" cy="684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60"/>
                    <a:ext cx="9144000" cy="68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064200" y="189000"/>
            <a:ext cx="2860560" cy="3456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03280" y="4005360"/>
            <a:ext cx="6985080" cy="2160360"/>
          </a:xfrm>
          <a:prstGeom prst="cloudCallout">
            <a:avLst>
              <a:gd name="adj1" fmla="val 18046"/>
              <a:gd name="adj2" fmla="val -1366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Times New Roman"/>
              </a:rPr>
              <a:t>practice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读一读，选一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549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　）１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住在光明街４３号。应该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133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　）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住在哪里？应该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716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　）３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那是黄海小区。应该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157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　）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住在宝新花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栋２１０室。应该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125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 live at 43 Guangming Str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162864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. I live in 43 Guangming Str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263700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Where does he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314172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. Where do you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414972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That’s Huanghai Ea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465300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. That’s Huanghai Str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589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 live at Block210,FlatC, Baoxin E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60930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. I live in Flat210, Block C, Baoxin E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604836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43280" y="1268280"/>
            <a:ext cx="33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2997360"/>
            <a:ext cx="66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isten to the tape and recite the words in this Un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1676520"/>
            <a:ext cx="73152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56000" y="549360"/>
            <a:ext cx="2376360" cy="244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4365720"/>
            <a:ext cx="8382240" cy="1981080"/>
          </a:xfrm>
          <a:prstGeom prst="cloudCallout">
            <a:avLst>
              <a:gd name="adj1" fmla="val 9773"/>
              <a:gd name="adj2" fmla="val -207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ff"/>
                </a:solidFill>
                <a:latin typeface="Times New Roman"/>
              </a:rPr>
              <a:t>Let’s cha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24000" y="692280"/>
            <a:ext cx="590400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Litter cat, litter ca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Where do you liv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I live in a park, in a park, in a park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I live in a park, in Tree stree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268360" y="2133720"/>
            <a:ext cx="482472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do some review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780000" y="189000"/>
            <a:ext cx="3143160" cy="22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treet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669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508720" y="2276640"/>
            <a:ext cx="3319200" cy="22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flat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140360" y="0"/>
            <a:ext cx="3143160" cy="22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estate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987640" y="4076640"/>
            <a:ext cx="2619360" cy="22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block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16000" y="242100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Look and do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 rot="786000">
            <a:off x="5651280" y="3213000"/>
            <a:ext cx="2822400" cy="2822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28464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02:37:08Z</dcterms:created>
  <dc:creator>FtpDown</dc:creator>
  <dc:description/>
  <dc:language>en-US</dc:language>
  <cp:lastModifiedBy>FtpDown</cp:lastModifiedBy>
  <dcterms:modified xsi:type="dcterms:W3CDTF">2007-09-13T06:52:36Z</dcterms:modified>
  <cp:revision>3</cp:revision>
  <dc:subject/>
  <dc:title>幻灯片 1</dc:title>
</cp:coreProperties>
</file>