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6.jpeg" ContentType="image/jpeg"/>
  <Override PartName="/ppt/media/image11.gif" ContentType="image/gif"/>
  <Override PartName="/ppt/media/image5.jpeg" ContentType="image/jpeg"/>
  <Override PartName="/ppt/media/image4.jpeg" ContentType="image/jpeg"/>
  <Override PartName="/ppt/media/image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4.png" ContentType="image/png"/>
  <Override PartName="/ppt/media/image19.gif" ContentType="image/gif"/>
  <Override PartName="/ppt/media/image2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9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3497-D397-422D-B012-A1E5FCB9B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23E9-F780-4F69-8EC9-1FA2E583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9601-2D5C-4F4E-A134-E830E5BCC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C10A-D741-4EB8-8546-C1FBF0D8B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4450-9A43-49A0-8E1E-EF97677B5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429C-B2A9-4132-83B9-85569818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F406-B293-403A-B0A0-C7E4D22B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623D-CCD1-4D4C-8F1A-26A357FF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5706-2D12-43A2-89EE-ACF37618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3951-D232-4531-A292-08DD7A47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6DF85-A6D6-4D21-A814-D81777E8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D299-D4A5-4528-B235-1C4D0183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F099-C2F0-4197-A124-71033A59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EB9E-628A-4F13-86F7-CE5508A3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8BF3-8720-41D5-9ABF-C3508F27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F738E-8063-47D2-83A0-5B5E4B5DE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1299-1DFF-49A1-BB05-457B71020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D4D2-0623-4055-8F1B-1693C10B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3C41-960C-47A6-B2F6-C74C6437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1A46-AAB5-4D83-B8DC-068D507F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6CA5-220E-4A35-9F5D-CB1B1244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FE60-1F32-44DB-9FFA-330BD508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5EF2-11C3-461F-9196-F42A3704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2BF3-E275-40D0-BFEB-261FB82B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CF041-6C5C-4791-B18D-AC4A4F70C7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36AB-C8CA-4BD0-9E8E-32E01595D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21.jpeg"/><Relationship Id="rId5" Type="http://schemas.openxmlformats.org/officeDocument/2006/relationships/image" Target="../media/image16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9.jpeg"/><Relationship Id="rId3" Type="http://schemas.openxmlformats.org/officeDocument/2006/relationships/image" Target="../media/image2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1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9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1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9.jpeg"/><Relationship Id="rId3" Type="http://schemas.openxmlformats.org/officeDocument/2006/relationships/image" Target="../media/image21.jpeg"/><Relationship Id="rId4" Type="http://schemas.openxmlformats.org/officeDocument/2006/relationships/image" Target="../media/image16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10.jpeg"/><Relationship Id="rId4" Type="http://schemas.openxmlformats.org/officeDocument/2006/relationships/image" Target="../media/image9.jpeg"/><Relationship Id="rId5" Type="http://schemas.openxmlformats.org/officeDocument/2006/relationships/image" Target="../media/image21.jpeg"/><Relationship Id="rId6" Type="http://schemas.openxmlformats.org/officeDocument/2006/relationships/image" Target="../media/image16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ivsky.com/Photo/480/137570.html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ivsky.com/Photo/480/137570.html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png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019920" y="2743200"/>
            <a:ext cx="2666880" cy="3124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2286000"/>
            <a:ext cx="5638680" cy="4343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6320" y="533520"/>
            <a:ext cx="8534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바탕"/>
                <a:ea typeface="바탕"/>
              </a:rPr>
              <a:t>Unit10 I have a ship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1219320" y="3581280"/>
            <a:ext cx="64008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Monotype Corsiva"/>
              </a:rPr>
              <a:t>What's missing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Monotype Corsiva"/>
              </a:rPr>
              <a:t>（什么不见了？）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066680" y="373392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Who’s m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5"/>
          <p:cNvSpPr txBox="1"/>
          <p:nvPr/>
        </p:nvSpPr>
        <p:spPr>
          <a:xfrm>
            <a:off x="2438280" y="380880"/>
            <a:ext cx="3657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ffff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Let's play</a:t>
            </a:r>
            <a:endParaRPr b="0" lang="en-US" sz="1800" spc="1" strike="noStrike">
              <a:ln w="6480">
                <a:solidFill>
                  <a:srgbClr val="ffff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1" name="Picture 8" descr="4"/>
          <p:cNvPicPr/>
          <p:nvPr/>
        </p:nvPicPr>
        <p:blipFill>
          <a:blip r:embed="rId2"/>
          <a:stretch/>
        </p:blipFill>
        <p:spPr>
          <a:xfrm>
            <a:off x="685800" y="457200"/>
            <a:ext cx="1523880" cy="1239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41"/>
          <p:cNvPicPr/>
          <p:nvPr/>
        </p:nvPicPr>
        <p:blipFill>
          <a:blip r:embed="rId3"/>
          <a:stretch/>
        </p:blipFill>
        <p:spPr>
          <a:xfrm>
            <a:off x="6858000" y="1523880"/>
            <a:ext cx="1628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2690640" cy="21272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4753080"/>
            <a:ext cx="2990880" cy="2104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971800" y="4724280"/>
            <a:ext cx="3048120" cy="2133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6019920" y="4724280"/>
            <a:ext cx="3124080" cy="2133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895480" y="533520"/>
            <a:ext cx="2667240" cy="2438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D:\MyDoc\Picture\boat.jpg"/>
          <p:cNvPicPr/>
          <p:nvPr/>
        </p:nvPicPr>
        <p:blipFill>
          <a:blip r:embed="rId6"/>
          <a:stretch/>
        </p:blipFill>
        <p:spPr>
          <a:xfrm>
            <a:off x="5867280" y="609480"/>
            <a:ext cx="2895840" cy="2362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2690640" cy="2127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600200" y="4800600"/>
            <a:ext cx="3048120" cy="2133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019920" y="4724280"/>
            <a:ext cx="3124080" cy="2133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D:\MyDoc\Picture\boat.jpg"/>
          <p:cNvPicPr/>
          <p:nvPr/>
        </p:nvPicPr>
        <p:blipFill>
          <a:blip r:embed="rId4"/>
          <a:stretch/>
        </p:blipFill>
        <p:spPr>
          <a:xfrm>
            <a:off x="3581280" y="1143000"/>
            <a:ext cx="2895840" cy="2362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4753080"/>
            <a:ext cx="2990880" cy="2104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019920" y="4724280"/>
            <a:ext cx="3124080" cy="2133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2895480" y="533520"/>
            <a:ext cx="2667240" cy="2438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2690640" cy="21272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971800" y="4724280"/>
            <a:ext cx="3048120" cy="2133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D:\MyDoc\Picture\boat.jpg"/>
          <p:cNvPicPr/>
          <p:nvPr/>
        </p:nvPicPr>
        <p:blipFill>
          <a:blip r:embed="rId3"/>
          <a:stretch/>
        </p:blipFill>
        <p:spPr>
          <a:xfrm>
            <a:off x="5867280" y="609480"/>
            <a:ext cx="2895840" cy="2362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952880" y="1066680"/>
            <a:ext cx="2990880" cy="2105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666880" y="4191120"/>
            <a:ext cx="3124440" cy="2133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838080" y="762120"/>
            <a:ext cx="2667240" cy="2438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2690640" cy="21272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838080" y="4114800"/>
            <a:ext cx="3048120" cy="2133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019920" y="4724280"/>
            <a:ext cx="3124080" cy="2133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2895480" y="533520"/>
            <a:ext cx="2667240" cy="2438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D:\MyDoc\Picture\boat.jpg"/>
          <p:cNvPicPr/>
          <p:nvPr/>
        </p:nvPicPr>
        <p:blipFill>
          <a:blip r:embed="rId5"/>
          <a:stretch/>
        </p:blipFill>
        <p:spPr>
          <a:xfrm>
            <a:off x="5867280" y="609480"/>
            <a:ext cx="2895840" cy="2362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676160" cy="1523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64280" y="100080"/>
            <a:ext cx="5207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Arial"/>
              </a:rPr>
              <a:t>I have a </a:t>
            </a: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1371600"/>
            <a:ext cx="2690640" cy="21272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0" y="4753080"/>
            <a:ext cx="2990880" cy="2104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2971800" y="4724280"/>
            <a:ext cx="3048120" cy="2133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6019920" y="4724280"/>
            <a:ext cx="3124080" cy="21337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89760" y="3505320"/>
            <a:ext cx="166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pla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20" y="4724280"/>
            <a:ext cx="102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c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13120" y="4572000"/>
            <a:ext cx="1162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b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8760" y="4724280"/>
            <a:ext cx="129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shi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2819520" y="1447920"/>
            <a:ext cx="2666880" cy="24382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962520" y="33526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bi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D:\MyDoc\Picture\boat.jpg"/>
          <p:cNvPicPr/>
          <p:nvPr/>
        </p:nvPicPr>
        <p:blipFill>
          <a:blip r:embed="rId7"/>
          <a:stretch/>
        </p:blipFill>
        <p:spPr>
          <a:xfrm>
            <a:off x="5791320" y="1523880"/>
            <a:ext cx="2895480" cy="23623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7086600" y="312408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bo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9120" cy="68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Show me your toys,please.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S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:I have a dog.</a:t>
            </a:r>
            <a:br>
              <a:rPr sz="4400"/>
            </a:b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S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:I have a ship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S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I have a bear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S4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:I have a bear,to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320" y="76320"/>
            <a:ext cx="380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Let's tal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560" y="1080"/>
            <a:ext cx="883908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Show          your toys,                 .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S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:I            a dog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S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:I have a           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S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:I have a          .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S4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:I have a bear,      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14800" y="8380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438280" y="182880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plea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09880" y="289548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ha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638680" y="35053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shi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638680" y="41911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be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477120" y="4876920"/>
            <a:ext cx="1447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to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876920" y="4502160"/>
            <a:ext cx="4038480" cy="2355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086600" y="3886200"/>
            <a:ext cx="1828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  <a:ea typeface="DotumChe"/>
              </a:rPr>
              <a:t>??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39640" y="765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3" name="WordArt 10"/>
          <p:cNvSpPr txBox="1"/>
          <p:nvPr/>
        </p:nvSpPr>
        <p:spPr>
          <a:xfrm>
            <a:off x="1908000" y="836640"/>
            <a:ext cx="3816360" cy="93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76000"/>
                    </a:srgbClr>
                  </a:outerShdw>
                </a:effectLst>
                <a:latin typeface="Georgia"/>
              </a:rPr>
              <a:t>Bye  bye!</a:t>
            </a:r>
            <a:endParaRPr b="1" i="1" lang="en-US" sz="4400" spc="-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76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164" name="Picture 13" descr="2007427123517877805"/>
          <p:cNvPicPr/>
          <p:nvPr/>
        </p:nvPicPr>
        <p:blipFill>
          <a:blip r:embed="rId3"/>
          <a:stretch/>
        </p:blipFill>
        <p:spPr>
          <a:xfrm>
            <a:off x="1403280" y="2629080"/>
            <a:ext cx="4105440" cy="3660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5" dur="247946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3809880"/>
            <a:ext cx="3733920" cy="3048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3657600" y="3809880"/>
            <a:ext cx="3657600" cy="3048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524240" y="1371600"/>
            <a:ext cx="336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  <a:ea typeface="GungsuhChe"/>
              </a:rPr>
              <a:t>plan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3962520"/>
            <a:ext cx="4572000" cy="2895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572000" y="3975120"/>
            <a:ext cx="4572000" cy="2882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677240" y="1219320"/>
            <a:ext cx="234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  <a:ea typeface="DotumChe"/>
              </a:rPr>
              <a:t>bu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419720" y="3962520"/>
            <a:ext cx="4057560" cy="2895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0" y="3962520"/>
            <a:ext cx="4419720" cy="28954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043360" y="1359000"/>
            <a:ext cx="201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  <a:ea typeface="DotumChe"/>
              </a:rPr>
              <a:t>c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896200" y="914400"/>
            <a:ext cx="275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boa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D:\MyDoc\Picture\boat.jpg"/>
          <p:cNvPicPr/>
          <p:nvPr/>
        </p:nvPicPr>
        <p:blipFill>
          <a:blip r:embed="rId2"/>
          <a:stretch/>
        </p:blipFill>
        <p:spPr>
          <a:xfrm>
            <a:off x="1219320" y="3276720"/>
            <a:ext cx="617220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3692520"/>
            <a:ext cx="4267080" cy="3165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267080" y="3652920"/>
            <a:ext cx="4276800" cy="3205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524600" y="1295280"/>
            <a:ext cx="268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  <a:ea typeface="DotumChe"/>
              </a:rPr>
              <a:t>shi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D:\好运教育\杜曼\闪卡－英语\bicycle.jpg"/>
          <p:cNvPicPr/>
          <p:nvPr/>
        </p:nvPicPr>
        <p:blipFill>
          <a:blip r:embed="rId2"/>
          <a:stretch/>
        </p:blipFill>
        <p:spPr>
          <a:xfrm>
            <a:off x="0" y="3201840"/>
            <a:ext cx="4419720" cy="3535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876920" y="3200400"/>
            <a:ext cx="4037040" cy="3581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819520" y="1066680"/>
            <a:ext cx="262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bik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2362320"/>
            <a:ext cx="754380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Monotype Corsiva"/>
              </a:rPr>
              <a:t>Show me your toys,please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05" name="WordArt 5"/>
          <p:cNvSpPr txBox="1"/>
          <p:nvPr/>
        </p:nvSpPr>
        <p:spPr>
          <a:xfrm>
            <a:off x="2438280" y="380880"/>
            <a:ext cx="3657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ffff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Let's play</a:t>
            </a:r>
            <a:endParaRPr b="0" lang="en-US" sz="1800" spc="1" strike="noStrike">
              <a:ln w="6480">
                <a:solidFill>
                  <a:srgbClr val="ffff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6" name="Picture 8" descr="4"/>
          <p:cNvPicPr/>
          <p:nvPr/>
        </p:nvPicPr>
        <p:blipFill>
          <a:blip r:embed="rId2"/>
          <a:stretch/>
        </p:blipFill>
        <p:spPr>
          <a:xfrm>
            <a:off x="685800" y="457200"/>
            <a:ext cx="1523880" cy="1239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41"/>
          <p:cNvPicPr/>
          <p:nvPr/>
        </p:nvPicPr>
        <p:blipFill>
          <a:blip r:embed="rId3"/>
          <a:stretch/>
        </p:blipFill>
        <p:spPr>
          <a:xfrm>
            <a:off x="6781680" y="685800"/>
            <a:ext cx="1629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7T12:43:08Z</dcterms:created>
  <dc:creator/>
  <dc:description/>
  <cp:keywords/>
  <dc:language>en-US</dc:language>
  <cp:lastModifiedBy>Administrator</cp:lastModifiedBy>
  <dcterms:modified xsi:type="dcterms:W3CDTF">2017-12-06T01:12:16Z</dcterms:modified>
  <cp:revision>9</cp:revision>
  <dc:subject/>
  <dc:title>幻灯片 1</dc:title>
</cp:coreProperties>
</file>