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6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6E0E-0580-41B8-A5CC-4BF5C92A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5BE2-5B88-4F96-A648-4FF97179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EA64-A282-4AC5-87B3-23115C72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1440-4623-413C-8F44-939FAE53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87B3-B22C-44AB-9A51-D2492FE9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831B-E98E-4017-9E2B-7C027F80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2806-DE58-4C04-9899-ED9456F0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C9DA-890F-4559-A68C-8A45510A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D8AE-608A-4512-BCB3-2EC5FE8F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07DB-236E-4E13-B383-82199067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0EC2-CBA0-406C-A48E-7FA61F74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8230-12B7-40A7-98DF-A2F605DE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2C34-B8D7-4963-8D35-A49A2FB3F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1.jpe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620241_101744009_2"/>
          <p:cNvPicPr/>
          <p:nvPr/>
        </p:nvPicPr>
        <p:blipFill>
          <a:blip r:embed="rId1"/>
          <a:stretch/>
        </p:blipFill>
        <p:spPr>
          <a:xfrm>
            <a:off x="-214200" y="-1214280"/>
            <a:ext cx="975348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0" y="2143080"/>
            <a:ext cx="871524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            </a:t>
            </a: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Module 3    Unit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These ducks are very naughty.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0" y="0"/>
            <a:ext cx="57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研社新准英语三年级上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4067280" y="607392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桓仁实验小学 牛晓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1087-41707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653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2268360" y="4581360"/>
            <a:ext cx="371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’re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os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2627280" y="5445000"/>
            <a:ext cx="371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They’r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bird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1_110310183116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2340000" y="4581360"/>
            <a:ext cx="371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’re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os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2627280" y="5373720"/>
            <a:ext cx="371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y’r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kite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bananas.jpg"/>
          <p:cNvPicPr/>
          <p:nvPr/>
        </p:nvPicPr>
        <p:blipFill>
          <a:blip r:embed="rId1"/>
          <a:stretch/>
        </p:blipFill>
        <p:spPr>
          <a:xfrm>
            <a:off x="857160" y="0"/>
            <a:ext cx="7358040" cy="472428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2484360" y="4869000"/>
            <a:ext cx="371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’re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os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2627280" y="558972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They’r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banana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5448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357120" y="5429160"/>
            <a:ext cx="371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’re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os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4286160" y="5429160"/>
            <a:ext cx="41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y’re duck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7032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285840" y="542916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’re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thes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4286160" y="5429160"/>
            <a:ext cx="41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y’re car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" descr="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9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357120" y="5429160"/>
            <a:ext cx="371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’re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os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4286160" y="5429160"/>
            <a:ext cx="41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y’re plane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2149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4286160" y="5429160"/>
            <a:ext cx="41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y’re tree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285840" y="542916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’re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s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" descr="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0990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357120" y="5429160"/>
            <a:ext cx="371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’re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os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4286160" y="5429160"/>
            <a:ext cx="41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y’re bird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1332000" y="4869000"/>
            <a:ext cx="39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’re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s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258920" y="5445000"/>
            <a:ext cx="55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y’re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ragon boat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2620241_101744009_2"/>
          <p:cNvPicPr/>
          <p:nvPr/>
        </p:nvPicPr>
        <p:blipFill>
          <a:blip r:embed="rId1"/>
          <a:stretch/>
        </p:blipFill>
        <p:spPr>
          <a:xfrm>
            <a:off x="-214200" y="-1214280"/>
            <a:ext cx="9753480" cy="97534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0" y="2143080"/>
            <a:ext cx="871524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Garamond"/>
              </a:rPr>
              <a:t>             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Module 3    Unit 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These ducks are very naughty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.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0" y="0"/>
            <a:ext cx="57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研社新准英语三年级上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979640" y="62064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hat’s thi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2Z54ZUB`_~VADX~K1PQTA40"/>
          <p:cNvPicPr/>
          <p:nvPr/>
        </p:nvPicPr>
        <p:blipFill>
          <a:blip r:embed="rId1"/>
          <a:stretch/>
        </p:blipFill>
        <p:spPr>
          <a:xfrm>
            <a:off x="1979640" y="1557360"/>
            <a:ext cx="4753080" cy="3892680"/>
          </a:xfrm>
          <a:prstGeom prst="rect">
            <a:avLst/>
          </a:prstGeom>
          <a:ln w="0">
            <a:noFill/>
          </a:ln>
        </p:spPr>
      </p:pic>
      <p:sp>
        <p:nvSpPr>
          <p:cNvPr id="47" name="Oval 6"/>
          <p:cNvSpPr/>
          <p:nvPr/>
        </p:nvSpPr>
        <p:spPr>
          <a:xfrm>
            <a:off x="2411280" y="2997360"/>
            <a:ext cx="2665440" cy="20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7"/>
          <p:cNvSpPr/>
          <p:nvPr/>
        </p:nvSpPr>
        <p:spPr>
          <a:xfrm>
            <a:off x="2556000" y="3213000"/>
            <a:ext cx="2447640" cy="15843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2340000" y="4797360"/>
            <a:ext cx="1224000" cy="432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6" descr="d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1857240" y="5286240"/>
            <a:ext cx="400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agon bo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" descr="IMG_248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3"/>
          <p:cNvSpPr/>
          <p:nvPr/>
        </p:nvSpPr>
        <p:spPr>
          <a:xfrm>
            <a:off x="1763640" y="1052640"/>
            <a:ext cx="35751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agon boat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6877080" y="333360"/>
            <a:ext cx="574560" cy="57456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6L}6{V`G((9V@`RZBTB0K50"/>
          <p:cNvPicPr/>
          <p:nvPr/>
        </p:nvPicPr>
        <p:blipFill>
          <a:blip r:embed="rId1"/>
          <a:stretch/>
        </p:blipFill>
        <p:spPr>
          <a:xfrm>
            <a:off x="684360" y="404640"/>
            <a:ext cx="681012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4"/>
          <p:cNvSpPr/>
          <p:nvPr/>
        </p:nvSpPr>
        <p:spPr>
          <a:xfrm>
            <a:off x="642960" y="114300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o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714240" y="392904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o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143760" y="135720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o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6000840" y="428616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o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3357720" y="25002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ow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8">
            <a:hlinkClick r:id="rId1"/>
          </p:cNvPr>
          <p:cNvSpPr/>
          <p:nvPr/>
        </p:nvSpPr>
        <p:spPr>
          <a:xfrm>
            <a:off x="4500720" y="4005360"/>
            <a:ext cx="934920" cy="718920"/>
          </a:xfrm>
          <a:custGeom>
            <a:avLst/>
            <a:gdLst>
              <a:gd name="textAreaLeft" fmla="*/ 46440 w 934920"/>
              <a:gd name="textAreaRight" fmla="*/ 888480 w 934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086" h="21600">
                <a:moveTo>
                  <a:pt x="0" y="0"/>
                </a:moveTo>
                <a:lnTo>
                  <a:pt x="28086" y="0"/>
                </a:lnTo>
                <a:lnTo>
                  <a:pt x="28086" y="21600"/>
                </a:lnTo>
                <a:lnTo>
                  <a:pt x="0" y="21600"/>
                </a:lnTo>
                <a:close/>
              </a:path>
              <a:path fill="lightenLess" w="28086" h="21600">
                <a:moveTo>
                  <a:pt x="0" y="0"/>
                </a:moveTo>
                <a:lnTo>
                  <a:pt x="28086" y="0"/>
                </a:lnTo>
                <a:lnTo>
                  <a:pt x="26686" y="1400"/>
                </a:lnTo>
                <a:lnTo>
                  <a:pt x="1400" y="1400"/>
                </a:lnTo>
                <a:close/>
              </a:path>
              <a:path fill="darken" w="28086" h="21600">
                <a:moveTo>
                  <a:pt x="28086" y="0"/>
                </a:moveTo>
                <a:lnTo>
                  <a:pt x="28086" y="21600"/>
                </a:lnTo>
                <a:lnTo>
                  <a:pt x="26686" y="20200"/>
                </a:lnTo>
                <a:lnTo>
                  <a:pt x="26686" y="1400"/>
                </a:lnTo>
                <a:close/>
              </a:path>
              <a:path fill="darkenLess" w="28086" h="21600">
                <a:moveTo>
                  <a:pt x="28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6" y="20200"/>
                </a:lnTo>
                <a:close/>
              </a:path>
              <a:path fill="lighten" w="28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6" h="21600">
                <a:moveTo>
                  <a:pt x="7037" y="8406"/>
                </a:moveTo>
                <a:lnTo>
                  <a:pt x="11467" y="8406"/>
                </a:lnTo>
                <a:lnTo>
                  <a:pt x="15888" y="3794"/>
                </a:lnTo>
                <a:lnTo>
                  <a:pt x="15888" y="17806"/>
                </a:lnTo>
                <a:lnTo>
                  <a:pt x="11467" y="13194"/>
                </a:lnTo>
                <a:lnTo>
                  <a:pt x="7037" y="13194"/>
                </a:lnTo>
                <a:close/>
              </a:path>
              <a:path fill="darken" w="28086" h="21600">
                <a:moveTo>
                  <a:pt x="17542" y="10800"/>
                </a:moveTo>
                <a:lnTo>
                  <a:pt x="21050" y="10800"/>
                </a:lnTo>
              </a:path>
              <a:path fill="darken" w="28086" h="21600">
                <a:moveTo>
                  <a:pt x="17542" y="8406"/>
                </a:moveTo>
                <a:lnTo>
                  <a:pt x="21050" y="5639"/>
                </a:lnTo>
              </a:path>
              <a:path fill="darken" w="28086" h="21600">
                <a:moveTo>
                  <a:pt x="17542" y="13194"/>
                </a:moveTo>
                <a:lnTo>
                  <a:pt x="21050" y="1596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7" descr="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动作按钮: 声音 8">
            <a:hlinkClick r:id="rId3"/>
          </p:cNvPr>
          <p:cNvSpPr/>
          <p:nvPr/>
        </p:nvSpPr>
        <p:spPr>
          <a:xfrm>
            <a:off x="500040" y="6072120"/>
            <a:ext cx="714240" cy="500040"/>
          </a:xfrm>
          <a:custGeom>
            <a:avLst/>
            <a:gdLst>
              <a:gd name="textAreaLeft" fmla="*/ 32400 w 714240"/>
              <a:gd name="textAreaRight" fmla="*/ 681840 w 71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6" h="21600">
                <a:moveTo>
                  <a:pt x="8417" y="8406"/>
                </a:moveTo>
                <a:lnTo>
                  <a:pt x="12847" y="8406"/>
                </a:lnTo>
                <a:lnTo>
                  <a:pt x="17268" y="3794"/>
                </a:lnTo>
                <a:lnTo>
                  <a:pt x="17268" y="17806"/>
                </a:lnTo>
                <a:lnTo>
                  <a:pt x="12847" y="13194"/>
                </a:lnTo>
                <a:lnTo>
                  <a:pt x="8417" y="13194"/>
                </a:lnTo>
                <a:close/>
              </a:path>
              <a:path fill="darken" w="30846" h="21600">
                <a:moveTo>
                  <a:pt x="18922" y="10800"/>
                </a:moveTo>
                <a:lnTo>
                  <a:pt x="22430" y="10800"/>
                </a:lnTo>
              </a:path>
              <a:path fill="darken" w="30846" h="21600">
                <a:moveTo>
                  <a:pt x="18922" y="8406"/>
                </a:moveTo>
                <a:lnTo>
                  <a:pt x="22430" y="5639"/>
                </a:lnTo>
              </a:path>
              <a:path fill="darken" w="30846" h="21600">
                <a:moveTo>
                  <a:pt x="18922" y="13194"/>
                </a:moveTo>
                <a:lnTo>
                  <a:pt x="22430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5" descr="lak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4143240" y="342900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f2f2"/>
                </a:solidFill>
                <a:latin typeface="Arial"/>
              </a:rPr>
              <a:t>lake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li.mp3" descr=""/>
          <p:cNvPicPr/>
          <p:nvPr/>
        </p:nvPicPr>
        <p:blipFill>
          <a:blip r:embed="rId2"/>
          <a:stretch/>
        </p:blipFill>
        <p:spPr>
          <a:xfrm>
            <a:off x="1071720" y="8571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5" dur="122170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6"/>
          <p:cNvSpPr/>
          <p:nvPr/>
        </p:nvSpPr>
        <p:spPr>
          <a:xfrm>
            <a:off x="500040" y="928800"/>
            <a:ext cx="16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ak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86000" y="1928880"/>
            <a:ext cx="16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ak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4286160" y="2928960"/>
            <a:ext cx="16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ak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6000840" y="4214880"/>
            <a:ext cx="16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ake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4319280" cy="26640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1692360" y="3933720"/>
            <a:ext cx="47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What are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os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1332000" y="479736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They are dragon boat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79280" y="189000"/>
            <a:ext cx="878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en your book,listen and answer these question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Q7IIUMBL2DVJ8(~Z3DU]8MV"/>
          <p:cNvPicPr/>
          <p:nvPr/>
        </p:nvPicPr>
        <p:blipFill>
          <a:blip r:embed="rId1"/>
          <a:stretch/>
        </p:blipFill>
        <p:spPr>
          <a:xfrm>
            <a:off x="1187280" y="333360"/>
            <a:ext cx="5400720" cy="3672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55640" y="4076640"/>
            <a:ext cx="857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How are these duck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1042920" y="4724280"/>
            <a:ext cx="857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They are very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aughty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$(@RBSYN4UF~9O1L4OHM`36"/>
          <p:cNvPicPr/>
          <p:nvPr/>
        </p:nvPicPr>
        <p:blipFill>
          <a:blip r:embed="rId1"/>
          <a:stretch/>
        </p:blipFill>
        <p:spPr>
          <a:xfrm>
            <a:off x="1547640" y="981000"/>
            <a:ext cx="5545440" cy="3600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908000" y="1268280"/>
            <a:ext cx="259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get ou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出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1042920" y="4508640"/>
            <a:ext cx="8572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They are very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aughty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leas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et out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5" descr="du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1476360" y="189000"/>
            <a:ext cx="3527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hat’s thi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003640" y="1052640"/>
            <a:ext cx="302436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’s a duck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5">
            <a:hlinkClick r:id="rId1"/>
          </p:cNvPr>
          <p:cNvSpPr/>
          <p:nvPr/>
        </p:nvSpPr>
        <p:spPr>
          <a:xfrm>
            <a:off x="468360" y="549360"/>
            <a:ext cx="431640" cy="647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647640"/>
              <a:gd name="textAreaBottom" fmla="*/ 619920 h 64764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0200" y="31000"/>
                </a:lnTo>
                <a:lnTo>
                  <a:pt x="20200" y="140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1400" y="31000"/>
                </a:lnTo>
                <a:lnTo>
                  <a:pt x="20200" y="310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0"/>
                </a:lnTo>
                <a:close/>
              </a:path>
              <a:path fill="darken" w="21600" h="32400">
                <a:moveTo>
                  <a:pt x="3794" y="13806"/>
                </a:moveTo>
                <a:lnTo>
                  <a:pt x="8224" y="13806"/>
                </a:lnTo>
                <a:lnTo>
                  <a:pt x="12645" y="9194"/>
                </a:lnTo>
                <a:lnTo>
                  <a:pt x="12645" y="23206"/>
                </a:lnTo>
                <a:lnTo>
                  <a:pt x="8224" y="18594"/>
                </a:lnTo>
                <a:lnTo>
                  <a:pt x="3794" y="18594"/>
                </a:lnTo>
                <a:close/>
              </a:path>
              <a:path fill="darken" w="21600" h="32400">
                <a:moveTo>
                  <a:pt x="14299" y="16200"/>
                </a:moveTo>
                <a:lnTo>
                  <a:pt x="17806" y="16200"/>
                </a:lnTo>
              </a:path>
              <a:path fill="darken" w="21600" h="32400">
                <a:moveTo>
                  <a:pt x="14299" y="13806"/>
                </a:moveTo>
                <a:lnTo>
                  <a:pt x="17806" y="11039"/>
                </a:lnTo>
              </a:path>
              <a:path fill="darken" w="21600" h="32400">
                <a:moveTo>
                  <a:pt x="14299" y="18594"/>
                </a:moveTo>
                <a:lnTo>
                  <a:pt x="17806" y="21361"/>
                </a:lnTo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3" descr="1.jpg"/>
          <p:cNvPicPr/>
          <p:nvPr/>
        </p:nvPicPr>
        <p:blipFill>
          <a:blip r:embed="rId2"/>
          <a:stretch/>
        </p:blipFill>
        <p:spPr>
          <a:xfrm>
            <a:off x="2627280" y="260280"/>
            <a:ext cx="5153040" cy="193356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4" descr="2.jpg"/>
          <p:cNvPicPr/>
          <p:nvPr/>
        </p:nvPicPr>
        <p:blipFill>
          <a:blip r:embed="rId3"/>
          <a:stretch/>
        </p:blipFill>
        <p:spPr>
          <a:xfrm>
            <a:off x="2627280" y="2205000"/>
            <a:ext cx="5143680" cy="21621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5" descr="3.jpg"/>
          <p:cNvPicPr/>
          <p:nvPr/>
        </p:nvPicPr>
        <p:blipFill>
          <a:blip r:embed="rId4"/>
          <a:stretch/>
        </p:blipFill>
        <p:spPr>
          <a:xfrm>
            <a:off x="2627280" y="4149720"/>
            <a:ext cx="5153040" cy="21906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250920" y="1341360"/>
            <a:ext cx="230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d and play the text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0" y="0"/>
            <a:ext cx="857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ke senten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714240"/>
            <a:ext cx="47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are/ those/Wh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0" y="2214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are/ These/ naughty/ very/ are/ duck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0" y="46432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boats/ are/ They/ drag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0" y="15001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What are thos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0" y="36432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These ducks are very naughty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214200" y="535788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They are dragon boat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4859280" y="260280"/>
            <a:ext cx="2808360" cy="1630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0" y="64296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now/ ducks/ are/ The/ com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0" y="24289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lake/ row/ People/ this/ 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0" y="15001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The ducks are coming now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285840" y="32860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People row on this lak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1" descr="zo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duck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547640" y="4292640"/>
            <a:ext cx="41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’re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s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692360" y="515772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They’r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duck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apple.jpg"/>
          <p:cNvPicPr/>
          <p:nvPr/>
        </p:nvPicPr>
        <p:blipFill>
          <a:blip r:embed="rId1"/>
          <a:stretch/>
        </p:blipFill>
        <p:spPr>
          <a:xfrm>
            <a:off x="642960" y="0"/>
            <a:ext cx="7643880" cy="4437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2124000" y="5300640"/>
            <a:ext cx="41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They’r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pple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1979640" y="4581360"/>
            <a:ext cx="371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’re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s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dogs.jpg"/>
          <p:cNvPicPr/>
          <p:nvPr/>
        </p:nvPicPr>
        <p:blipFill>
          <a:blip r:embed="rId1"/>
          <a:stretch/>
        </p:blipFill>
        <p:spPr>
          <a:xfrm>
            <a:off x="928800" y="0"/>
            <a:ext cx="7572240" cy="4869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2050920" y="5013360"/>
            <a:ext cx="371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’re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s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2268360" y="5877000"/>
            <a:ext cx="478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They’r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dog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cats.jpg"/>
          <p:cNvPicPr/>
          <p:nvPr/>
        </p:nvPicPr>
        <p:blipFill>
          <a:blip r:embed="rId1"/>
          <a:stretch/>
        </p:blipFill>
        <p:spPr>
          <a:xfrm>
            <a:off x="928800" y="0"/>
            <a:ext cx="7215120" cy="472428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2411280" y="4797360"/>
            <a:ext cx="371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’re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s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3"/>
          <p:cNvSpPr/>
          <p:nvPr/>
        </p:nvSpPr>
        <p:spPr>
          <a:xfrm>
            <a:off x="2703960" y="5734080"/>
            <a:ext cx="34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They’r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at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979640" y="62064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hat’s that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2Z54ZUB`_~VADX~K1PQTA40"/>
          <p:cNvPicPr/>
          <p:nvPr/>
        </p:nvPicPr>
        <p:blipFill>
          <a:blip r:embed="rId1"/>
          <a:stretch/>
        </p:blipFill>
        <p:spPr>
          <a:xfrm>
            <a:off x="1979640" y="1557360"/>
            <a:ext cx="4753080" cy="3892680"/>
          </a:xfrm>
          <a:prstGeom prst="rect">
            <a:avLst/>
          </a:prstGeom>
          <a:ln w="0">
            <a:noFill/>
          </a:ln>
        </p:spPr>
      </p:pic>
      <p:sp>
        <p:nvSpPr>
          <p:cNvPr id="67" name="Oval 4"/>
          <p:cNvSpPr/>
          <p:nvPr/>
        </p:nvSpPr>
        <p:spPr>
          <a:xfrm>
            <a:off x="2411280" y="2997360"/>
            <a:ext cx="2665440" cy="20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>
            <a:off x="5148360" y="2205000"/>
            <a:ext cx="1511280" cy="12240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2340000" y="3500280"/>
            <a:ext cx="2879640" cy="194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219640" y="3429000"/>
            <a:ext cx="3456000" cy="1312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is a car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292720" y="3429000"/>
            <a:ext cx="13683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5076720" y="4869000"/>
            <a:ext cx="1582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5219640" y="4797360"/>
            <a:ext cx="1513080" cy="5763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979640" y="62064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hat’re 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those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2Z54ZUB`_~VADX~K1PQTA40"/>
          <p:cNvPicPr/>
          <p:nvPr/>
        </p:nvPicPr>
        <p:blipFill>
          <a:blip r:embed="rId1"/>
          <a:stretch/>
        </p:blipFill>
        <p:spPr>
          <a:xfrm>
            <a:off x="1979640" y="1557360"/>
            <a:ext cx="4753080" cy="3892680"/>
          </a:xfrm>
          <a:prstGeom prst="rect">
            <a:avLst/>
          </a:prstGeom>
          <a:ln w="0">
            <a:noFill/>
          </a:ln>
        </p:spPr>
      </p:pic>
      <p:sp>
        <p:nvSpPr>
          <p:cNvPr id="76" name="Oval 4"/>
          <p:cNvSpPr/>
          <p:nvPr/>
        </p:nvSpPr>
        <p:spPr>
          <a:xfrm>
            <a:off x="2411280" y="2997360"/>
            <a:ext cx="2665440" cy="20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/>
          <p:cNvSpPr/>
          <p:nvPr/>
        </p:nvSpPr>
        <p:spPr>
          <a:xfrm>
            <a:off x="3851280" y="2637000"/>
            <a:ext cx="2881440" cy="7207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2340000" y="3500280"/>
            <a:ext cx="2879640" cy="194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916360" y="3789360"/>
            <a:ext cx="3887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The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re car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5076720" y="4869000"/>
            <a:ext cx="1582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5219640" y="4797360"/>
            <a:ext cx="1513080" cy="5763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CG`8G980UZF$W7LHSR9853X"/>
          <p:cNvPicPr/>
          <p:nvPr/>
        </p:nvPicPr>
        <p:blipFill>
          <a:blip r:embed="rId2"/>
          <a:stretch/>
        </p:blipFill>
        <p:spPr>
          <a:xfrm>
            <a:off x="4859280" y="2852640"/>
            <a:ext cx="763560" cy="360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CG`8G980UZF$W7LHSR9853X"/>
          <p:cNvPicPr/>
          <p:nvPr/>
        </p:nvPicPr>
        <p:blipFill>
          <a:blip r:embed="rId3"/>
          <a:stretch/>
        </p:blipFill>
        <p:spPr>
          <a:xfrm>
            <a:off x="4067280" y="2924280"/>
            <a:ext cx="720720" cy="2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6:05:35Z</dcterms:created>
  <dc:creator>微软用户</dc:creator>
  <dc:description/>
  <dc:language>en-US</dc:language>
  <cp:lastModifiedBy>WRGHO</cp:lastModifiedBy>
  <dcterms:modified xsi:type="dcterms:W3CDTF">2016-10-27T07:12:30Z</dcterms:modified>
  <cp:revision>54</cp:revision>
  <dc:subject/>
  <dc:title>幻灯片 1</dc:title>
</cp:coreProperties>
</file>