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8E6-5C01-41DC-9069-3D4681E9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2D5-48E5-4DA1-A38C-3FBE18BC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740-58C0-48D8-88A2-06D298A5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5DF-19E3-4819-B347-EF2305F8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53E-43B7-4884-979F-A3059E52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30B-EA19-420A-A084-7E1D271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175-8423-49B1-831F-063305D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474-D4B3-4648-934B-2C4989BA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46B-47E2-4A04-ADEF-C5DD408F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7DD-A2DF-4F22-8A00-9F23ABE2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7BF-5730-496F-B39C-BC8A8ED6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43D-384E-4B18-945C-2676F92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8056-61A9-4BAD-8442-6741135C34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10.gi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9640" y="115920"/>
          <a:ext cx="7561440" cy="655308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521080"/>
              </a:tblGrid>
              <a:tr h="23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" name=""/>
          <p:cNvGrpSpPr/>
          <p:nvPr/>
        </p:nvGrpSpPr>
        <p:grpSpPr>
          <a:xfrm>
            <a:off x="806040" y="368640"/>
            <a:ext cx="2059560" cy="1717200"/>
            <a:chOff x="806040" y="368640"/>
            <a:chExt cx="2059560" cy="17172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 rot="20586000">
              <a:off x="899640" y="620280"/>
              <a:ext cx="187164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1332000" y="162864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Comic Sans MS"/>
                </a:rPr>
                <a:t>hand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708360" y="476280"/>
            <a:ext cx="1297080" cy="1801800"/>
            <a:chOff x="3708360" y="476280"/>
            <a:chExt cx="1297080" cy="18018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708360" y="476280"/>
              <a:ext cx="129708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>
              <a:off x="3780000" y="1773360"/>
              <a:ext cx="10476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ff"/>
                  </a:solidFill>
                  <a:latin typeface="Comic Sans MS"/>
                </a:rPr>
                <a:t>hair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084720" y="404640"/>
            <a:ext cx="1656000" cy="1933920"/>
            <a:chOff x="6084720" y="404640"/>
            <a:chExt cx="1656000" cy="193392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6084720" y="404640"/>
              <a:ext cx="165600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6300720" y="1700280"/>
              <a:ext cx="98100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ccff"/>
                  </a:solidFill>
                  <a:latin typeface="Comic Sans MS"/>
                </a:rPr>
                <a:t>fac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16000" y="2637000"/>
            <a:ext cx="1584360" cy="1717560"/>
            <a:chOff x="1116000" y="2637000"/>
            <a:chExt cx="1584360" cy="171756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116000" y="2637000"/>
              <a:ext cx="15843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1258920" y="3716280"/>
              <a:ext cx="131436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mouth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635280" y="2637000"/>
            <a:ext cx="1366920" cy="1790640"/>
            <a:chOff x="3635280" y="2637000"/>
            <a:chExt cx="1366920" cy="1790640"/>
          </a:xfrm>
        </p:grpSpPr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3635280" y="2637000"/>
              <a:ext cx="136692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3924360" y="3789360"/>
              <a:ext cx="95256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Comic Sans MS"/>
                </a:rPr>
                <a:t>nos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43640" y="2565360"/>
            <a:ext cx="992160" cy="1862280"/>
            <a:chOff x="6443640" y="2565360"/>
            <a:chExt cx="992160" cy="1862280"/>
          </a:xfrm>
        </p:grpSpPr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6443640" y="2565360"/>
              <a:ext cx="99216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 txBox="1"/>
            <p:nvPr/>
          </p:nvSpPr>
          <p:spPr>
            <a:xfrm>
              <a:off x="6516720" y="3789360"/>
              <a:ext cx="73332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be0e3"/>
                  </a:solidFill>
                  <a:latin typeface="Comic Sans MS"/>
                </a:rPr>
                <a:t>ear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26920" y="4797360"/>
            <a:ext cx="1729080" cy="1790640"/>
            <a:chOff x="826920" y="4797360"/>
            <a:chExt cx="1729080" cy="1790640"/>
          </a:xfrm>
        </p:grpSpPr>
        <p:pic>
          <p:nvPicPr>
            <p:cNvPr id="61" name="" descr=""/>
            <p:cNvPicPr/>
            <p:nvPr/>
          </p:nvPicPr>
          <p:blipFill>
            <a:blip r:embed="rId7"/>
            <a:stretch/>
          </p:blipFill>
          <p:spPr>
            <a:xfrm>
              <a:off x="826920" y="4797360"/>
              <a:ext cx="172908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1258920" y="5950080"/>
              <a:ext cx="771480" cy="63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99"/>
                  </a:solidFill>
                  <a:latin typeface="Comic Sans MS"/>
                </a:rPr>
                <a:t>ey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780000" y="4653000"/>
            <a:ext cx="1144440" cy="1862280"/>
            <a:chOff x="3780000" y="4653000"/>
            <a:chExt cx="1144440" cy="1862280"/>
          </a:xfrm>
        </p:grpSpPr>
        <p:pic>
          <p:nvPicPr>
            <p:cNvPr id="64" name="" descr=""/>
            <p:cNvPicPr/>
            <p:nvPr/>
          </p:nvPicPr>
          <p:blipFill>
            <a:blip r:embed="rId8"/>
            <a:stretch/>
          </p:blipFill>
          <p:spPr>
            <a:xfrm>
              <a:off x="3780000" y="4653000"/>
              <a:ext cx="11444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3851280" y="5877000"/>
              <a:ext cx="104760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 Sans MS"/>
                </a:rPr>
                <a:t>hea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  <a:ea typeface="Comic Sans MS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9"/>
          <a:srcRect l="60870" t="67648" r="26568" b="11188"/>
          <a:stretch/>
        </p:blipFill>
        <p:spPr>
          <a:xfrm>
            <a:off x="6227640" y="4724280"/>
            <a:ext cx="1266840" cy="165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et’s read the rh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A A A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Wash your fa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E E E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Brush your ea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I I I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Clean your ey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O O O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Clean your no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U U U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Thank you,thank you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H="1" flipV="1">
            <a:off x="3634920" y="76320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788000" y="1052280"/>
            <a:ext cx="7920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170028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508720" y="1988640"/>
            <a:ext cx="934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626920" y="1268280"/>
            <a:ext cx="1800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340000" y="2060640"/>
            <a:ext cx="2016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979280" y="2492280"/>
            <a:ext cx="16556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372360" y="3357720"/>
            <a:ext cx="1295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724360" y="5300280"/>
            <a:ext cx="180036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651640" y="2708280"/>
            <a:ext cx="108108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435640" y="4508280"/>
            <a:ext cx="1873080" cy="577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16360" y="476280"/>
            <a:ext cx="8078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hea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5280" y="981000"/>
            <a:ext cx="8078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o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6360" y="1773360"/>
            <a:ext cx="808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out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8920" y="2349360"/>
            <a:ext cx="80784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fa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51640" y="765000"/>
            <a:ext cx="80784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hai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867280" y="1484280"/>
            <a:ext cx="808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y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516720" y="1844640"/>
            <a:ext cx="8078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40720" y="3213000"/>
            <a:ext cx="8078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ha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96360" y="5084640"/>
            <a:ext cx="8078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fo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77080" y="2565360"/>
            <a:ext cx="8078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arm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308720" y="4365720"/>
            <a:ext cx="808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leg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hildren, let’s play a ga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9640" y="115920"/>
          <a:ext cx="7561440" cy="655308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521080"/>
              </a:tblGrid>
              <a:tr h="23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806040" y="368640"/>
            <a:ext cx="2059560" cy="1717200"/>
            <a:chOff x="806040" y="368640"/>
            <a:chExt cx="2059560" cy="171720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 rot="20586000">
              <a:off x="899640" y="620280"/>
              <a:ext cx="187164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1332000" y="162864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Comic Sans MS"/>
                </a:rPr>
                <a:t>hand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708360" y="476280"/>
            <a:ext cx="1297080" cy="1801800"/>
            <a:chOff x="3708360" y="476280"/>
            <a:chExt cx="1297080" cy="18018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3708360" y="476280"/>
              <a:ext cx="129708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 txBox="1"/>
            <p:nvPr/>
          </p:nvSpPr>
          <p:spPr>
            <a:xfrm>
              <a:off x="3780000" y="1773360"/>
              <a:ext cx="10476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ff"/>
                  </a:solidFill>
                  <a:latin typeface="Comic Sans MS"/>
                </a:rPr>
                <a:t>hair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084720" y="404640"/>
            <a:ext cx="1656000" cy="1933920"/>
            <a:chOff x="6084720" y="404640"/>
            <a:chExt cx="1656000" cy="193392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6084720" y="404640"/>
              <a:ext cx="165600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 txBox="1"/>
            <p:nvPr/>
          </p:nvSpPr>
          <p:spPr>
            <a:xfrm>
              <a:off x="6300720" y="1700280"/>
              <a:ext cx="98100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ccff"/>
                  </a:solidFill>
                  <a:latin typeface="Comic Sans MS"/>
                </a:rPr>
                <a:t>fac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116000" y="2637000"/>
            <a:ext cx="1584360" cy="1717560"/>
            <a:chOff x="1116000" y="2637000"/>
            <a:chExt cx="1584360" cy="1717560"/>
          </a:xfrm>
        </p:grpSpPr>
        <p:pic>
          <p:nvPicPr>
            <p:cNvPr id="80" name="" descr=""/>
            <p:cNvPicPr/>
            <p:nvPr/>
          </p:nvPicPr>
          <p:blipFill>
            <a:blip r:embed="rId4"/>
            <a:stretch/>
          </p:blipFill>
          <p:spPr>
            <a:xfrm>
              <a:off x="1116000" y="2637000"/>
              <a:ext cx="15843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1258920" y="3716280"/>
              <a:ext cx="131436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mouth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635280" y="2637000"/>
            <a:ext cx="1366920" cy="1790640"/>
            <a:chOff x="3635280" y="2637000"/>
            <a:chExt cx="1366920" cy="1790640"/>
          </a:xfrm>
        </p:grpSpPr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3635280" y="2637000"/>
              <a:ext cx="136692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 txBox="1"/>
            <p:nvPr/>
          </p:nvSpPr>
          <p:spPr>
            <a:xfrm>
              <a:off x="3924360" y="3789360"/>
              <a:ext cx="95256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Comic Sans MS"/>
                </a:rPr>
                <a:t>nos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443640" y="2565360"/>
            <a:ext cx="992160" cy="1862280"/>
            <a:chOff x="6443640" y="2565360"/>
            <a:chExt cx="992160" cy="1862280"/>
          </a:xfrm>
        </p:grpSpPr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6443640" y="2565360"/>
              <a:ext cx="99216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6516720" y="3789360"/>
              <a:ext cx="73332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be0e3"/>
                  </a:solidFill>
                  <a:latin typeface="Comic Sans MS"/>
                </a:rPr>
                <a:t>ear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26920" y="4797360"/>
            <a:ext cx="1729080" cy="1790640"/>
            <a:chOff x="826920" y="4797360"/>
            <a:chExt cx="1729080" cy="1790640"/>
          </a:xfrm>
        </p:grpSpPr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826920" y="4797360"/>
              <a:ext cx="172908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1258920" y="5950080"/>
              <a:ext cx="771480" cy="63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99"/>
                  </a:solidFill>
                  <a:latin typeface="Comic Sans MS"/>
                </a:rPr>
                <a:t>ey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780000" y="4653000"/>
            <a:ext cx="1144440" cy="1862280"/>
            <a:chOff x="3780000" y="4653000"/>
            <a:chExt cx="1144440" cy="1862280"/>
          </a:xfrm>
        </p:grpSpPr>
        <p:pic>
          <p:nvPicPr>
            <p:cNvPr id="92" name="" descr=""/>
            <p:cNvPicPr/>
            <p:nvPr/>
          </p:nvPicPr>
          <p:blipFill>
            <a:blip r:embed="rId8"/>
            <a:stretch/>
          </p:blipFill>
          <p:spPr>
            <a:xfrm>
              <a:off x="3780000" y="4653000"/>
              <a:ext cx="11444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>
              <a:off x="3851280" y="5877000"/>
              <a:ext cx="104760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 Sans MS"/>
                </a:rPr>
                <a:t>head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  <a:ea typeface="Comic Sans MS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9"/>
          <a:srcRect l="60870" t="67648" r="26568" b="11188"/>
          <a:stretch/>
        </p:blipFill>
        <p:spPr>
          <a:xfrm>
            <a:off x="6227640" y="4724280"/>
            <a:ext cx="1266840" cy="165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189000"/>
            <a:ext cx="2448000" cy="22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189000"/>
            <a:ext cx="2520720" cy="22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80000" y="189000"/>
            <a:ext cx="2521080" cy="223200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421000"/>
            <a:ext cx="2519640" cy="21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2421000"/>
            <a:ext cx="2594160" cy="20876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2521080" cy="216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581360"/>
            <a:ext cx="2519640" cy="208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4508640"/>
            <a:ext cx="251928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4508640"/>
            <a:ext cx="2448000" cy="21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4.gif (2264 bytes)"/>
          <p:cNvPicPr/>
          <p:nvPr/>
        </p:nvPicPr>
        <p:blipFill>
          <a:blip r:embed="rId10"/>
          <a:stretch/>
        </p:blipFill>
        <p:spPr>
          <a:xfrm rot="1010400">
            <a:off x="1186920" y="692280"/>
            <a:ext cx="1278000" cy="140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4.gif (2264 bytes)"/>
          <p:cNvPicPr/>
          <p:nvPr/>
        </p:nvPicPr>
        <p:blipFill>
          <a:blip r:embed="rId11"/>
          <a:stretch/>
        </p:blipFill>
        <p:spPr>
          <a:xfrm rot="1010400">
            <a:off x="3850920" y="2852640"/>
            <a:ext cx="1278000" cy="1409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4.gif (2264 bytes)"/>
          <p:cNvPicPr/>
          <p:nvPr/>
        </p:nvPicPr>
        <p:blipFill>
          <a:blip r:embed="rId12"/>
          <a:stretch/>
        </p:blipFill>
        <p:spPr>
          <a:xfrm rot="1010400">
            <a:off x="3995280" y="836640"/>
            <a:ext cx="1278000" cy="1409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4.gif (2264 bytes)"/>
          <p:cNvPicPr/>
          <p:nvPr/>
        </p:nvPicPr>
        <p:blipFill>
          <a:blip r:embed="rId13"/>
          <a:stretch/>
        </p:blipFill>
        <p:spPr>
          <a:xfrm rot="1010400">
            <a:off x="6372000" y="549360"/>
            <a:ext cx="1277640" cy="1409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4.gif (2264 bytes)"/>
          <p:cNvPicPr/>
          <p:nvPr/>
        </p:nvPicPr>
        <p:blipFill>
          <a:blip r:embed="rId14"/>
          <a:stretch/>
        </p:blipFill>
        <p:spPr>
          <a:xfrm rot="1010400">
            <a:off x="1186920" y="2997360"/>
            <a:ext cx="1278000" cy="140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4.gif (2264 bytes)"/>
          <p:cNvPicPr/>
          <p:nvPr/>
        </p:nvPicPr>
        <p:blipFill>
          <a:blip r:embed="rId15"/>
          <a:stretch/>
        </p:blipFill>
        <p:spPr>
          <a:xfrm rot="1010400">
            <a:off x="6227280" y="2924280"/>
            <a:ext cx="1278000" cy="140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4.gif (2264 bytes)"/>
          <p:cNvPicPr/>
          <p:nvPr/>
        </p:nvPicPr>
        <p:blipFill>
          <a:blip r:embed="rId16"/>
          <a:stretch/>
        </p:blipFill>
        <p:spPr>
          <a:xfrm rot="1010400">
            <a:off x="1258560" y="4869000"/>
            <a:ext cx="1278000" cy="1409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4.gif (2264 bytes)"/>
          <p:cNvPicPr/>
          <p:nvPr/>
        </p:nvPicPr>
        <p:blipFill>
          <a:blip r:embed="rId17"/>
          <a:stretch/>
        </p:blipFill>
        <p:spPr>
          <a:xfrm rot="1010400">
            <a:off x="3850920" y="4724280"/>
            <a:ext cx="1278000" cy="1409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4.gif (2264 bytes)"/>
          <p:cNvPicPr/>
          <p:nvPr/>
        </p:nvPicPr>
        <p:blipFill>
          <a:blip r:embed="rId18"/>
          <a:stretch/>
        </p:blipFill>
        <p:spPr>
          <a:xfrm rot="1010400">
            <a:off x="6372000" y="4724280"/>
            <a:ext cx="127764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排列字母，组成单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aec      onse     aer       hadn       eda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1000" y="4005360"/>
            <a:ext cx="89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irh         ootf            yee            outhm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17958" t="10058" r="19669" b="5499"/>
          <a:stretch/>
        </p:blipFill>
        <p:spPr>
          <a:xfrm>
            <a:off x="395280" y="0"/>
            <a:ext cx="4753080" cy="4826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58920" y="5013360"/>
            <a:ext cx="74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wash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your hai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17940" t="14641" r="21586" b="3472"/>
          <a:stretch/>
        </p:blipFill>
        <p:spPr>
          <a:xfrm>
            <a:off x="324000" y="0"/>
            <a:ext cx="4608360" cy="4680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501336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wash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your hand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20792" t="10082" r="18730" b="10531"/>
          <a:stretch/>
        </p:blipFill>
        <p:spPr>
          <a:xfrm>
            <a:off x="1332000" y="260280"/>
            <a:ext cx="4608360" cy="4537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58920" y="5013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clean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your nos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20147" t="12614" r="16523" b="5499"/>
          <a:stretch/>
        </p:blipFill>
        <p:spPr>
          <a:xfrm>
            <a:off x="1332000" y="0"/>
            <a:ext cx="482580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5013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clean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your ear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22606" t="15973" r="21646" b="12194"/>
          <a:stretch/>
        </p:blipFill>
        <p:spPr>
          <a:xfrm>
            <a:off x="0" y="0"/>
            <a:ext cx="3203640" cy="309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2997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clean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your f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ee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15:08:07Z</dcterms:created>
  <dc:creator/>
  <dc:description/>
  <cp:keywords/>
  <dc:language>en-US</dc:language>
  <cp:lastModifiedBy>Administrator</cp:lastModifiedBy>
  <dcterms:modified xsi:type="dcterms:W3CDTF">2017-12-06T01:07:10Z</dcterms:modified>
  <cp:revision>11</cp:revision>
  <dc:subject/>
  <dc:title>幻灯片 1</dc:title>
</cp:coreProperties>
</file>