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png" ContentType="image/png"/>
  <Override PartName="/ppt/media/image5.jpeg" ContentType="image/jpeg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F38C-AF4C-41AD-93B2-6C1A013AB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AA5E-6D22-4E75-B5C4-DCC16A680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530F-1883-4AC1-B556-C1F2C8DA1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5E82-D84D-4689-A056-E2EB92554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DD53-6D48-4326-8000-B17158E32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2335-B6C5-4A7C-9351-5D952473D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8F46-A027-4594-B28C-D0171C4CC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BF96-9220-4D0B-8CE1-C9F323885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062C-08A4-4361-9536-933577DBA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A41A-E311-492F-8F0F-66808DE97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830C-CCF3-43D9-A615-702749578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7CD7-CF86-41AC-9677-F3F7D23CF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9597D-7264-418E-AEF8-CF9FA0C962E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4.jpeg"/><Relationship Id="rId3" Type="http://schemas.openxmlformats.org/officeDocument/2006/relationships/image" Target="../media/image13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4.jpeg"/><Relationship Id="rId3" Type="http://schemas.openxmlformats.org/officeDocument/2006/relationships/image" Target="../media/image13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Unit7 A picture of my fami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58920" y="2997360"/>
            <a:ext cx="735480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第一课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864072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258920" y="0"/>
            <a:ext cx="5241960" cy="393228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58920" y="4149360"/>
            <a:ext cx="621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0099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990099"/>
                </a:solidFill>
                <a:latin typeface="Comic Sans MS"/>
              </a:rPr>
              <a:t>What’s this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250920" y="3213000"/>
            <a:ext cx="1581120" cy="32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435640" y="2997360"/>
            <a:ext cx="3708360" cy="34686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611280" y="0"/>
            <a:ext cx="5832360" cy="331164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360" y="3500280"/>
            <a:ext cx="65530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Arial"/>
              </a:rPr>
              <a:t>picture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of my 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Arial"/>
              </a:rPr>
              <a:t>family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258920" y="0"/>
            <a:ext cx="5241960" cy="39322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5219640" y="0"/>
            <a:ext cx="3672000" cy="981000"/>
          </a:xfrm>
          <a:prstGeom prst="wedgeRoundRectCallout">
            <a:avLst>
              <a:gd name="adj1" fmla="val -43731"/>
              <a:gd name="adj2" fmla="val 13074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6084720" y="2924280"/>
            <a:ext cx="3059280" cy="39337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15640" y="4149360"/>
            <a:ext cx="309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99"/>
                </a:solidFill>
                <a:latin typeface="Comic Sans MS"/>
              </a:rPr>
              <a:t> </a:t>
            </a:r>
            <a:r>
              <a:rPr b="1" lang="en-US" sz="4800" spc="-1" strike="noStrike">
                <a:solidFill>
                  <a:srgbClr val="990099"/>
                </a:solidFill>
                <a:latin typeface="Comic Sans MS"/>
              </a:rPr>
              <a:t>Who’s this man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0" y="3284640"/>
            <a:ext cx="1581120" cy="32194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7380360" y="1484280"/>
            <a:ext cx="1101600" cy="9986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4572000" y="4365720"/>
            <a:ext cx="266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That’s my grandp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292720" y="260280"/>
            <a:ext cx="36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y father’s fa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011 -0.00971 L -0.20989 -0.00971 E">
                                      <p:cBhvr>
                                        <p:cTn id="17" dur="2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77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" dur="770" fill="hold"/>
                                        <p:tgtEl>
                                          <p:spTgt spid="8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" dur="77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" dur="77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258920" y="0"/>
            <a:ext cx="5241960" cy="39322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084720" y="2924280"/>
            <a:ext cx="3059280" cy="393372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15640" y="4149360"/>
            <a:ext cx="309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0099"/>
                </a:solidFill>
                <a:latin typeface="Comic Sans MS"/>
              </a:rPr>
              <a:t> </a:t>
            </a:r>
            <a:r>
              <a:rPr b="1" lang="en-US" sz="4800" spc="-1" strike="noStrike">
                <a:solidFill>
                  <a:srgbClr val="990099"/>
                </a:solidFill>
                <a:latin typeface="Comic Sans MS"/>
              </a:rPr>
              <a:t>Who’s that boy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0" y="3284640"/>
            <a:ext cx="1581120" cy="32194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6659640" y="2133720"/>
            <a:ext cx="1101600" cy="9982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4859280" y="3860640"/>
            <a:ext cx="266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</a:rPr>
              <a:t>It’s m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2.60116E-006 L -0.26493 0.0007 E">
                                      <p:cBhvr>
                                        <p:cTn id="55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77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" dur="770" fill="hold"/>
                                        <p:tgtEl>
                                          <p:spTgt spid="9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3" dur="77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5" dur="77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Arial"/>
              </a:rPr>
              <a:t>Dialogu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971640" y="1457280"/>
            <a:ext cx="734364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63280" y="620280"/>
            <a:ext cx="7581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0099"/>
                </a:solidFill>
                <a:latin typeface="Comic Sans MS"/>
              </a:rPr>
              <a:t>Look. What’s this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270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62000" cy="22953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843280" y="2924280"/>
            <a:ext cx="339084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-541440" y="0"/>
            <a:ext cx="8713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63280" y="620280"/>
            <a:ext cx="7581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0099"/>
                </a:solidFill>
                <a:latin typeface="Comic Sans MS"/>
              </a:rPr>
              <a:t>What’s this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270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62000" cy="22953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2627280" y="3068640"/>
            <a:ext cx="3838680" cy="29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476280"/>
            <a:ext cx="8136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63280" y="620280"/>
            <a:ext cx="7581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0099"/>
                </a:solidFill>
                <a:latin typeface="Comic Sans MS"/>
              </a:rPr>
              <a:t>What’s that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7128000" cy="56055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62000" cy="22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476280"/>
            <a:ext cx="813600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63280" y="620280"/>
            <a:ext cx="7581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0099"/>
                </a:solidFill>
                <a:latin typeface="Comic Sans MS"/>
              </a:rPr>
              <a:t>What’s that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270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62000" cy="22953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059280" y="2276640"/>
            <a:ext cx="374472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8T22:53:16Z</dcterms:created>
  <dc:creator/>
  <dc:description/>
  <cp:keywords/>
  <dc:language>en-US</dc:language>
  <cp:lastModifiedBy>Administrator</cp:lastModifiedBy>
  <dcterms:modified xsi:type="dcterms:W3CDTF">2017-12-06T01:19:07Z</dcterms:modified>
  <cp:revision>7</cp:revision>
  <dc:subject/>
  <dc:title>Unit7 A picture of my family</dc:title>
</cp:coreProperties>
</file>