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30C-9C76-4D28-8CBE-5DCDF99C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F32-B798-463F-84E4-CC48101A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E62-1E03-4CDB-8FCE-2CF7F0AA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FFD-06D0-48A0-A095-BA8BE71B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3A46-8431-4B2D-B011-F6AE9898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6183-07D1-4D5A-A30C-448AEE3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C216-7597-4690-9E9F-5FE3F926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6D44-9A41-47E6-8B10-49C13B86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7534-B1FA-4304-966B-5929B353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133F-CCE2-4FA1-847D-BECE6F91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A05B-2BF5-4B2B-9466-57462704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1B6-5E61-47D9-B5F3-6194E64C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E414-E176-4864-B8E8-FC30CD7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E3B1-D3EF-449A-BB1B-DAE3CBBE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2780-E586-4CF6-B059-86FC8E1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307E-56DD-4B08-A968-C9DF9152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C6C1-8CD0-44F3-BC2B-8C119DBD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711-F7D3-41E0-AC43-80A35759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F1F-F1B1-47FE-A965-2DB6B735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67C-9E73-422B-8131-A70949BF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95A-9726-4338-A7A7-9EFA0D9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658-E76F-4BA4-BD42-BC9EFEB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404-DDF0-4F5B-8960-81241ECD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DDA-E4BF-4F89-85CD-9538300B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45057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E60-3C05-48DD-8D72-04DC4D22B2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任意多边形 45063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45064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组合 45065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任意多边形 45066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45067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45068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任意多边形 45069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任意多边形 45070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45071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45072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45073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45074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组合 45075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组合 45076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任意多边形 45077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任意多边形 45078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任意多边形 45079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任意多边形 45080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任意多边形 45081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任意多边形 45082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组合 45083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任意多边形 45084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任意多边形 4508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任意多边形 45086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任意多边形 45087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任意多边形 45088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任意多边形 45089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任意多边形 45090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任意多边形 45091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组合 45092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任意多边形 45093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任意多边形 45094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组合 45095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组合 45096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任意多边形 45097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组合 45098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任意多边形 45099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任意多边形 45100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任意多边形 45101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任意多边形 45102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任意多边形 45103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任意多边形 45104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任意多边形 45105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任意多边形 45106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直接连接符 45107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任意多边形 46081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6087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任意多边形 4608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4608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4609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46091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任意多边形 46092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46093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46094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46095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46096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组合 46097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99" name="任意多边形 46098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46099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46100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46101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03" name="任意多边形 46102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46103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46104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46105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46106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任意多边形 46107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46108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C194-843D-4842-B03C-C702F0B65AC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2 Places near ho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pracise</a:t>
            </a:r>
            <a:r>
              <a:rPr b="0" lang="en-US" sz="5400" spc="-1" strike="noStrike">
                <a:solidFill>
                  <a:srgbClr val="cc3399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tim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st_ura_t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a,n     B.o,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_per_arket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a,m   B.u,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_ok_ho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u,s    B.o,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pracise</a:t>
            </a:r>
            <a:r>
              <a:rPr b="0" lang="en-US" sz="5400" spc="-1" strike="noStrike">
                <a:solidFill>
                  <a:srgbClr val="cc3399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tim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_i_ic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n,l     B.l,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_ne_a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.i,m    B.e,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_st   off_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.o,i    B.u,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5338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ntenc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there a bookshop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es ,there is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图片 9219" descr="书店"/>
          <p:cNvPicPr/>
          <p:nvPr/>
        </p:nvPicPr>
        <p:blipFill>
          <a:blip r:embed="rId1"/>
          <a:stretch/>
        </p:blipFill>
        <p:spPr>
          <a:xfrm>
            <a:off x="2362320" y="1295280"/>
            <a:ext cx="487656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0512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s there a restaurant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 ,there isn’t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图片 37891" descr="医院"/>
          <p:cNvPicPr/>
          <p:nvPr/>
        </p:nvPicPr>
        <p:blipFill>
          <a:blip r:embed="rId1"/>
          <a:stretch/>
        </p:blipFill>
        <p:spPr>
          <a:xfrm>
            <a:off x="2666880" y="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ti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51055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s there  a ________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___,there _______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图片 38915" descr="1247147110_izYSiB"/>
          <p:cNvPicPr/>
          <p:nvPr/>
        </p:nvPicPr>
        <p:blipFill>
          <a:blip r:embed="rId1"/>
          <a:srcRect l="0" t="0" r="4224" b="17701"/>
          <a:stretch/>
        </p:blipFill>
        <p:spPr>
          <a:xfrm>
            <a:off x="1371600" y="83808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520" y="522720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s there a _________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____,there_____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图片 40963" descr="F2009090314360800500"/>
          <p:cNvPicPr/>
          <p:nvPr/>
        </p:nvPicPr>
        <p:blipFill>
          <a:blip r:embed="rId1"/>
          <a:srcRect l="0" t="0" r="7687" b="13391"/>
          <a:stretch/>
        </p:blipFill>
        <p:spPr>
          <a:xfrm>
            <a:off x="1676520" y="106668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520" y="54100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_____ a restauran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___,there________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图片 41987" descr="影院"/>
          <p:cNvPicPr/>
          <p:nvPr/>
        </p:nvPicPr>
        <p:blipFill>
          <a:blip r:embed="rId1"/>
          <a:stretch/>
        </p:blipFill>
        <p:spPr>
          <a:xfrm>
            <a:off x="1447920" y="838080"/>
            <a:ext cx="6553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ti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文本占位符 43011" descr="餐馆"/>
          <p:cNvPicPr/>
          <p:nvPr/>
        </p:nvPicPr>
        <p:blipFill>
          <a:blip r:embed="rId1"/>
          <a:stretch/>
        </p:blipFill>
        <p:spPr>
          <a:xfrm>
            <a:off x="152280" y="3657600"/>
            <a:ext cx="4089600" cy="27194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43012" descr="书店"/>
          <p:cNvPicPr/>
          <p:nvPr/>
        </p:nvPicPr>
        <p:blipFill>
          <a:blip r:embed="rId2"/>
          <a:stretch/>
        </p:blipFill>
        <p:spPr>
          <a:xfrm>
            <a:off x="4495680" y="1447920"/>
            <a:ext cx="3657600" cy="27381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43013" descr="xin_3120803090742234134282"/>
          <p:cNvPicPr/>
          <p:nvPr/>
        </p:nvPicPr>
        <p:blipFill>
          <a:blip r:embed="rId3"/>
          <a:srcRect l="0" t="0" r="5553" b="14582"/>
          <a:stretch/>
        </p:blipFill>
        <p:spPr>
          <a:xfrm>
            <a:off x="685800" y="0"/>
            <a:ext cx="2590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e learnd toda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Comic Sans MS"/>
              </a:rPr>
              <a:t>restaurant / bookshop / clinic /supermarket/ cinema /post offi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ask others if there is some places?And how to answer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Is there a supermarke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es,there 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o ,there is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sh the page 5-6 of your workbook and  ask your parents to signature when you finish i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view par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you remmenber t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numb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——1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你住在哪里的</a:t>
            </a:r>
            <a:r>
              <a:rPr b="1" i="1" lang="zh-CN" sz="2800" spc="-1" strike="noStrike">
                <a:solidFill>
                  <a:srgbClr val="000000"/>
                </a:solidFill>
                <a:latin typeface="Comic Sans MS"/>
              </a:rPr>
              <a:t>英文问法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我住在富民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号用英语怎么说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用英语说出：我住在猴山小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号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什么时候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ve in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什么时候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ve a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43430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图片 47107" descr=""/>
          <p:cNvPicPr/>
          <p:nvPr/>
        </p:nvPicPr>
        <p:blipFill>
          <a:blip r:embed="rId1"/>
          <a:stretch/>
        </p:blipFill>
        <p:spPr>
          <a:xfrm>
            <a:off x="1138320" y="30492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arming u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ational Day is coming soon. Koko wants to send some presents to her grandparents and  buy some cards to her friends . But she doesn’t know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buy the sea food and cards and where to send them. Boys and girls can you help her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New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62520" y="2666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supermarke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图片 7171" descr="xin_3120803090742234134282"/>
          <p:cNvPicPr/>
          <p:nvPr/>
        </p:nvPicPr>
        <p:blipFill>
          <a:blip r:embed="rId1"/>
          <a:stretch/>
        </p:blipFill>
        <p:spPr>
          <a:xfrm>
            <a:off x="380880" y="12952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905120" y="571500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restauran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图片 27651" descr="餐馆"/>
          <p:cNvPicPr/>
          <p:nvPr/>
        </p:nvPicPr>
        <p:blipFill>
          <a:blip r:embed="rId1"/>
          <a:stretch/>
        </p:blipFill>
        <p:spPr>
          <a:xfrm>
            <a:off x="1066680" y="228600"/>
            <a:ext cx="6705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905120" y="556236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bookshop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图片 28675" descr="书店"/>
          <p:cNvPicPr/>
          <p:nvPr/>
        </p:nvPicPr>
        <p:blipFill>
          <a:blip r:embed="rId1"/>
          <a:srcRect l="0" t="0" r="3613" b="7146"/>
          <a:stretch/>
        </p:blipFill>
        <p:spPr>
          <a:xfrm>
            <a:off x="1371600" y="152280"/>
            <a:ext cx="60958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cinem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内容占位符 30723" descr=""/>
          <p:cNvPicPr/>
          <p:nvPr/>
        </p:nvPicPr>
        <p:blipFill>
          <a:blip r:embed="rId1"/>
          <a:stretch/>
        </p:blipFill>
        <p:spPr>
          <a:xfrm>
            <a:off x="0" y="0"/>
            <a:ext cx="7831080" cy="40910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726" descr="影院"/>
          <p:cNvPicPr/>
          <p:nvPr/>
        </p:nvPicPr>
        <p:blipFill>
          <a:blip r:embed="rId2"/>
          <a:stretch/>
        </p:blipFill>
        <p:spPr>
          <a:xfrm>
            <a:off x="990720" y="0"/>
            <a:ext cx="6667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905120" y="556236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clinic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图片 29699" descr="医院2"/>
          <p:cNvPicPr/>
          <p:nvPr/>
        </p:nvPicPr>
        <p:blipFill>
          <a:blip r:embed="rId1"/>
          <a:srcRect l="0" t="0" r="3997" b="16902"/>
          <a:stretch/>
        </p:blipFill>
        <p:spPr>
          <a:xfrm>
            <a:off x="1143000" y="0"/>
            <a:ext cx="6095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Post   offi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图片 39939" descr="邮局"/>
          <p:cNvPicPr/>
          <p:nvPr/>
        </p:nvPicPr>
        <p:blipFill>
          <a:blip r:embed="rId1"/>
          <a:srcRect l="0" t="0" r="2801" b="15201"/>
          <a:stretch/>
        </p:blipFill>
        <p:spPr>
          <a:xfrm>
            <a:off x="1600200" y="152280"/>
            <a:ext cx="6172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07:39:21Z</dcterms:created>
  <dc:creator/>
  <dc:description/>
  <dc:language>en-US</dc:language>
  <cp:lastModifiedBy>Administrator</cp:lastModifiedBy>
  <dcterms:modified xsi:type="dcterms:W3CDTF">2016-12-07T07:46:4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