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chimes.wav" ContentType="audio/x-wav"/>
  <Override PartName="/ppt/media/image16.jpeg" ContentType="image/jpeg"/>
  <Override PartName="/ppt/media/image11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6.png" ContentType="image/png"/>
  <Override PartName="/ppt/media/image10.png" ContentType="image/png"/>
  <Override PartName="/ppt/media/image5.png" ContentType="image/png"/>
  <Override PartName="/ppt/media/image13.wmf" ContentType="image/x-wmf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3.png" ContentType="image/png"/>
  <Override PartName="/ppt/media/image15.jpeg" ContentType="image/jpeg"/>
  <Override PartName="/ppt/media/image14.gif" ContentType="image/gif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0BE-3F4B-4728-AED8-E5B6C016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77E-ABE9-4747-A3FF-DF3E17D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69C-E49B-4281-BE2B-A60F8B81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EF0-65F8-4548-BF26-47F5728B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0F0C-A5E7-4D61-A03E-7FDD6843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4F53-2E59-4714-83E7-87F20AF3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23ED-729F-4199-B0C5-35B949E6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2B0-5F7C-4315-9DAB-6A7B9CCA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DF1F-A770-4578-9D77-C931915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CBD-CC41-426D-9785-54EB4FF1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F758-C011-4DCC-AE02-961F0FC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200-65DA-4BA8-A020-F806AB26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7955-0811-4057-B65F-2EA7A56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591F-AED2-4F41-AEB2-9F3AB73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AF4C-334A-44D7-A601-E56B82D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10E8-4663-467F-A6F7-2EB0F79C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8A4F-BF14-483F-9602-5A0F4C3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000-1A58-408E-B600-C9E83A5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DD9-D430-4DB7-BF4A-9E14EFA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610-EAEC-447D-850F-BAFE967D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7FA-93C0-4D7F-9C41-D345A373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22A-D431-4248-8A3A-3DC3C70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08A-F3FD-448F-85C9-8630A1A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B82-7F7D-4C9C-9D97-0C6A3BC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46E-1716-4EAD-8E30-04556FFB2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BD8-8BFB-4930-AD9C-7D4AB6506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21333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2448000" cy="235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2444760" cy="2738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800600" y="914400"/>
            <a:ext cx="1828800" cy="204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0"/>
            <a:ext cx="8675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Unit 3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（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E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华文行楷"/>
              </a:rPr>
              <a:t>My favourite things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87640" y="1844640"/>
            <a:ext cx="55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omic Sans MS"/>
              </a:rPr>
              <a:t>Say the rhy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94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989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Let’s play a ga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2349360"/>
            <a:ext cx="7848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Listen to the tape part E, then recite it.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Sing a s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786000">
            <a:off x="5651280" y="3213000"/>
            <a:ext cx="2822400" cy="282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9360"/>
          <a:ext cx="9144000" cy="684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" y="5318280"/>
            <a:ext cx="9140760" cy="153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464680" y="5424480"/>
            <a:ext cx="679320" cy="14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740720" y="5734080"/>
            <a:ext cx="82224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6920" y="907920"/>
            <a:ext cx="83170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ng the s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many coins do you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 you have? Do you ha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 have four coi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y dear fri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  <p:sndAc>
      <p:stSnd>
        <p:snd r:embed="rId6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124000" y="2276640"/>
            <a:ext cx="511344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Do same review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996840"/>
            <a:ext cx="9144000" cy="7854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1700280"/>
            <a:ext cx="67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ay the sound and the word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4076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o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07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o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1049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3888000" cy="3746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3640" y="260280"/>
            <a:ext cx="2232000" cy="212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237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1909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8360" y="2565360"/>
            <a:ext cx="4319640" cy="4079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1876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48000" y="33336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3888000" cy="383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1876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21672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2705040"/>
            <a:ext cx="314316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86240" y="2739960"/>
            <a:ext cx="2994120" cy="29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2492280"/>
            <a:ext cx="3313080" cy="3313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492280"/>
            <a:ext cx="3313080" cy="3313080"/>
          </a:xfrm>
          <a:prstGeom prst="ellipse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3:10:53Z</dcterms:created>
  <dc:creator>SAM</dc:creator>
  <dc:description/>
  <dc:language>en-US</dc:language>
  <cp:lastModifiedBy>FtpDown</cp:lastModifiedBy>
  <dcterms:modified xsi:type="dcterms:W3CDTF">2007-10-25T07:30:21Z</dcterms:modified>
  <cp:revision>31</cp:revision>
  <dc:subject/>
  <dc:title>Unit 2   Good manners (G&amp;H)</dc:title>
</cp:coreProperties>
</file>