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jpeg" ContentType="image/jpeg"/>
  <Override PartName="/ppt/media/image27.png" ContentType="image/png"/>
  <Override PartName="/ppt/media/image4.gif" ContentType="image/gif"/>
  <Override PartName="/ppt/media/image33.jpeg" ContentType="image/jpeg"/>
  <Override PartName="/ppt/media/image25.png" ContentType="image/png"/>
  <Override PartName="/ppt/media/image19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26.png" ContentType="image/png"/>
  <Override PartName="/ppt/media/image5.jpeg" ContentType="image/jpeg"/>
  <Override PartName="/ppt/media/image28.jpeg" ContentType="image/jpeg"/>
  <Override PartName="/ppt/media/image34.jpeg" ContentType="image/jpeg"/>
  <Override PartName="/ppt/media/image7.jpeg" ContentType="image/jpeg"/>
  <Override PartName="/ppt/media/image38.jpeg" ContentType="image/jpeg"/>
  <Override PartName="/ppt/media/image11.jpeg" ContentType="image/jpeg"/>
  <Override PartName="/ppt/media/image9.jpeg" ContentType="image/jpeg"/>
  <Override PartName="/ppt/media/image10.gif" ContentType="image/gif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0.jpeg" ContentType="image/jpeg"/>
  <Override PartName="/ppt/media/image31.jpeg" ContentType="image/jpeg"/>
  <Override PartName="/ppt/media/image32.png" ContentType="image/png"/>
  <Override PartName="/ppt/media/image8.png" ContentType="image/png"/>
  <Override PartName="/ppt/media/image14.jpeg" ContentType="image/jpeg"/>
  <Override PartName="/ppt/media/image18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36.jpeg" ContentType="image/jpeg"/>
  <Override PartName="/ppt/media/image2.jpeg" ContentType="image/jpeg"/>
  <Override PartName="/ppt/media/image12.png" ContentType="image/png"/>
  <Override PartName="/ppt/media/image23.jpeg" ContentType="image/jpeg"/>
  <Override PartName="/ppt/media/image15.jpeg" ContentType="image/jpeg"/>
  <Override PartName="/ppt/media/image39.gif" ContentType="image/gif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8741-3431-4F77-B77C-5A9B9096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9963-A20A-4CE1-A577-30166751C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C6B-F532-498C-B9D3-CD65A6AA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0D10-289A-4C3A-9278-F4F44574A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C18-EC4B-4793-A462-58BF8F60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C6E5-8116-4E1A-B25A-8B40BCEE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E818-E461-4567-AE07-642F351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DCC2-8766-4B7F-87ED-84670B19C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3B8-3D52-4F53-B015-14BBC8067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C286-87AA-41F1-B258-4CE74E3D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B91F-2CB6-410C-8BE4-903124C60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807B-F611-4971-A43E-A3B5D495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</a:tabLst>
            </a:pPr>
            <a:fld id="{40125A07-A036-4A6C-BC1F-5886F0B4899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</a:tabLst>
            </a:pPr>
            <a:fld id="{B3C89C1C-16E8-469B-83F6-91036D5650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" Target="slide12.xml"/><Relationship Id="rId5" Type="http://schemas.openxmlformats.org/officeDocument/2006/relationships/image" Target="../media/image14.jpeg"/><Relationship Id="rId6" Type="http://schemas.openxmlformats.org/officeDocument/2006/relationships/slide" Target="slide1.xml"/><Relationship Id="rId7" Type="http://schemas.openxmlformats.org/officeDocument/2006/relationships/image" Target="../media/image15.jpeg"/><Relationship Id="rId8" Type="http://schemas.openxmlformats.org/officeDocument/2006/relationships/slide" Target="slide1.xml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" Target="slide9.xml"/><Relationship Id="rId13" Type="http://schemas.openxmlformats.org/officeDocument/2006/relationships/image" Target="../media/image19.jpeg"/><Relationship Id="rId14" Type="http://schemas.openxmlformats.org/officeDocument/2006/relationships/image" Target="../media/image20.jpeg"/><Relationship Id="rId15" Type="http://schemas.openxmlformats.org/officeDocument/2006/relationships/image" Target="../media/image21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1905120"/>
            <a:ext cx="8305560" cy="10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0" lang="zh-CN" sz="65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Lesson 5  Where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80880"/>
            <a:ext cx="678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冀教版  三年级下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01000" y="3886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rcRect l="23684" t="14035" r="24484" b="17884"/>
          <a:stretch/>
        </p:blipFill>
        <p:spPr>
          <a:xfrm>
            <a:off x="5715000" y="152280"/>
            <a:ext cx="3124080" cy="40388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43800" y="44197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6" action="ppaction://hlinksldjump"/>
          </p:cNvPr>
          <p:cNvPicPr/>
          <p:nvPr/>
        </p:nvPicPr>
        <p:blipFill>
          <a:blip r:embed="rId7"/>
          <a:srcRect l="0" t="7993" r="52003" b="20011"/>
          <a:stretch/>
        </p:blipFill>
        <p:spPr>
          <a:xfrm>
            <a:off x="4267080" y="1447920"/>
            <a:ext cx="609840" cy="761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8" action="ppaction://hlinksldjump"/>
          </p:cNvPr>
          <p:cNvPicPr/>
          <p:nvPr/>
        </p:nvPicPr>
        <p:blipFill>
          <a:blip r:embed="rId9"/>
          <a:srcRect l="2731" t="6356" r="60917" b="17282"/>
          <a:stretch/>
        </p:blipFill>
        <p:spPr>
          <a:xfrm>
            <a:off x="1219320" y="4648320"/>
            <a:ext cx="60948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0"/>
          <a:srcRect l="11539" t="5001" r="15382" b="15004"/>
          <a:stretch/>
        </p:blipFill>
        <p:spPr>
          <a:xfrm>
            <a:off x="0" y="228600"/>
            <a:ext cx="2895480" cy="3657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1"/>
          <a:stretch/>
        </p:blipFill>
        <p:spPr>
          <a:xfrm>
            <a:off x="3656160" y="2286000"/>
            <a:ext cx="2895480" cy="40384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rId12" action="ppaction://hlinksldjump"/>
          </p:cNvPr>
          <p:cNvPicPr/>
          <p:nvPr/>
        </p:nvPicPr>
        <p:blipFill>
          <a:blip r:embed="rId13"/>
          <a:srcRect l="0" t="0" r="7694" b="-932"/>
          <a:stretch/>
        </p:blipFill>
        <p:spPr>
          <a:xfrm rot="21016800">
            <a:off x="-76320" y="-304920"/>
            <a:ext cx="3276720" cy="39625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/>
          <a:srcRect l="24001" t="0" r="8003" b="0"/>
          <a:stretch/>
        </p:blipFill>
        <p:spPr>
          <a:xfrm rot="412800">
            <a:off x="6175080" y="-833400"/>
            <a:ext cx="3182760" cy="3962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5"/>
          <a:stretch/>
        </p:blipFill>
        <p:spPr>
          <a:xfrm>
            <a:off x="3048120" y="2743200"/>
            <a:ext cx="3240000" cy="3733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1600200" y="151920"/>
            <a:ext cx="58672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Show Ti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114300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hat’s in the bo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s i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           Can i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es, it is.             Yes, it c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o, it isn’t.           No, it ca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>
            <a:hlinkClick r:id="rId2" action="ppaction://hlinksldjump"/>
          </p:cNvPr>
          <p:cNvSpPr/>
          <p:nvPr/>
        </p:nvSpPr>
        <p:spPr>
          <a:xfrm>
            <a:off x="8077320" y="4419720"/>
            <a:ext cx="533160" cy="457200"/>
          </a:xfrm>
          <a:prstGeom prst="ellips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981080" y="585144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his is a cat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585800" y="1628640"/>
            <a:ext cx="5972400" cy="36007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2" action="ppaction://hlinksldjump"/>
          </p:cNvPr>
          <p:cNvPicPr/>
          <p:nvPr/>
        </p:nvPicPr>
        <p:blipFill>
          <a:blip r:embed="rId3"/>
          <a:srcRect l="0" t="15268" r="0" b="4447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828800" y="585144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t’s a duck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05120" y="585144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Birds can fl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rcRect l="0" t="0" r="0" b="7776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advTm="2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05120" y="585144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hey’re happy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828800" y="1623960"/>
            <a:ext cx="5486400" cy="36100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92160" y="586728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Horses can run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71480" y="1666800"/>
            <a:ext cx="5801040" cy="35244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05120" y="585144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I see a shee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1604880" y="1523880"/>
            <a:ext cx="5934240" cy="3810240"/>
          </a:xfrm>
          <a:prstGeom prst="rect">
            <a:avLst/>
          </a:prstGeom>
          <a:ln w="0">
            <a:noFill/>
          </a:ln>
        </p:spPr>
      </p:pic>
    </p:spTree>
  </p:cSld>
  <p:transition advTm="2000">
    <p:comb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905120" y="5851440"/>
            <a:ext cx="5638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Hello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37120"/>
          </a:xfrm>
          <a:prstGeom prst="rect">
            <a:avLst/>
          </a:prstGeom>
          <a:ln w="0">
            <a:noFill/>
          </a:ln>
        </p:spPr>
      </p:pic>
    </p:spTree>
  </p:cSld>
  <p:transition advTm="2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兔子"/>
          <p:cNvPicPr/>
          <p:nvPr/>
        </p:nvPicPr>
        <p:blipFill>
          <a:blip r:embed="rId2"/>
          <a:srcRect l="0" t="-2897" r="0" b="4349"/>
          <a:stretch/>
        </p:blipFill>
        <p:spPr>
          <a:xfrm>
            <a:off x="0" y="-214200"/>
            <a:ext cx="9144000" cy="62341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295280" y="585144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Rabbits can jump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95280" y="1219320"/>
            <a:ext cx="7315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here is the rabb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6830" t="3578" r="22010" b="8919"/>
          <a:stretch/>
        </p:blipFill>
        <p:spPr>
          <a:xfrm>
            <a:off x="2133720" y="2057400"/>
            <a:ext cx="4419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长颈鹿"/>
          <p:cNvPicPr/>
          <p:nvPr/>
        </p:nvPicPr>
        <p:blipFill>
          <a:blip r:embed="rId2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505320" y="5943600"/>
            <a:ext cx="220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H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奶牛"/>
          <p:cNvPicPr/>
          <p:nvPr/>
        </p:nvPicPr>
        <p:blipFill>
          <a:blip r:embed="rId2"/>
          <a:srcRect l="0" t="0" r="0" b="4444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7200" y="5851440"/>
            <a:ext cx="8535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Cows are on the farm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split dir="in" orient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705720" y="304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Yummy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905200" y="1576440"/>
            <a:ext cx="4257720" cy="47322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990720" y="585144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They’re our frie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"/>
          <p:cNvGrpSpPr/>
          <p:nvPr/>
        </p:nvGrpSpPr>
        <p:grpSpPr>
          <a:xfrm>
            <a:off x="0" y="0"/>
            <a:ext cx="9144000" cy="6019920"/>
            <a:chOff x="0" y="0"/>
            <a:chExt cx="9144000" cy="6019920"/>
          </a:xfrm>
        </p:grpSpPr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01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 txBox="1"/>
            <p:nvPr/>
          </p:nvSpPr>
          <p:spPr>
            <a:xfrm>
              <a:off x="5257800" y="361800"/>
              <a:ext cx="3124080" cy="84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</a:tabLst>
              </a:pPr>
              <a:r>
                <a:rPr b="1" lang="en-US" sz="44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10800000"/>
                  </a:gradFill>
                  <a:effectLst>
                    <a:outerShdw dist="36147" dir="2700000" blurRad="0" rotWithShape="0">
                      <a:srgbClr val="c0c0c0">
                        <a:alpha val="50000"/>
                      </a:srgbClr>
                    </a:outerShdw>
                  </a:effectLst>
                  <a:latin typeface="宋体"/>
                </a:rPr>
                <a:t>friends</a:t>
              </a:r>
              <a:endParaRPr b="1" lang="en-US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36147" dir="2700000" blurRad="0" rotWithShape="0">
                    <a:srgbClr val="c0c0c0">
                      <a:alpha val="5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1981080" y="5943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We are friend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000">
    <p:newsflash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52280" y="152280"/>
            <a:ext cx="7467840" cy="24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376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1.Listen and Rea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999"/>
              </a:spcBef>
              <a:tabLst>
                <a:tab algn="l" pos="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2.Draw and Writ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3733920"/>
            <a:ext cx="3733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re is the do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It’s under the tr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4114800" cy="43434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00400" y="4800600"/>
            <a:ext cx="175248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5800" y="533520"/>
            <a:ext cx="777240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904760" y="5487480"/>
            <a:ext cx="5562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's in the box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2383" t="2897" r="3575" b="2897"/>
          <a:stretch/>
        </p:blipFill>
        <p:spPr>
          <a:xfrm>
            <a:off x="1143000" y="914400"/>
            <a:ext cx="6019920" cy="457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2590920" y="2666880"/>
            <a:ext cx="3371760" cy="219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295280" y="5410080"/>
            <a:ext cx="63676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's on the truck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rcRect l="0" t="0" r="9639" b="0"/>
          <a:stretch/>
        </p:blipFill>
        <p:spPr>
          <a:xfrm>
            <a:off x="1066680" y="914400"/>
            <a:ext cx="61722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1142640" y="5334120"/>
            <a:ext cx="708660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’s under the tabl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rcRect l="2501" t="0" r="2501" b="0"/>
          <a:stretch/>
        </p:blipFill>
        <p:spPr>
          <a:xfrm>
            <a:off x="1295280" y="990720"/>
            <a:ext cx="6019920" cy="441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rcRect l="-2342" t="0" r="0" b="4182"/>
          <a:stretch/>
        </p:blipFill>
        <p:spPr>
          <a:xfrm>
            <a:off x="1219320" y="914400"/>
            <a:ext cx="6629400" cy="41148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133360" y="5334120"/>
            <a:ext cx="5181480" cy="65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’s in the taxi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371240" y="5410080"/>
            <a:ext cx="62485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’s on the chair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535" t="2070" r="66619" b="62063"/>
          <a:stretch/>
        </p:blipFill>
        <p:spPr>
          <a:xfrm>
            <a:off x="1828800" y="914400"/>
            <a:ext cx="502920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371600" y="5333760"/>
            <a:ext cx="64771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It’s on the books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rcRect l="8769" t="0" r="23726" b="13658"/>
          <a:stretch/>
        </p:blipFill>
        <p:spPr>
          <a:xfrm>
            <a:off x="1676520" y="914400"/>
            <a:ext cx="5333760" cy="44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4897440"/>
            <a:ext cx="79250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s i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           Can it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＿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Yes, it is.             Yes, it ca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o, it isn’t.           No, it can’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590920" y="228600"/>
            <a:ext cx="3517920" cy="4114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21014" t="10532" r="4726" b="1751"/>
          <a:stretch/>
        </p:blipFill>
        <p:spPr>
          <a:xfrm>
            <a:off x="2590920" y="914400"/>
            <a:ext cx="4419360" cy="38098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304920"/>
            <a:ext cx="6673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349"/>
              </a:spcBef>
              <a:tabLst>
                <a:tab algn="l" pos="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What ’s in the box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4:09:33Z</dcterms:created>
  <dc:creator/>
  <dc:description/>
  <dc:language>en-US</dc:language>
  <cp:lastModifiedBy/>
  <dcterms:modified xsi:type="dcterms:W3CDTF">2017-09-13T10:41:51Z</dcterms:modified>
  <cp:revision>15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88</vt:lpwstr>
  </property>
  <property fmtid="{D5CDD505-2E9C-101B-9397-08002B2CF9AE}" pid="3" name="Version">
    <vt:r8>1</vt:r8>
  </property>
</Properties>
</file>