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4F4-6B53-4DE9-82C4-BA4A1754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18D-4335-4BE7-856B-05A34665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096-4C51-4F5E-8414-DF6BB7A3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CBC-A101-4D22-9F37-9F282520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E4C-F447-4DEA-BF21-F8D49EC2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8E8-9AD0-49DC-AB61-3C6AECE5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45F-F56E-4026-BFDC-2B78C18B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2E5-ECA6-4908-95C4-E2DB19DB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7B8-B1E8-43DA-857B-43450B86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938-FBCB-4ED6-A90B-B437EDE4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18E-63C1-405A-9DE8-79E2EC6D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208-85FE-4536-BE55-85E17C75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54AF2D79-7B7F-4FDE-8770-627E9F49E6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" Target="slide13.xml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" Target="slide12.xml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slide" Target="slide11.xml"/><Relationship Id="rId11" Type="http://schemas.openxmlformats.org/officeDocument/2006/relationships/image" Target="../media/image6.png"/><Relationship Id="rId12" Type="http://schemas.openxmlformats.org/officeDocument/2006/relationships/slide" Target="slide10.xml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14.jpeg"/><Relationship Id="rId4" Type="http://schemas.openxmlformats.org/officeDocument/2006/relationships/slide" Target="slide2.xm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4440" y="2211480"/>
            <a:ext cx="693288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Lesson 9   How Man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457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冀教版 三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QQ图片2006061205192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200910516444992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QQ图片2006061205094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2008524721451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humb_250_0_13351867039838 拷贝.gif"/>
          <p:cNvPicPr/>
          <p:nvPr/>
        </p:nvPicPr>
        <p:blipFill>
          <a:blip r:embed="rId1"/>
          <a:stretch/>
        </p:blipFill>
        <p:spPr>
          <a:xfrm>
            <a:off x="3581280" y="1371600"/>
            <a:ext cx="21337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28440" y="0"/>
            <a:ext cx="9115560" cy="6858000"/>
            <a:chOff x="28440" y="0"/>
            <a:chExt cx="9115560" cy="6858000"/>
          </a:xfrm>
        </p:grpSpPr>
        <p:pic>
          <p:nvPicPr>
            <p:cNvPr id="46" name="" descr="QQ图片20140310213533.jpg"/>
            <p:cNvPicPr/>
            <p:nvPr/>
          </p:nvPicPr>
          <p:blipFill>
            <a:blip r:embed="rId2"/>
            <a:stretch/>
          </p:blipFill>
          <p:spPr>
            <a:xfrm>
              <a:off x="28440" y="0"/>
              <a:ext cx="911556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3790800" y="96840"/>
              <a:ext cx="3162600" cy="6094440"/>
              <a:chOff x="3790800" y="96840"/>
              <a:chExt cx="3162600" cy="6094440"/>
            </a:xfrm>
          </p:grpSpPr>
          <p:pic>
            <p:nvPicPr>
              <p:cNvPr id="48" name="" descr="thumb_250_0_13351867039838 拷贝.gif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3809880"/>
                <a:ext cx="2381400" cy="238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u=332220712,3160809052&amp;fm=90&amp;gp=0.jpg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3790800" y="96840"/>
                <a:ext cx="1659240" cy="186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" name=""/>
            <p:cNvGrpSpPr/>
            <p:nvPr/>
          </p:nvGrpSpPr>
          <p:grpSpPr>
            <a:xfrm>
              <a:off x="3657600" y="1371600"/>
              <a:ext cx="1905120" cy="2303640"/>
              <a:chOff x="3657600" y="1371600"/>
              <a:chExt cx="1905120" cy="2303640"/>
            </a:xfrm>
          </p:grpSpPr>
          <p:pic>
            <p:nvPicPr>
              <p:cNvPr id="51" name="" descr="thumb_250_0_13351867039838 拷贝.gif"/>
              <p:cNvPicPr/>
              <p:nvPr/>
            </p:nvPicPr>
            <p:blipFill>
              <a:blip r:embed="rId6"/>
              <a:stretch/>
            </p:blipFill>
            <p:spPr>
              <a:xfrm>
                <a:off x="3657600" y="1371600"/>
                <a:ext cx="1905120" cy="19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QQ图片20140310204334.jpg">
                <a:hlinkClick r:id="rId7" action="ppaction://hlinksldjump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3760920" y="1547640"/>
                <a:ext cx="1665000" cy="212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791320" y="2362320"/>
              <a:ext cx="1827000" cy="2100240"/>
              <a:chOff x="5791320" y="2362320"/>
              <a:chExt cx="1827000" cy="2100240"/>
            </a:xfrm>
          </p:grpSpPr>
          <p:pic>
            <p:nvPicPr>
              <p:cNvPr id="54" name="" descr="thumb_250_0_13351867039838 拷贝.gif"/>
              <p:cNvPicPr/>
              <p:nvPr/>
            </p:nvPicPr>
            <p:blipFill>
              <a:blip r:embed="rId9"/>
              <a:stretch/>
            </p:blipFill>
            <p:spPr>
              <a:xfrm>
                <a:off x="5791320" y="2362320"/>
                <a:ext cx="182700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u=914924590,3840973089&amp;fm=21&amp;gp=0.jpg">
                <a:hlinkClick r:id="rId10" action="ppaction://hlinksldjump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5913360" y="2462040"/>
                <a:ext cx="1560600" cy="2000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" name="" descr="QQ图片20140310215200.jpg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4883040" y="4059360"/>
              <a:ext cx="181620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 txBox="1"/>
            <p:nvPr/>
          </p:nvSpPr>
          <p:spPr>
            <a:xfrm>
              <a:off x="152280" y="76320"/>
              <a:ext cx="3505320" cy="289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cc">
                      <a:alpha val="85000"/>
                    </a:srgbClr>
                  </a:solidFill>
                  <a:latin typeface="Times New Roman"/>
                </a:rPr>
                <a:t>zoo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>
                    <a:alpha val="85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58" name="" descr="thumb_250_0_13351867039838 拷贝.gif"/>
          <p:cNvPicPr/>
          <p:nvPr/>
        </p:nvPicPr>
        <p:blipFill>
          <a:blip r:embed="rId14"/>
          <a:stretch/>
        </p:blipFill>
        <p:spPr>
          <a:xfrm>
            <a:off x="1905120" y="3657600"/>
            <a:ext cx="2257200" cy="2257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hou.jpg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157480" y="3833640"/>
            <a:ext cx="1731960" cy="23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24080" y="276120"/>
            <a:ext cx="3124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How many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244520"/>
            <a:ext cx="92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How many? How many?   One, one, there is 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178000"/>
            <a:ext cx="899172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How many? How many?   Two, two, there are two.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3092400"/>
            <a:ext cx="91440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How many? How many?   Three, three, there are th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4006800"/>
            <a:ext cx="87627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How many? How many?   Four, four, there are f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4923000"/>
            <a:ext cx="88390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How many? How many?   Five, five, there are f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0304"/>
          <p:cNvPicPr/>
          <p:nvPr/>
        </p:nvPicPr>
        <p:blipFill>
          <a:blip r:embed="rId1"/>
          <a:stretch/>
        </p:blipFill>
        <p:spPr>
          <a:xfrm>
            <a:off x="1447920" y="76320"/>
            <a:ext cx="6248160" cy="545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52480" y="5316480"/>
            <a:ext cx="5715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many ____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e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re are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495288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038480" y="53341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6095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7920" y="76320"/>
            <a:ext cx="6248160" cy="5457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52480" y="5316480"/>
            <a:ext cx="5715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many _____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are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re are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28800" y="457200"/>
            <a:ext cx="5486400" cy="3048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038480" y="5334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6095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52480" y="5316480"/>
            <a:ext cx="5715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many _____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are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re are 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0304"/>
          <p:cNvPicPr/>
          <p:nvPr/>
        </p:nvPicPr>
        <p:blipFill>
          <a:blip r:embed="rId1"/>
          <a:stretch/>
        </p:blipFill>
        <p:spPr>
          <a:xfrm>
            <a:off x="1447920" y="76320"/>
            <a:ext cx="6172200" cy="5391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14800" y="5486400"/>
            <a:ext cx="1066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5334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n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60958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76520" y="357120"/>
            <a:ext cx="5748120" cy="3376800"/>
            <a:chOff x="1676520" y="357120"/>
            <a:chExt cx="5748120" cy="3376800"/>
          </a:xfrm>
        </p:grpSpPr>
        <p:pic>
          <p:nvPicPr>
            <p:cNvPr id="83" name="" descr="QQ图片20060614023653"/>
            <p:cNvPicPr/>
            <p:nvPr/>
          </p:nvPicPr>
          <p:blipFill>
            <a:blip r:embed="rId2"/>
            <a:stretch/>
          </p:blipFill>
          <p:spPr>
            <a:xfrm>
              <a:off x="3809880" y="357120"/>
              <a:ext cx="3614760" cy="337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QQ图片20140422221515.jpg"/>
            <p:cNvPicPr/>
            <p:nvPr/>
          </p:nvPicPr>
          <p:blipFill>
            <a:blip r:embed="rId3"/>
            <a:stretch/>
          </p:blipFill>
          <p:spPr>
            <a:xfrm>
              <a:off x="1676520" y="357120"/>
              <a:ext cx="2514600" cy="3353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0304"/>
          <p:cNvPicPr/>
          <p:nvPr/>
        </p:nvPicPr>
        <p:blipFill>
          <a:blip r:embed="rId1"/>
          <a:stretch/>
        </p:blipFill>
        <p:spPr>
          <a:xfrm>
            <a:off x="1447920" y="76320"/>
            <a:ext cx="6248160" cy="545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52480" y="5316480"/>
            <a:ext cx="65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many  _______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are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re are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5334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n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6095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monkey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28800" y="284040"/>
            <a:ext cx="2666880" cy="3373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monkeys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48320" y="284040"/>
            <a:ext cx="2666880" cy="33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0" y="17208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See  you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QQ图片20140422220128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2T01:35:09Z</dcterms:created>
  <dc:creator>Administrator</dc:creator>
  <dc:description/>
  <dc:language>en-US</dc:language>
  <cp:lastModifiedBy>Microsoft</cp:lastModifiedBy>
  <dcterms:modified xsi:type="dcterms:W3CDTF">2017-09-13T12:21:38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