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2.png" ContentType="image/png"/>
  <Override PartName="/ppt/media/image2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D7F-3050-4C50-AE9A-87096EF4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0DA-774F-4D99-B027-F49BF23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6D-D101-452F-A697-3AEAED72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F0B-8CB5-4869-8AA2-10CAA85E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33A-50A9-488B-A6BF-A2A63DAB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8ED-10A7-4E9B-B3F7-56901FCA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52C-7723-4032-96ED-C8D79180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367-D409-45FB-B309-96D49BB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A36-2241-4BFC-B366-54C9C31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594-250A-4E46-8CA6-121F71D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409-E15E-41F2-8FF2-A5127AA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B76-5D0F-4D45-B6B2-E2A1EFD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61DE724-1D61-4FCD-9143-9F139F88C5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image.baidu.com/i?ct=503316480&amp;z=&amp;tn=baiduimagedetail&amp;word=%CC%D2%D7%D3&amp;in=4474&amp;cl=2&amp;lm=-1&amp;pn=1&amp;rn=1&amp;di=11754319140&amp;ln=2000&amp;fr=&amp;fmq=&amp;ic=0&amp;s=0&amp;se=1&amp;sme=0&amp;tab=&amp;width=&amp;height=&amp;face=0&amp;is=&amp;istype=2/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http://image.baidu.com/i?ct=503316480&amp;z=&amp;tn=baiduimagedetail&amp;word=%CD%C3%D7%D3&amp;in=24752&amp;cl=2&amp;lm=-1&amp;pn=36&amp;rn=1&amp;di=51091534308&amp;ln=2000&amp;fr=&amp;fmq=&amp;ic=0&amp;s=0&amp;se=1&amp;sme=0&amp;tab=&amp;width=&amp;height=&amp;face=0&amp;is=&amp;istype=2/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hyperlink" Target="http://image.baidu.com/i?ct=503316480&amp;z=&amp;tn=baiduimagedetail&amp;word=%E9%D9%D7%D3&amp;in=31614&amp;cl=2&amp;lm=-1&amp;pn=0&amp;rn=1&amp;di=10132339995&amp;ln=2000&amp;fr=&amp;fmq=&amp;ic=0&amp;s=0&amp;se=1&amp;sme=0&amp;tab=&amp;width=&amp;height=&amp;face=0&amp;is=&amp;istype=2/" TargetMode="External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8380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Lesson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A Little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3"/>
          <p:cNvPicPr/>
          <p:nvPr/>
        </p:nvPicPr>
        <p:blipFill>
          <a:blip r:embed="rId3"/>
          <a:stretch/>
        </p:blipFill>
        <p:spPr>
          <a:xfrm>
            <a:off x="1523880" y="2209680"/>
            <a:ext cx="6310440" cy="396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3808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icture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191120"/>
            <a:ext cx="72392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en read and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does the monkey se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does the monk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es the monkey have any fr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352680" cy="3038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66680" y="1295280"/>
            <a:ext cx="3748320" cy="25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335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icture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800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ook at the las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here is the fru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52480" y="1219320"/>
            <a:ext cx="5357880" cy="32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99072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.Listen and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students listen and follow to read the story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838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523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Right or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0968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   ) 1. There is a red flower on the monke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s hea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   ) 2. The monkey want to pick some peache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   ) 3. The monkey want to pick some strawberrie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(      ) 4. The monkey played with a do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22860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ow some pictures and numb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2449800" cy="1730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2438280" cy="226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05120" y="4191120"/>
            <a:ext cx="2361960" cy="206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324480" y="1371600"/>
            <a:ext cx="2332080" cy="219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257800" y="4572000"/>
            <a:ext cx="26146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809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743200" y="63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685800"/>
            <a:ext cx="706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Group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d the story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581280"/>
            <a:ext cx="5715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Act the stor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335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clo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143000"/>
            <a:ext cx="53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AutoNum type="arabicPeriod"/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7315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Ho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d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ell the story to your parents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600200"/>
            <a:ext cx="64008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谚语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man cannot whistle and drink at the same ti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心不能二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 sa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 done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说到就要做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17520" y="0"/>
            <a:ext cx="9461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Lesson 24  Little Monkey Picks Pea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                   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I’ll pick some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u=3844253475,901094561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1295280" cy="96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628753_200905280859421k6BE"/>
          <p:cNvPicPr/>
          <p:nvPr/>
        </p:nvPicPr>
        <p:blipFill>
          <a:blip r:embed="rId5"/>
          <a:stretch/>
        </p:blipFill>
        <p:spPr>
          <a:xfrm>
            <a:off x="1447920" y="3276720"/>
            <a:ext cx="1295280" cy="107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u=2584795022,1023789147&amp;fm=3&amp;gp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4724280"/>
            <a:ext cx="99216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43400" y="4724280"/>
            <a:ext cx="99072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638680" y="3276720"/>
            <a:ext cx="1447920" cy="1090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1240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0972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8098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9680" y="4419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90920" y="2133720"/>
            <a:ext cx="510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0" lang="zh-CN" sz="6600" spc="-1" strike="noStrike">
                <a:solidFill>
                  <a:srgbClr val="0000ff"/>
                </a:solidFill>
                <a:latin typeface="Comic Sans MS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8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2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rm up and revie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752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uess a r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362320"/>
            <a:ext cx="2895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物象人又象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爬竿上树是能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擅长模仿人动作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里没有山中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6574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view some fr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ic_165756"/>
          <p:cNvPicPr/>
          <p:nvPr/>
        </p:nvPicPr>
        <p:blipFill>
          <a:blip r:embed="rId2"/>
          <a:stretch/>
        </p:blipFill>
        <p:spPr>
          <a:xfrm>
            <a:off x="4952880" y="304920"/>
            <a:ext cx="1914480" cy="2324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ic_165758"/>
          <p:cNvPicPr/>
          <p:nvPr/>
        </p:nvPicPr>
        <p:blipFill>
          <a:blip r:embed="rId3"/>
          <a:stretch/>
        </p:blipFill>
        <p:spPr>
          <a:xfrm>
            <a:off x="228600" y="1600200"/>
            <a:ext cx="217188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apple"/>
          <p:cNvPicPr/>
          <p:nvPr/>
        </p:nvPicPr>
        <p:blipFill>
          <a:blip r:embed="rId4"/>
          <a:stretch/>
        </p:blipFill>
        <p:spPr>
          <a:xfrm>
            <a:off x="5029200" y="2895480"/>
            <a:ext cx="1457280" cy="160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ic_165746"/>
          <p:cNvPicPr/>
          <p:nvPr/>
        </p:nvPicPr>
        <p:blipFill>
          <a:blip r:embed="rId5"/>
          <a:stretch/>
        </p:blipFill>
        <p:spPr>
          <a:xfrm>
            <a:off x="6400800" y="4038480"/>
            <a:ext cx="205740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ic_165748"/>
          <p:cNvPicPr/>
          <p:nvPr/>
        </p:nvPicPr>
        <p:blipFill>
          <a:blip r:embed="rId6"/>
          <a:stretch/>
        </p:blipFill>
        <p:spPr>
          <a:xfrm>
            <a:off x="2514600" y="20574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ic_165750"/>
          <p:cNvPicPr/>
          <p:nvPr/>
        </p:nvPicPr>
        <p:blipFill>
          <a:blip r:embed="rId7"/>
          <a:stretch/>
        </p:blipFill>
        <p:spPr>
          <a:xfrm>
            <a:off x="380880" y="4038480"/>
            <a:ext cx="2114640" cy="240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ic_165752"/>
          <p:cNvPicPr/>
          <p:nvPr/>
        </p:nvPicPr>
        <p:blipFill>
          <a:blip r:embed="rId8"/>
          <a:stretch/>
        </p:blipFill>
        <p:spPr>
          <a:xfrm>
            <a:off x="3505320" y="4191120"/>
            <a:ext cx="1876320" cy="23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ic_165754"/>
          <p:cNvPicPr/>
          <p:nvPr/>
        </p:nvPicPr>
        <p:blipFill>
          <a:blip r:embed="rId9"/>
          <a:stretch/>
        </p:blipFill>
        <p:spPr>
          <a:xfrm>
            <a:off x="6705720" y="1981080"/>
            <a:ext cx="1981080" cy="17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990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 at the pictures and disc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see in the pictu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362320"/>
            <a:ext cx="746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sten an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fruits does the monkey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es the monkey get the fr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457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Show the pictures one by one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1430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icture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6765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o is hung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do they want to 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would the left monkey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3276720"/>
            <a:ext cx="3060720" cy="237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366876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i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10666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en to Pictur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at’s the meaning of the sent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I’ll get some fruits for yo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64848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58760" y="0"/>
            <a:ext cx="9302760" cy="692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4572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icture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343400"/>
            <a:ext cx="83055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sten to Picture 4-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get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with the ac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 does the monkey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ll the monkey get so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366876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3276720" cy="30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5335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ictu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4730760" cy="41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380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icture 7,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Question: What fruits does the monkey fi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339912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1:19:06Z</dcterms:created>
  <dc:creator/>
  <dc:description/>
  <dc:language>en-US</dc:language>
  <cp:lastModifiedBy>Microsoft</cp:lastModifiedBy>
  <dcterms:modified xsi:type="dcterms:W3CDTF">2017-09-12T12:30:4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