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6.png" ContentType="image/png"/>
  <Override PartName="/ppt/media/image21.jpeg" ContentType="image/jpeg"/>
  <Override PartName="/ppt/media/image29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1A9F-6976-475B-89DA-514660EB003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21C9-CEF5-4F3B-863F-482C978A4A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B0C-F869-4780-B97A-21439588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488-B806-45B1-B529-2CD7A1BE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873-52EB-4BC5-B7D5-B6CA93A2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5CC-3CB5-4529-BDF5-9C7BED61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01B-9CAC-40D6-942F-185528F2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3CD-6A93-42FB-9807-B9863571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9E2-3B7B-48CB-BFD8-ECB1B5D9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ECE-4E8A-413D-BE5B-8A7CD919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4D1-31B6-4ADE-8BCC-193D3869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9BA-8A27-47BD-830A-1DEC845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807-C598-4850-9B88-DE71486E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F51-8E9B-47A8-AF74-6F085F3A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9917-F7EB-4073-910A-0E1F79EB1B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图片 6" descr="11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任意多边形 7" descr=""/>
          <p:cNvPicPr/>
          <p:nvPr/>
        </p:nvPicPr>
        <p:blipFill>
          <a:blip r:embed="rId3"/>
          <a:stretch/>
        </p:blipFill>
        <p:spPr>
          <a:xfrm>
            <a:off x="853920" y="1554120"/>
            <a:ext cx="73630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://www.yxdaily.com/yxnews/digital/dgzx/images/200732973265.jpg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http://pic2.sucaiw.com/up_files/out_pics/31332026a6/J3-050-0010JJ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://img6.faloo.com/picture/0x0/1/1578/1578038.jpg"/>
          <p:cNvPicPr/>
          <p:nvPr/>
        </p:nvPicPr>
        <p:blipFill>
          <a:blip r:embed="rId2"/>
          <a:stretch/>
        </p:blipFill>
        <p:spPr>
          <a:xfrm>
            <a:off x="0" y="0"/>
            <a:ext cx="924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ttp://data1.act3.qq.com/2010-06-08/14/0ed0a37b424d2cd7ad20a3e809f17b2f.jpg"/>
          <p:cNvPicPr/>
          <p:nvPr/>
        </p:nvPicPr>
        <p:blipFill>
          <a:blip r:embed="rId2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210.21.29.121/about/ztc/tianjin/zuixindongtai/201106/a/e39654_634451344755450466.jpg"/>
          <p:cNvPicPr/>
          <p:nvPr/>
        </p:nvPicPr>
        <p:blipFill>
          <a:blip r:embed="rId2"/>
          <a:srcRect l="0" t="0" r="0" b="121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http://pic3.nipic.com/20090516/2116424_115325034_2.jpg"/>
          <p:cNvPicPr/>
          <p:nvPr/>
        </p:nvPicPr>
        <p:blipFill>
          <a:blip r:embed="rId2"/>
          <a:stretch/>
        </p:blipFill>
        <p:spPr>
          <a:xfrm>
            <a:off x="1116000" y="404640"/>
            <a:ext cx="6551640" cy="5820120"/>
          </a:xfrm>
          <a:prstGeom prst="rect">
            <a:avLst/>
          </a:prstGeom>
          <a:ln w="0">
            <a:noFill/>
          </a:ln>
        </p:spPr>
      </p:pic>
      <p:sp>
        <p:nvSpPr>
          <p:cNvPr id="91" name="矩形 1"/>
          <p:cNvSpPr/>
          <p:nvPr/>
        </p:nvSpPr>
        <p:spPr>
          <a:xfrm>
            <a:off x="1350720" y="2349360"/>
            <a:ext cx="654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Protect the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79520" y="98100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1042920" y="2098080"/>
            <a:ext cx="72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Make a pos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Where do they liv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 Read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矩形 1" descr=""/>
          <p:cNvPicPr/>
          <p:nvPr/>
        </p:nvPicPr>
        <p:blipFill>
          <a:blip r:embed="rId2"/>
          <a:stretch/>
        </p:blipFill>
        <p:spPr>
          <a:xfrm>
            <a:off x="2523960" y="2749680"/>
            <a:ext cx="410220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徐伟艳\AppData\Roaming\Tencent\Users\1604695018\QQ\WinTemp\RichOle\92(0Z7(XSJH`$FJBQNU`(K4.jpg"/>
          <p:cNvPicPr/>
          <p:nvPr/>
        </p:nvPicPr>
        <p:blipFill>
          <a:blip r:embed="rId2"/>
          <a:stretch/>
        </p:blipFill>
        <p:spPr>
          <a:xfrm>
            <a:off x="2556000" y="549360"/>
            <a:ext cx="3792240" cy="2016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1841400" y="2936880"/>
            <a:ext cx="50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es a fish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1804680" y="3800520"/>
            <a:ext cx="218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 a riv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左箭头 4"/>
          <p:cNvSpPr/>
          <p:nvPr/>
        </p:nvSpPr>
        <p:spPr>
          <a:xfrm>
            <a:off x="7236000" y="5661000"/>
            <a:ext cx="1296720" cy="792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C:\Users\徐伟艳\AppData\Roaming\Tencent\Users\1604695018\QQ\WinTemp\RichOle\KGIJC(5IQ[)3AF1TXZGABDI.jpg"/>
          <p:cNvPicPr/>
          <p:nvPr/>
        </p:nvPicPr>
        <p:blipFill>
          <a:blip r:embed="rId2"/>
          <a:stretch/>
        </p:blipFill>
        <p:spPr>
          <a:xfrm>
            <a:off x="2633760" y="333360"/>
            <a:ext cx="3450960" cy="2232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1837080" y="2936880"/>
            <a:ext cx="51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es a bird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826280" y="3800520"/>
            <a:ext cx="20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 a tr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左箭头 4"/>
          <p:cNvSpPr/>
          <p:nvPr/>
        </p:nvSpPr>
        <p:spPr>
          <a:xfrm>
            <a:off x="7236000" y="5661000"/>
            <a:ext cx="1296720" cy="792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2621688_125545005506_2.jpg"/>
          <p:cNvPicPr/>
          <p:nvPr/>
        </p:nvPicPr>
        <p:blipFill>
          <a:blip r:embed="rId2"/>
          <a:stretch/>
        </p:blipFill>
        <p:spPr>
          <a:xfrm>
            <a:off x="2195640" y="1773360"/>
            <a:ext cx="5916600" cy="4437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3706.jpg"/>
          <p:cNvPicPr/>
          <p:nvPr/>
        </p:nvPicPr>
        <p:blipFill>
          <a:blip r:embed="rId3"/>
          <a:stretch/>
        </p:blipFill>
        <p:spPr>
          <a:xfrm>
            <a:off x="0" y="0"/>
            <a:ext cx="21240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徐伟艳\AppData\Roaming\Tencent\Users\1604695018\QQ\WinTemp\RichOle\Y11P0(~SEWBCZJ3HI1JEGM0.jpg"/>
          <p:cNvPicPr/>
          <p:nvPr/>
        </p:nvPicPr>
        <p:blipFill>
          <a:blip r:embed="rId2"/>
          <a:stretch/>
        </p:blipFill>
        <p:spPr>
          <a:xfrm>
            <a:off x="3132000" y="333360"/>
            <a:ext cx="2740320" cy="247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1842840" y="293688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es a panda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822320" y="3800520"/>
            <a:ext cx="24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 a for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左箭头 6"/>
          <p:cNvSpPr/>
          <p:nvPr/>
        </p:nvSpPr>
        <p:spPr>
          <a:xfrm>
            <a:off x="7236000" y="5661000"/>
            <a:ext cx="1296720" cy="792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4" descr="3706.jpg"/>
          <p:cNvPicPr/>
          <p:nvPr/>
        </p:nvPicPr>
        <p:blipFill>
          <a:blip r:embed="rId2"/>
          <a:stretch/>
        </p:blipFill>
        <p:spPr>
          <a:xfrm>
            <a:off x="7004160" y="-19080"/>
            <a:ext cx="2158920" cy="2232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19300001150142129966113771140.jpg"/>
          <p:cNvPicPr/>
          <p:nvPr/>
        </p:nvPicPr>
        <p:blipFill>
          <a:blip r:embed="rId3"/>
          <a:stretch/>
        </p:blipFill>
        <p:spPr>
          <a:xfrm>
            <a:off x="755640" y="1268280"/>
            <a:ext cx="61088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8" descr="未标题-2.jpg"/>
          <p:cNvPicPr/>
          <p:nvPr/>
        </p:nvPicPr>
        <p:blipFill>
          <a:blip r:embed="rId2"/>
          <a:srcRect l="0" t="0" r="25190" b="0"/>
          <a:stretch/>
        </p:blipFill>
        <p:spPr>
          <a:xfrm>
            <a:off x="912960" y="620640"/>
            <a:ext cx="7475400" cy="5618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7169040" y="4724280"/>
            <a:ext cx="116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600" y="2852640"/>
            <a:ext cx="10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5651640" y="44280"/>
            <a:ext cx="142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1046160" y="6033960"/>
            <a:ext cx="125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8830238_193328134000_2.jpg"/>
          <p:cNvPicPr/>
          <p:nvPr/>
        </p:nvPicPr>
        <p:blipFill>
          <a:blip r:embed="rId2"/>
          <a:srcRect l="0" t="0" r="0" b="18895"/>
          <a:stretch/>
        </p:blipFill>
        <p:spPr>
          <a:xfrm>
            <a:off x="1187280" y="2060640"/>
            <a:ext cx="6769440" cy="3672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639800" y="476280"/>
            <a:ext cx="51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es a cow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629360" y="119700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6263437_104159533107_2.jpg"/>
          <p:cNvPicPr/>
          <p:nvPr/>
        </p:nvPicPr>
        <p:blipFill>
          <a:blip r:embed="rId2"/>
          <a:srcRect l="0" t="0" r="0" b="6766"/>
          <a:stretch/>
        </p:blipFill>
        <p:spPr>
          <a:xfrm>
            <a:off x="2050920" y="620640"/>
            <a:ext cx="4897440" cy="34243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2001960" y="4581360"/>
            <a:ext cx="50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tiger live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n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_____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435640" y="4592520"/>
            <a:ext cx="142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_XiaoXiaoShuErNiao_YiMengErQiangTie_DianShiKeTingBeiJingQiangTieZhi_10284324600.jpg"/>
          <p:cNvPicPr/>
          <p:nvPr/>
        </p:nvPicPr>
        <p:blipFill>
          <a:blip r:embed="rId2"/>
          <a:stretch/>
        </p:blipFill>
        <p:spPr>
          <a:xfrm>
            <a:off x="250920" y="74448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" descr="406258.jpg"/>
          <p:cNvPicPr/>
          <p:nvPr/>
        </p:nvPicPr>
        <p:blipFill>
          <a:blip r:embed="rId3"/>
          <a:srcRect l="22666" t="0" r="0" b="16955"/>
          <a:stretch/>
        </p:blipFill>
        <p:spPr>
          <a:xfrm>
            <a:off x="6012000" y="3409920"/>
            <a:ext cx="2844720" cy="20350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" descr="8185463_160835432000_2.jpg"/>
          <p:cNvPicPr/>
          <p:nvPr/>
        </p:nvPicPr>
        <p:blipFill>
          <a:blip r:embed="rId4"/>
          <a:srcRect l="0" t="10878" r="0" b="10294"/>
          <a:stretch/>
        </p:blipFill>
        <p:spPr>
          <a:xfrm>
            <a:off x="3780000" y="3336840"/>
            <a:ext cx="1766880" cy="20890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" descr="9011561_152759571126_2.jpg"/>
          <p:cNvPicPr/>
          <p:nvPr/>
        </p:nvPicPr>
        <p:blipFill>
          <a:blip r:embed="rId5"/>
          <a:stretch/>
        </p:blipFill>
        <p:spPr>
          <a:xfrm>
            <a:off x="6210360" y="817560"/>
            <a:ext cx="2738520" cy="20876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5" descr="20090212093405363.jpg"/>
          <p:cNvPicPr/>
          <p:nvPr/>
        </p:nvPicPr>
        <p:blipFill>
          <a:blip r:embed="rId6"/>
          <a:stretch/>
        </p:blipFill>
        <p:spPr>
          <a:xfrm>
            <a:off x="268200" y="3409920"/>
            <a:ext cx="29354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6" descr="64052_12769982418caz.jpg"/>
          <p:cNvPicPr/>
          <p:nvPr/>
        </p:nvPicPr>
        <p:blipFill>
          <a:blip r:embed="rId7"/>
          <a:stretch/>
        </p:blipFill>
        <p:spPr>
          <a:xfrm>
            <a:off x="3492360" y="817560"/>
            <a:ext cx="2448000" cy="2041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1783800" y="5445000"/>
            <a:ext cx="58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____ live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n/on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_____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2211840" y="0"/>
            <a:ext cx="442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 they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684360" y="2434680"/>
            <a:ext cx="813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A: Where do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wolf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B: In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forest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C: Yes.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wolf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lives in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forest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D: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tiger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lives in a forest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http://hiphotos.baidu.com/lanshui884/pic/item/dfc652dee4bf9b11cdbf1a32.jpg"/>
          <p:cNvPicPr/>
          <p:nvPr/>
        </p:nvPicPr>
        <p:blipFill>
          <a:blip r:embed="rId2"/>
          <a:stretch/>
        </p:blipFill>
        <p:spPr>
          <a:xfrm>
            <a:off x="324000" y="26028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http://pic5.nipic.com/20100226/3279936_152249049426_2.jpg"/>
          <p:cNvPicPr/>
          <p:nvPr/>
        </p:nvPicPr>
        <p:blipFill>
          <a:blip r:embed="rId3"/>
          <a:srcRect l="0" t="0" r="0" b="2712"/>
          <a:stretch/>
        </p:blipFill>
        <p:spPr>
          <a:xfrm>
            <a:off x="5364000" y="260280"/>
            <a:ext cx="28846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http://img2.pclady.com.cn/pclady/pet/petzt/1011/21_1.jpg"/>
          <p:cNvPicPr/>
          <p:nvPr/>
        </p:nvPicPr>
        <p:blipFill>
          <a:blip r:embed="rId2"/>
          <a:stretch/>
        </p:blipFill>
        <p:spPr>
          <a:xfrm>
            <a:off x="468360" y="404640"/>
            <a:ext cx="2879640" cy="164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http://pic4.nipic.com/20090805/842488_182303041_2.jpg"/>
          <p:cNvPicPr/>
          <p:nvPr/>
        </p:nvPicPr>
        <p:blipFill>
          <a:blip r:embed="rId3"/>
          <a:stretch/>
        </p:blipFill>
        <p:spPr>
          <a:xfrm>
            <a:off x="3635280" y="333360"/>
            <a:ext cx="2305080" cy="1727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611280" y="2670840"/>
            <a:ext cx="9144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: Where does a __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: In/On a 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: Yes. A__ lives in/on a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: A ___ lives in/on a__,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http://f.01ny.cn/forum/201205/04/080318va2xxzxxvq799o47.jpg"/>
          <p:cNvPicPr/>
          <p:nvPr/>
        </p:nvPicPr>
        <p:blipFill>
          <a:blip r:embed="rId4"/>
          <a:stretch/>
        </p:blipFill>
        <p:spPr>
          <a:xfrm>
            <a:off x="6372360" y="404640"/>
            <a:ext cx="2447640" cy="17733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003.jpg"/>
          <p:cNvPicPr/>
          <p:nvPr/>
        </p:nvPicPr>
        <p:blipFill>
          <a:blip r:embed="rId5"/>
          <a:srcRect l="44091" t="0" r="0" b="0"/>
          <a:stretch/>
        </p:blipFill>
        <p:spPr>
          <a:xfrm>
            <a:off x="6443640" y="2349360"/>
            <a:ext cx="2232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7:53:05Z</dcterms:created>
  <dc:creator>徐伟艳</dc:creator>
  <dc:description/>
  <dc:language>en-US</dc:language>
  <cp:lastModifiedBy>ccc</cp:lastModifiedBy>
  <dcterms:modified xsi:type="dcterms:W3CDTF">2017-10-24T02:27:37Z</dcterms:modified>
  <cp:revision>60</cp:revision>
  <dc:subject/>
  <dc:title>幻灯片 1</dc:title>
</cp:coreProperties>
</file>