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FBE-D27E-45A9-B8FC-D197139E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DBB-DEDA-4EA7-B884-514DB5C7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DF3-1796-4B37-9885-EFC6037D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159-CC80-4534-9165-D0D95AC7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92A-2BB1-46A4-9D1F-C3A02FDE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C00-6A8E-425F-876A-8647C05F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55B-351F-4305-9A1F-A0F76C6D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B71-48CC-4496-BEDF-D7EBB136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329-68D4-491B-A176-1EAEEADE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626-8009-4A76-AB74-707D33A3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768-E6EE-4E03-95F3-890F4FE1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FF3-EDF8-4A8D-AAAA-1A1534E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F1FC-DBEA-4B8E-AA98-E0B5B171C3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 Horses and Rab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20"/>
          <p:cNvSpPr txBox="1"/>
          <p:nvPr/>
        </p:nvSpPr>
        <p:spPr>
          <a:xfrm>
            <a:off x="179280" y="333360"/>
            <a:ext cx="46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三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6445440" y="404640"/>
            <a:ext cx="15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nit 1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" descr="u=3597879461,3970173672&amp;fm=59.jpg"/>
          <p:cNvPicPr/>
          <p:nvPr/>
        </p:nvPicPr>
        <p:blipFill>
          <a:blip r:embed="rId1"/>
          <a:srcRect l="7808" t="12152" r="10205" b="5859"/>
          <a:stretch/>
        </p:blipFill>
        <p:spPr>
          <a:xfrm>
            <a:off x="468360" y="1766880"/>
            <a:ext cx="8207280" cy="4902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2714760" y="5842080"/>
            <a:ext cx="33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abbi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u=3597879461,3970173672&amp;fm=59.jpg"/>
          <p:cNvPicPr/>
          <p:nvPr/>
        </p:nvPicPr>
        <p:blipFill>
          <a:blip r:embed="rId1"/>
          <a:srcRect l="7808" t="12152" r="10205" b="5859"/>
          <a:stretch/>
        </p:blipFill>
        <p:spPr>
          <a:xfrm>
            <a:off x="0" y="1398600"/>
            <a:ext cx="9144000" cy="5459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143000" y="5842080"/>
            <a:ext cx="742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abbits  can  jump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1571760" y="92880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  a   duck   swi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571760" y="178596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es,it  can!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571760" y="2643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  a   fish   fl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500120" y="3643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,it   can’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571760" y="92880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  animal   can   fl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571760" y="178596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  animal   can   swi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571760" y="2643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  animal   can   ru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500120" y="36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  animal   can   jump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2071800" y="2571840"/>
            <a:ext cx="70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o   a    research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84360" y="1268280"/>
          <a:ext cx="7643520" cy="3559320"/>
        </p:xfrm>
        <a:graphic>
          <a:graphicData uri="http://schemas.openxmlformats.org/drawingml/2006/table">
            <a:tbl>
              <a:tblPr/>
              <a:tblGrid>
                <a:gridCol w="1528560"/>
                <a:gridCol w="1528560"/>
                <a:gridCol w="1528920"/>
                <a:gridCol w="1528560"/>
                <a:gridCol w="152892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i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or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b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2411280" y="2852640"/>
            <a:ext cx="357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f0000"/>
                </a:solidFill>
                <a:latin typeface="Comic Sans MS"/>
              </a:rPr>
              <a:t>Goodbye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836200" cy="581652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1403280" y="549360"/>
            <a:ext cx="490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omic Sans MS"/>
              </a:rPr>
              <a:t>Let’s sing a song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omic Sans MS"/>
              </a:rPr>
              <a:t>Bingo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2210400" y="32457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图片 5" descr="u=622956492,453420972&amp;fm=59.jpg"/>
          <p:cNvPicPr/>
          <p:nvPr/>
        </p:nvPicPr>
        <p:blipFill>
          <a:blip r:embed="rId1"/>
          <a:stretch/>
        </p:blipFill>
        <p:spPr>
          <a:xfrm>
            <a:off x="826920" y="549360"/>
            <a:ext cx="7420320" cy="5565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1357200" y="59342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Fish  can   swim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u=3651515601,4123512987&amp;fm=59.jpg"/>
          <p:cNvPicPr/>
          <p:nvPr/>
        </p:nvPicPr>
        <p:blipFill>
          <a:blip r:embed="rId1"/>
          <a:srcRect l="0" t="26631" r="10292" b="13575"/>
          <a:stretch/>
        </p:blipFill>
        <p:spPr>
          <a:xfrm>
            <a:off x="117360" y="836640"/>
            <a:ext cx="8918640" cy="5946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785880" y="593424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Birds   can   fiy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832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图片 3" descr="u=934010511,669563757&amp;fm=23&amp;gp=0.jpg"/>
          <p:cNvPicPr/>
          <p:nvPr/>
        </p:nvPicPr>
        <p:blipFill>
          <a:blip r:embed="rId1"/>
          <a:srcRect l="0" t="3299" r="983" b="0"/>
          <a:stretch/>
        </p:blipFill>
        <p:spPr>
          <a:xfrm>
            <a:off x="250920" y="404640"/>
            <a:ext cx="7448400" cy="6309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857160" y="564372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 girl   can   dance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" descr="u=2547334813,867642763&amp;fm=23&amp;gp=0.jpg"/>
          <p:cNvPicPr/>
          <p:nvPr/>
        </p:nvPicPr>
        <p:blipFill>
          <a:blip r:embed="rId1"/>
          <a:srcRect l="36025" t="940" r="0" b="0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4572000" y="278136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 boy  can sing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85880" y="1214280"/>
            <a:ext cx="76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hat   can   you   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571680" y="3500280"/>
            <a:ext cx="72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I    can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u=2350168839,2411130290&amp;fm=23&amp;gp=0.jpg"/>
          <p:cNvPicPr/>
          <p:nvPr/>
        </p:nvPicPr>
        <p:blipFill>
          <a:blip r:embed="rId1"/>
          <a:srcRect l="0" t="0" r="10605" b="-87"/>
          <a:stretch/>
        </p:blipFill>
        <p:spPr>
          <a:xfrm>
            <a:off x="826920" y="176040"/>
            <a:ext cx="7490160" cy="6277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143160" y="5214960"/>
            <a:ext cx="350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ors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u=2350168839,2411130290&amp;fm=23&amp;gp=0.jpg"/>
          <p:cNvPicPr/>
          <p:nvPr/>
        </p:nvPicPr>
        <p:blipFill>
          <a:blip r:embed="rId1"/>
          <a:srcRect l="0" t="0" r="10605" b="-87"/>
          <a:stretch/>
        </p:blipFill>
        <p:spPr>
          <a:xfrm>
            <a:off x="395280" y="0"/>
            <a:ext cx="8353440" cy="6769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714240" y="4789440"/>
            <a:ext cx="821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orses  can  run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5:43:05Z</dcterms:created>
  <dc:creator> </dc:creator>
  <dc:description> </dc:description>
  <cp:keywords/>
  <dc:language>en-US</dc:language>
  <cp:lastModifiedBy>微软用户</cp:lastModifiedBy>
  <dcterms:modified xsi:type="dcterms:W3CDTF">2016-04-29T04:45:11Z</dcterms:modified>
  <cp:revision>4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