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FBC-4685-4C9F-A8B3-13C4A4B2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7A7-3362-4754-AD73-5514D106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176-DE32-4BAD-96DE-D2DE7309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40E-2B6E-4EA7-AC47-95511E71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D23-0F40-44E1-BAE6-F0795450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708-9A4E-4EDC-BF33-D88D7715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8EF4-FE03-4306-A86E-C8A7E5C2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D0F-16CF-4DEF-8B3F-A6BFD101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AE5-3E14-4363-A4DE-5D0CB6EB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574-BEF0-4AE7-92B5-A5B81952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27D-5E86-48A9-8FC0-F1CB5598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399A-4D7B-460A-97B3-BA7AD8CB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5972-23A5-4D08-9C9B-13B82DC1E6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276200" y="981000"/>
            <a:ext cx="52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900000" y="1989000"/>
            <a:ext cx="74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Lesson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Cats and Dogs</a:t>
            </a: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20"/>
          <p:cNvSpPr txBox="1"/>
          <p:nvPr/>
        </p:nvSpPr>
        <p:spPr>
          <a:xfrm>
            <a:off x="179280" y="0"/>
            <a:ext cx="468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冀教版三年级英语下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97080" y="1052640"/>
            <a:ext cx="15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Unit 1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3076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课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1276200" y="981000"/>
            <a:ext cx="52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619280" y="17017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词汇有：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cat, dog, chicken, duc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-34920" y="-25560"/>
            <a:ext cx="9178920" cy="6880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1908000" y="907920"/>
            <a:ext cx="44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n you re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2197080" y="198900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3538440" y="3068640"/>
            <a:ext cx="9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4610160" y="4076640"/>
            <a:ext cx="12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1187280" y="3213000"/>
            <a:ext cx="20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5003640" y="1989000"/>
            <a:ext cx="20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9684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4716360" y="836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’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3882960" cy="402912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4716360" y="1989000"/>
            <a:ext cx="38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t’s a _____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6012000" y="191628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-31680" y="-23760"/>
            <a:ext cx="9139320" cy="688176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2843280" y="620640"/>
            <a:ext cx="28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’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3136680" y="155736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t’s a 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5786280" y="148428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ic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2843280" y="270828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’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3352680" y="386064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t’s a 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5849280" y="3789360"/>
            <a:ext cx="12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826920" y="620640"/>
            <a:ext cx="3954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am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gh an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uch an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Sa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3635280" y="2997360"/>
            <a:ext cx="33940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276200" y="981000"/>
            <a:ext cx="52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332000" y="162864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学生掌握词汇之后进入句型教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关于句型，我们应该创设情境，句子只有放到具体情境里才能让学生正确理解，合理的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句型的新授分为两个部分，即初步感知和模仿替换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114392312Y-01-lp"/>
          <p:cNvPicPr/>
          <p:nvPr/>
        </p:nvPicPr>
        <p:blipFill>
          <a:blip r:embed="rId2"/>
          <a:stretch/>
        </p:blipFill>
        <p:spPr>
          <a:xfrm>
            <a:off x="2987640" y="1701720"/>
            <a:ext cx="2592360" cy="36450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4"/>
          <p:cNvSpPr/>
          <p:nvPr/>
        </p:nvSpPr>
        <p:spPr>
          <a:xfrm flipH="1" flipV="1" rot="10740000">
            <a:off x="538200" y="1483200"/>
            <a:ext cx="2449800" cy="933120"/>
          </a:xfrm>
          <a:prstGeom prst="wedgeRoundRectCallout">
            <a:avLst>
              <a:gd name="adj1" fmla="val 72680"/>
              <a:gd name="adj2" fmla="val 5687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 flipH="1" flipV="1" rot="10740000">
            <a:off x="5002200" y="691200"/>
            <a:ext cx="2451240" cy="933120"/>
          </a:xfrm>
          <a:prstGeom prst="wedgeRoundRectCallout">
            <a:avLst>
              <a:gd name="adj1" fmla="val -52717"/>
              <a:gd name="adj2" fmla="val 100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cow"/>
          <p:cNvPicPr/>
          <p:nvPr/>
        </p:nvPicPr>
        <p:blipFill>
          <a:blip r:embed="rId3"/>
          <a:stretch/>
        </p:blipFill>
        <p:spPr>
          <a:xfrm>
            <a:off x="5580000" y="3213000"/>
            <a:ext cx="1524240" cy="20289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5219640" y="836640"/>
            <a:ext cx="22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Is this a c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900000" y="170172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Yes, 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3"/>
          <p:cNvSpPr/>
          <p:nvPr/>
        </p:nvSpPr>
        <p:spPr>
          <a:xfrm flipH="1" flipV="1" rot="10740000">
            <a:off x="6156000" y="1340280"/>
            <a:ext cx="2449440" cy="933120"/>
          </a:xfrm>
          <a:prstGeom prst="wedgeRoundRectCallout">
            <a:avLst>
              <a:gd name="adj1" fmla="val -52796"/>
              <a:gd name="adj2" fmla="val 110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 flipH="1" flipV="1" rot="10740000">
            <a:off x="178920" y="2780280"/>
            <a:ext cx="2374920" cy="1082160"/>
          </a:xfrm>
          <a:prstGeom prst="wedgeRoundRectCallout">
            <a:avLst>
              <a:gd name="adj1" fmla="val 34162"/>
              <a:gd name="adj2" fmla="val 636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84120" y="3032280"/>
            <a:ext cx="20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Is this a shee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300720" y="141300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it isn'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It 's a b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114031254o-1-lp"/>
          <p:cNvPicPr/>
          <p:nvPr/>
        </p:nvPicPr>
        <p:blipFill>
          <a:blip r:embed="rId2"/>
          <a:srcRect l="2504" t="6411" r="4323" b="10376"/>
          <a:stretch/>
        </p:blipFill>
        <p:spPr>
          <a:xfrm>
            <a:off x="2855880" y="1498680"/>
            <a:ext cx="31258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-33480" y="0"/>
            <a:ext cx="9141120" cy="6885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加菲吵架3"/>
          <p:cNvPicPr/>
          <p:nvPr/>
        </p:nvPicPr>
        <p:blipFill>
          <a:blip r:embed="rId2"/>
          <a:stretch/>
        </p:blipFill>
        <p:spPr>
          <a:xfrm>
            <a:off x="2268360" y="1484280"/>
            <a:ext cx="3672000" cy="2597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pig"/>
          <p:cNvPicPr/>
          <p:nvPr/>
        </p:nvPicPr>
        <p:blipFill>
          <a:blip r:embed="rId3"/>
          <a:srcRect l="20391" t="5279" r="17883" b="12089"/>
          <a:stretch/>
        </p:blipFill>
        <p:spPr>
          <a:xfrm>
            <a:off x="3780000" y="3141720"/>
            <a:ext cx="1204920" cy="912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5"/>
          <p:cNvSpPr/>
          <p:nvPr/>
        </p:nvSpPr>
        <p:spPr>
          <a:xfrm flipH="1" flipV="1">
            <a:off x="1044720" y="549360"/>
            <a:ext cx="2303280" cy="792000"/>
          </a:xfrm>
          <a:prstGeom prst="wedgeRoundRectCallout">
            <a:avLst>
              <a:gd name="adj1" fmla="val -45453"/>
              <a:gd name="adj2" fmla="val -990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260360" y="692280"/>
            <a:ext cx="19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方正字迹-童体毛笔字体"/>
              </a:rPr>
              <a:t>Is it a do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 flipH="1" flipV="1">
            <a:off x="5939640" y="980280"/>
            <a:ext cx="2303640" cy="792360"/>
          </a:xfrm>
          <a:prstGeom prst="wedgeRoundRectCallout">
            <a:avLst>
              <a:gd name="adj1" fmla="val 53032"/>
              <a:gd name="adj2" fmla="val -7875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156360" y="981000"/>
            <a:ext cx="18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方正字迹-童体毛笔字体"/>
              </a:rPr>
              <a:t>No, it isn'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方正字迹-童体毛笔字体"/>
              </a:rPr>
              <a:t>It 's a c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 flipH="1" flipV="1">
            <a:off x="468000" y="2133720"/>
            <a:ext cx="2303280" cy="792000"/>
          </a:xfrm>
          <a:prstGeom prst="wedgeRoundRectCallout">
            <a:avLst>
              <a:gd name="adj1" fmla="val -63833"/>
              <a:gd name="adj2" fmla="val 168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612720" y="2205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Yes, it's a d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 flipH="1" flipV="1">
            <a:off x="5939640" y="2564640"/>
            <a:ext cx="2303640" cy="792360"/>
          </a:xfrm>
          <a:prstGeom prst="wedgeRoundRectCallout">
            <a:avLst>
              <a:gd name="adj1" fmla="val 59921"/>
              <a:gd name="adj2" fmla="val 1001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156360" y="2565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No, it isn'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It 's a c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3"/>
          <p:cNvSpPr/>
          <p:nvPr/>
        </p:nvSpPr>
        <p:spPr>
          <a:xfrm flipH="1" flipV="1">
            <a:off x="611640" y="4005360"/>
            <a:ext cx="2303640" cy="792000"/>
          </a:xfrm>
          <a:prstGeom prst="wedgeRoundRectCallout">
            <a:avLst>
              <a:gd name="adj1" fmla="val -44875"/>
              <a:gd name="adj2" fmla="val 10040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 flipH="1" flipV="1">
            <a:off x="5652360" y="4291920"/>
            <a:ext cx="2303640" cy="793800"/>
          </a:xfrm>
          <a:prstGeom prst="wedgeRoundRectCallout">
            <a:avLst>
              <a:gd name="adj1" fmla="val 63949"/>
              <a:gd name="adj2" fmla="val 9711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755640" y="4005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Er...it's a chi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869080" y="429264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No, it isn'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It 's a c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627280" y="508464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It's a pi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276200" y="981000"/>
            <a:ext cx="52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673280" y="1365120"/>
            <a:ext cx="541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接下来进入模仿环节，以</a:t>
            </a:r>
            <a:r>
              <a:rPr b="0" lang="zh-CN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chant</a:t>
            </a:r>
            <a:r>
              <a:rPr b="0" lang="zh-CN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作为学生模仿内容，主要让学生模仿语调和节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所编</a:t>
            </a:r>
            <a:r>
              <a:rPr b="0" lang="zh-CN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chant</a:t>
            </a:r>
            <a:r>
              <a:rPr b="0" lang="zh-CN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1276200" y="981000"/>
            <a:ext cx="52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547640" y="836640"/>
            <a:ext cx="59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一、说教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我说课的内容是冀教版三年级下册第一单元第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课，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Lesson2 Cats and Dogs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，本课是一节新授课，属于语言交际范畴，第一课学生已经掌握了单词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cow, pig, farm, farmer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及句型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This is___ .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本节课学生将继续学习单词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cat, dog, chicken, duck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，句型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Is it a ___?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及回答。为后边几课的句型提供替换词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276200" y="981000"/>
            <a:ext cx="52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908000" y="836640"/>
            <a:ext cx="4822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Chant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Is this a duc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Is this a duc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No, No, it isn’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It‘s a chi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Is this a duc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Is this a duc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Yes, Y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Yes, 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276200" y="981000"/>
            <a:ext cx="52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673280" y="1365120"/>
            <a:ext cx="419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passing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let’s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276200" y="981000"/>
            <a:ext cx="52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660680" y="888840"/>
            <a:ext cx="485604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Exercise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Read and ti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.  Is it a du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(   )Yes, it is.       (    ) No, it isn'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It's a b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鸟 (1)"/>
          <p:cNvPicPr/>
          <p:nvPr/>
        </p:nvPicPr>
        <p:blipFill>
          <a:blip r:embed="rId2"/>
          <a:stretch/>
        </p:blipFill>
        <p:spPr>
          <a:xfrm>
            <a:off x="5651640" y="765000"/>
            <a:ext cx="1817640" cy="19051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287960" y="3303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1276200" y="981000"/>
            <a:ext cx="52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1309570_副本"/>
          <p:cNvPicPr/>
          <p:nvPr/>
        </p:nvPicPr>
        <p:blipFill>
          <a:blip r:embed="rId2"/>
          <a:srcRect l="20456" t="27442" r="29833" b="23046"/>
          <a:stretch/>
        </p:blipFill>
        <p:spPr>
          <a:xfrm>
            <a:off x="5724360" y="765000"/>
            <a:ext cx="1944720" cy="25815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620720" y="2214720"/>
            <a:ext cx="374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84360" y="2133720"/>
            <a:ext cx="506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2.  Is it a chick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(   )Yes, it is.       (    ) No, it isn'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It 's a b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348000" y="2924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1276200" y="981000"/>
            <a:ext cx="52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187280" y="1628640"/>
            <a:ext cx="590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3.  Is it a c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(   )Yes, it is.       (    ) No, it isn'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It 's a b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332000" y="2421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1276200" y="981000"/>
            <a:ext cx="52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00000" y="2276640"/>
            <a:ext cx="59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4.  Is this a do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(   )Yes, it is.       (    ) No, it isn'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It 's a b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044720" y="30686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1276200" y="981000"/>
            <a:ext cx="52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900000" y="2276640"/>
            <a:ext cx="59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5.  Are they duc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(   )Yes, it is.       (    ) Yes,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duck"/>
          <p:cNvPicPr/>
          <p:nvPr/>
        </p:nvPicPr>
        <p:blipFill>
          <a:blip r:embed="rId2"/>
          <a:stretch/>
        </p:blipFill>
        <p:spPr>
          <a:xfrm>
            <a:off x="5580000" y="1484280"/>
            <a:ext cx="2544840" cy="1440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3564000" y="30686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276200" y="981000"/>
            <a:ext cx="52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403280" y="220500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Class Closing</a:t>
            </a:r>
            <a:r>
              <a:rPr b="0" lang="zh-CN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下课之前，我们学习歌曲，在轻松愉快的气氛中结束课堂教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1276200" y="981000"/>
            <a:ext cx="52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403280" y="2060640"/>
            <a:ext cx="58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今天，借此平台，与大家一起分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探讨</a:t>
            </a:r>
            <a:r>
              <a:rPr b="0" lang="zh-CN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我的这节课，欢迎各位批评指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1403280" y="333360"/>
            <a:ext cx="57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方正字迹-童体毛笔字体"/>
              </a:rPr>
              <a:t>二、说学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方正字迹-童体毛笔字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方正字迹-童体毛笔字体"/>
              </a:rPr>
              <a:t>三四年级的学生应能达到课标一级要求，即对英语有好奇心，能根据老师的简单指令做动作，玩游戏，做事情，能做简单的角色表演，能说，唱简单的英文歌曲，歌谣，能简单的交流，能模仿范例书写词句，在学习中乐于模仿，敢于表达，对英语有一定的感知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方正字迹-童体毛笔字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方正字迹-童体毛笔字体"/>
              </a:rPr>
              <a:t>我们的学生来自农村，与城市孩子相比，略显薄弱，所以我们的课堂应该更加注重基础，即单词和句型的练习。他们爱玩，坐不住，喜欢动起来，有意注意保持时间较少，喜欢看动画片，这就要求我们设计的课堂丰富多彩，形式多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332000" y="1197000"/>
            <a:ext cx="6081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三、教学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基于以上认识，根据结合新课标理念，我确定教学目标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知识技能目标：</a:t>
            </a:r>
            <a:r>
              <a:rPr b="0" lang="zh-CN" sz="24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掌握</a:t>
            </a:r>
            <a:r>
              <a:rPr b="0" lang="zh-CN" sz="24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cat, dog, chicken, duck</a:t>
            </a:r>
            <a:r>
              <a:rPr b="0" lang="zh-CN" sz="24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的听说读写，</a:t>
            </a:r>
            <a:r>
              <a:rPr b="0" lang="zh-CN" sz="24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能听懂会说可以认读和正确运用句型</a:t>
            </a:r>
            <a:r>
              <a:rPr b="0" lang="zh-CN" sz="24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Is it a ___?</a:t>
            </a:r>
            <a:r>
              <a:rPr b="0" lang="zh-CN" sz="24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及回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情感态度目标：培养学生热爱动物保护动物的意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教学重难点： 一般疑问句的问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332000" y="836640"/>
            <a:ext cx="61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四、说教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在明确了目标、重难点和生的特点之后，我决定通过</a:t>
            </a:r>
            <a:r>
              <a:rPr b="0" lang="en-US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TPR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，情境假设法，小组合作法，交际法，游戏法，自编</a:t>
            </a:r>
            <a:r>
              <a:rPr b="0" lang="en-US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chant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等方式来学习。使学生通过感知、体验、实践、参与、合作与交流的方式完成本课的学习目标，激发学生的学习兴趣，让他们体会学习英语的乐趣。同时将师生间、生生间的评价贯穿于整个教学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547640" y="2133720"/>
            <a:ext cx="544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方正字迹-童体毛笔字体"/>
              </a:rPr>
              <a:t>五、教具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方正字迹-童体毛笔字体"/>
              </a:rPr>
              <a:t>师：课件，卡片，歌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方正字迹-童体毛笔字体"/>
              </a:rPr>
              <a:t>生：卡片，英语纸，组内评价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476360" y="1844640"/>
            <a:ext cx="601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六、说教学过程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本节课由四个环节构成，分别是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Class-Opening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New Concepts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Exercise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and Class Closing.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下面我将一一进行阐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19280" y="981000"/>
            <a:ext cx="619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Class-Opening 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：（歌曲，游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歌曲“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Old Mac Donald Had a Far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游戏  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What’s Missing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   “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Look and Guess”(TP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3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619280" y="1701720"/>
            <a:ext cx="61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New Concepts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这里分两部分，分别是词汇部分和句型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词汇和句型又分新授和练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1:38:34Z</dcterms:created>
  <dc:creator/>
  <dc:description/>
  <cp:keywords/>
  <dc:language>en-US</dc:language>
  <cp:lastModifiedBy>微软用户</cp:lastModifiedBy>
  <dcterms:modified xsi:type="dcterms:W3CDTF">2016-04-28T14:37:21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