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2CA9-0F06-4450-AF38-34613D93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52DE-268D-4BF5-B642-37E174D8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CC02-1DB3-47E7-9657-2F495B22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BBDA-07CE-4F7B-BC74-8214B892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558F-CAEC-4E66-BCE2-228D03D6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10D0-862B-4C37-8B9A-8E0FFED7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2A03-86F4-44E0-9E54-BEBE006C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6A16-5A61-4A77-96C0-95F18D54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0F49-AC59-4158-A1F9-71C04333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FBEB-5FD6-42F8-95D3-61FB3E2B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D718-8C38-40C3-91DD-E32AE818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4ECC-2E05-4473-A4F9-A0A315B2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CAFF-678A-493F-AB81-6FE177A4D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image" Target="../media/image1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image" Target="../media/image13.jpeg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7080" y="1282680"/>
            <a:ext cx="748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On the Far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0920" y="44280"/>
            <a:ext cx="5460840" cy="4573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95640" y="4510080"/>
            <a:ext cx="54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What's thi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It's a 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Arial"/>
              </a:rPr>
              <a:t>cow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9121680" cy="6842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63640" y="620640"/>
            <a:ext cx="5545080" cy="4159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908000" y="404640"/>
            <a:ext cx="3527640" cy="30974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4653000"/>
            <a:ext cx="74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sheep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绵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8760" y="1073160"/>
            <a:ext cx="255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Baa!Ba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60360" y="609300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复数：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heep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意：单复数同形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135320" y="46080"/>
            <a:ext cx="4757760" cy="4464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1280" y="4005360"/>
            <a:ext cx="59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What's this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It's a </a:t>
            </a:r>
            <a:r>
              <a:rPr b="1" lang="zh-CN" sz="7200" spc="-1" strike="noStrike" u="sng">
                <a:solidFill>
                  <a:srgbClr val="000000"/>
                </a:solidFill>
                <a:uFillTx/>
                <a:latin typeface="Arial"/>
              </a:rPr>
              <a:t>sheep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6720" y="635040"/>
            <a:ext cx="7705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what's = what i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It's = It i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411280" y="847800"/>
            <a:ext cx="583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on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the far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24280" y="2211480"/>
            <a:ext cx="431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农场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-98280"/>
            <a:ext cx="9217080" cy="6908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19280" y="1628640"/>
            <a:ext cx="2579760" cy="1702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364000" y="1628640"/>
            <a:ext cx="2160720" cy="1809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836720" y="3860640"/>
            <a:ext cx="2174760" cy="2043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6229440" y="3789360"/>
            <a:ext cx="1896840" cy="2117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602080" y="514440"/>
            <a:ext cx="441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What's miss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-98280"/>
            <a:ext cx="9217080" cy="6908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372360" y="3070080"/>
            <a:ext cx="1596960" cy="1054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229440" y="44280"/>
            <a:ext cx="1385640" cy="1162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516720" y="4221000"/>
            <a:ext cx="1224000" cy="1151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6229440" y="1270080"/>
            <a:ext cx="1439640" cy="1606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6445080" y="5445000"/>
            <a:ext cx="1403640" cy="106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71640" y="189000"/>
            <a:ext cx="19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连一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60360" y="1197000"/>
            <a:ext cx="27752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fa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c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shee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farm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pi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1773360"/>
            <a:ext cx="3600720" cy="40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556000" y="909720"/>
            <a:ext cx="35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16360" y="3213000"/>
            <a:ext cx="360036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060720" y="2349360"/>
            <a:ext cx="309564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195640" y="3860640"/>
            <a:ext cx="43210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9083520" cy="6813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03280" y="404640"/>
            <a:ext cx="319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06680" y="396720"/>
            <a:ext cx="418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看看谁掌握的最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1413000"/>
            <a:ext cx="806760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. I have(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) five 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A. sheeps  B. sheep C. shee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.My father works (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工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)___the fa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A.to       B.on       C. f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2133720"/>
            <a:ext cx="863640" cy="71892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56000" y="4510080"/>
            <a:ext cx="720720" cy="71928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9083520" cy="6813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32000" y="836640"/>
            <a:ext cx="6985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.---___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-It's a c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A. How         B. What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C. How old   D.How ma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4.---What'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--___is a  fa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A. It's   B.Its   C.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2133720"/>
            <a:ext cx="720720" cy="64764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03640" y="5229360"/>
            <a:ext cx="576360" cy="64764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77200" cy="6953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221000" y="0"/>
            <a:ext cx="5032440" cy="3357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4920" y="2997360"/>
            <a:ext cx="3529080" cy="3936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314960" y="4740120"/>
            <a:ext cx="436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MacDona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50" name="椭圆形标注1 45"/>
          <p:cNvSpPr/>
          <p:nvPr/>
        </p:nvSpPr>
        <p:spPr>
          <a:xfrm>
            <a:off x="5076720" y="476280"/>
            <a:ext cx="3816360" cy="1584360"/>
          </a:xfrm>
          <a:prstGeom prst="wedgeEllipseCallout">
            <a:avLst>
              <a:gd name="adj1" fmla="val -25046"/>
              <a:gd name="adj2" fmla="val 65699"/>
            </a:avLst>
          </a:prstGeom>
          <a:solidFill>
            <a:srgbClr val="edb2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far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2514600"/>
            <a:ext cx="497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我的复数是什么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29440" y="2349360"/>
            <a:ext cx="259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farm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4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0" y="1440"/>
            <a:ext cx="9145440" cy="4148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97040" y="4540320"/>
            <a:ext cx="7304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What's this?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It's a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farm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是一个农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356000" y="3213000"/>
            <a:ext cx="4537080" cy="30258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181080" y="1773360"/>
            <a:ext cx="4518000" cy="5040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711680" y="662040"/>
            <a:ext cx="403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farm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48360" y="3860640"/>
            <a:ext cx="403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farm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=farm+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64160" y="2422440"/>
            <a:ext cx="37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复数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armer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140360" y="0"/>
            <a:ext cx="5013000" cy="5013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2680" y="1708200"/>
            <a:ext cx="42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What's thi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2520" y="3178080"/>
            <a:ext cx="368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It's a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farmer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6360" y="-98280"/>
            <a:ext cx="9409320" cy="7056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619280" y="620640"/>
            <a:ext cx="5184720" cy="4237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03640" y="117360"/>
            <a:ext cx="3529080" cy="3024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29080" y="5157720"/>
            <a:ext cx="525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pi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5040" y="814320"/>
            <a:ext cx="30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Oink!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Oink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59440" y="5864400"/>
            <a:ext cx="31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复数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ig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5977080" cy="3940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492360" y="4005360"/>
            <a:ext cx="357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What's thi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19640" y="5229360"/>
            <a:ext cx="427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It's a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pig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0760" cy="7058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44720" y="1052640"/>
            <a:ext cx="5832360" cy="4087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116000" y="836640"/>
            <a:ext cx="4248000" cy="33130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501336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cow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奶牛，母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360" y="620640"/>
            <a:ext cx="3673440" cy="863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24360" y="765000"/>
            <a:ext cx="22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oo! Mo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4000" y="6310440"/>
            <a:ext cx="39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复数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c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6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4:29:38Z</dcterms:created>
  <dc:creator>Administrator</dc:creator>
  <dc:description/>
  <dc:language>en-US</dc:language>
  <cp:lastModifiedBy/>
  <dcterms:modified xsi:type="dcterms:W3CDTF">2015-02-27T08:27:5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5</vt:lpwstr>
  </property>
</Properties>
</file>