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C8D-329C-4E79-BF40-2E67A3A7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C80-04BB-4949-8DC7-B4F7862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D66-BB27-4E93-881A-80E729AD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608-5743-4AB9-940C-B66F0D8A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68F-9362-4ED2-A7BD-0C94060C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5C0-5B78-4C10-A01B-B78BFEF5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92F-8D06-4D9D-A004-37FD5C7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B97-846C-487D-9106-EF7A5F10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2E6-61CD-43EB-ABA0-99E2ECEB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09B-A84D-4F68-B24D-DD397AC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0E9-20AA-4D6D-A541-1F766C54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093-85D8-4134-87A4-5409E33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EC0-A68A-4FC2-9AEA-285C6ECA5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u=2832650357,2806103857&amp;fm=9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646200" y="285264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esson 1 On the Fa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u=2547640050,2434475759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u=1582604074,32814789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u=1234697674,3730664379&amp;fm=21&amp;gp=0"/>
          <p:cNvPicPr/>
          <p:nvPr/>
        </p:nvPicPr>
        <p:blipFill>
          <a:blip r:embed="rId2"/>
          <a:stretch/>
        </p:blipFill>
        <p:spPr>
          <a:xfrm>
            <a:off x="3635280" y="3414600"/>
            <a:ext cx="5508720" cy="34434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50920" y="4581360"/>
            <a:ext cx="30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eep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"/>
          <p:cNvSpPr/>
          <p:nvPr/>
        </p:nvSpPr>
        <p:spPr>
          <a:xfrm>
            <a:off x="4932360" y="83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u=1540910519,3788512559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"/>
          <p:cNvSpPr/>
          <p:nvPr/>
        </p:nvSpPr>
        <p:spPr>
          <a:xfrm>
            <a:off x="1187280" y="981000"/>
            <a:ext cx="29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u=129501098,2105479708&amp;fm=21&amp;gp=0"/>
          <p:cNvPicPr/>
          <p:nvPr/>
        </p:nvPicPr>
        <p:blipFill>
          <a:blip r:embed="rId1"/>
          <a:stretch/>
        </p:blipFill>
        <p:spPr>
          <a:xfrm>
            <a:off x="2195640" y="476280"/>
            <a:ext cx="60116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1187280" y="1557360"/>
            <a:ext cx="648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学过的句型来对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a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u=1540910519,3788512559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u=474542029,777588410&amp;fm=21&amp;gp=0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u=1837301339,1279968722&amp;fm=21&amp;gp=0"/>
          <p:cNvPicPr/>
          <p:nvPr/>
        </p:nvPicPr>
        <p:blipFill>
          <a:blip r:embed="rId3"/>
          <a:stretch/>
        </p:blipFill>
        <p:spPr>
          <a:xfrm>
            <a:off x="2124000" y="3133800"/>
            <a:ext cx="4427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u=81147785,4281506622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250920" y="112536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far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11280" y="2492280"/>
            <a:ext cx="1008000" cy="360"/>
            <a:chOff x="611280" y="2492280"/>
            <a:chExt cx="1008000" cy="360"/>
          </a:xfrm>
        </p:grpSpPr>
        <p:sp>
          <p:nvSpPr>
            <p:cNvPr id="46" name="直接连接符 3"/>
            <p:cNvSpPr/>
            <p:nvPr/>
          </p:nvSpPr>
          <p:spPr>
            <a:xfrm>
              <a:off x="611280" y="2492280"/>
              <a:ext cx="1008000" cy="0"/>
            </a:xfrm>
            <a:prstGeom prst="line">
              <a:avLst/>
            </a:prstGeom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611280" y="249228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u=2396136797,258556344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u=4027343753,867449594&amp;fm=9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u=2677125149,1669950474&amp;fm=90&amp;gp=0"/>
          <p:cNvPicPr/>
          <p:nvPr/>
        </p:nvPicPr>
        <p:blipFill>
          <a:blip r:embed="rId1"/>
          <a:stretch/>
        </p:blipFill>
        <p:spPr>
          <a:xfrm>
            <a:off x="0" y="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u=1227684017,2485044405&amp;fm=21&amp;gp=0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32828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3"/>
          <p:cNvSpPr/>
          <p:nvPr/>
        </p:nvSpPr>
        <p:spPr>
          <a:xfrm>
            <a:off x="1979640" y="306864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arm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484360" y="4292640"/>
            <a:ext cx="863640" cy="360"/>
            <a:chOff x="2484360" y="4292640"/>
            <a:chExt cx="863640" cy="360"/>
          </a:xfrm>
        </p:grpSpPr>
        <p:sp>
          <p:nvSpPr>
            <p:cNvPr id="54" name="直接连接符 4"/>
            <p:cNvSpPr/>
            <p:nvPr/>
          </p:nvSpPr>
          <p:spPr>
            <a:xfrm>
              <a:off x="2484360" y="4292640"/>
              <a:ext cx="863640" cy="0"/>
            </a:xfrm>
            <a:prstGeom prst="line">
              <a:avLst/>
            </a:prstGeom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484360" y="429264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5"/>
          <p:cNvSpPr/>
          <p:nvPr/>
        </p:nvSpPr>
        <p:spPr>
          <a:xfrm>
            <a:off x="179280" y="494172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1835280" y="50133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3780000" y="5013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372360" y="501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9640" y="6093000"/>
            <a:ext cx="719280" cy="360"/>
            <a:chOff x="539640" y="6093000"/>
            <a:chExt cx="719280" cy="360"/>
          </a:xfrm>
        </p:grpSpPr>
        <p:sp>
          <p:nvSpPr>
            <p:cNvPr id="61" name="直接连接符 9"/>
            <p:cNvSpPr/>
            <p:nvPr/>
          </p:nvSpPr>
          <p:spPr>
            <a:xfrm>
              <a:off x="539640" y="6093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39640" y="609300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484000" y="6165360"/>
            <a:ext cx="792720" cy="360"/>
            <a:chOff x="2484000" y="6165360"/>
            <a:chExt cx="792720" cy="360"/>
          </a:xfrm>
        </p:grpSpPr>
        <p:sp>
          <p:nvSpPr>
            <p:cNvPr id="64" name="直接连接符 10"/>
            <p:cNvSpPr/>
            <p:nvPr/>
          </p:nvSpPr>
          <p:spPr>
            <a:xfrm>
              <a:off x="2484360" y="61657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 rot="10800000">
              <a:off x="2484000" y="616536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427640" y="6165720"/>
            <a:ext cx="720720" cy="360"/>
            <a:chOff x="4427640" y="6165720"/>
            <a:chExt cx="720720" cy="360"/>
          </a:xfrm>
        </p:grpSpPr>
        <p:sp>
          <p:nvSpPr>
            <p:cNvPr id="67" name="直接连接符 11"/>
            <p:cNvSpPr/>
            <p:nvPr/>
          </p:nvSpPr>
          <p:spPr>
            <a:xfrm>
              <a:off x="4427640" y="6165720"/>
              <a:ext cx="7207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427640" y="61657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093080" y="6165720"/>
            <a:ext cx="718920" cy="360"/>
            <a:chOff x="7093080" y="6165720"/>
            <a:chExt cx="718920" cy="360"/>
          </a:xfrm>
        </p:grpSpPr>
        <p:sp>
          <p:nvSpPr>
            <p:cNvPr id="70" name="直接连接符 12"/>
            <p:cNvSpPr/>
            <p:nvPr/>
          </p:nvSpPr>
          <p:spPr>
            <a:xfrm>
              <a:off x="7093080" y="6165720"/>
              <a:ext cx="718920" cy="0"/>
            </a:xfrm>
            <a:prstGeom prst="line">
              <a:avLst/>
            </a:prstGeom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7093080" y="616572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u=3755375470,245321815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2"/>
          <p:cNvSpPr/>
          <p:nvPr/>
        </p:nvSpPr>
        <p:spPr>
          <a:xfrm>
            <a:off x="1042920" y="530064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Arial"/>
              </a:rPr>
              <a:t>On the far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u=474542029,777588410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2"/>
          <p:cNvSpPr/>
          <p:nvPr/>
        </p:nvSpPr>
        <p:spPr>
          <a:xfrm>
            <a:off x="250920" y="429264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pi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u=3495112303,1824099725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4500720" cy="3610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7e34e8530d5418ce68569ac4c57ac79b"/>
          <p:cNvPicPr/>
          <p:nvPr/>
        </p:nvPicPr>
        <p:blipFill>
          <a:blip r:embed="rId2"/>
          <a:stretch/>
        </p:blipFill>
        <p:spPr>
          <a:xfrm>
            <a:off x="4140360" y="3251160"/>
            <a:ext cx="50036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u=1837301339,127996872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2"/>
          <p:cNvSpPr/>
          <p:nvPr/>
        </p:nvSpPr>
        <p:spPr>
          <a:xfrm>
            <a:off x="324000" y="508464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shee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05:37:49Z</dcterms:created>
  <dc:creator>User</dc:creator>
  <dc:description/>
  <dc:language>en-US</dc:language>
  <cp:lastModifiedBy>acer1</cp:lastModifiedBy>
  <dcterms:modified xsi:type="dcterms:W3CDTF">2015-10-14T08:27:53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