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478-FD59-45C9-A9F0-2CA71992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D14-097B-4F01-AB2F-BCA6BF6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02F-37F9-45BE-862F-2BB0B190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FBC-A90B-4046-9940-29B16C7C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90E-43C4-429E-BDB4-5DC00FEA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FAA-787B-4F2D-AC96-AC3CD69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609-C8D9-40F5-A705-30D66394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9DD-1D14-4E7D-B327-7E0DF8B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2D9-B88D-4C47-9A2E-BD99B84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4F4-0103-4858-AC7A-05CCF6E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CD0-BB78-4F41-A746-1B223613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209-F55D-4C60-827A-7C0115E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AD6-63C6-4C65-8D48-CE9BDBCF6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10526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On the fa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264360" cy="465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48000" y="620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ahoma"/>
              </a:rPr>
              <a:t>shee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36920" y="333360"/>
            <a:ext cx="4699080" cy="712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2349360"/>
            <a:ext cx="32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’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i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42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t’s a sh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11280" y="692280"/>
            <a:ext cx="288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iste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773360"/>
            <a:ext cx="74901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Listeni to the tape carefully.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认真听录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Read after the tape.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跟读，注意模仿录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Read three times by yourself.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读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95280" y="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ac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998640"/>
            <a:ext cx="611964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.High and low.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根据老师的手势，高低声读单词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.Read by yourself.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读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.Read in pairs.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对子互读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.Competion between groups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小组赛读，可以选择组长领读，小组齐读，英汉互读，男女对读，开火车读等方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1700280"/>
            <a:ext cx="7129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1.Guss what’s this?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把单词卡背贴在黑板上，记住位置，猜猜是什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2.Talent show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才能展示，模仿动物的声音动作，其他学生猜是什么动物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42920" y="620640"/>
            <a:ext cx="35290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t's pl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39640" y="404640"/>
            <a:ext cx="23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ch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557360"/>
            <a:ext cx="8028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farm  farm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农场，农场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farm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宽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farmer farmer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农民，农民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farmer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辛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pig pig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小猪，小猪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pig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肉嘟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cow cow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奶牛，奶牛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cow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草上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sheep sheep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绵羊，绵羊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shee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懒洋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286000" y="2666880"/>
            <a:ext cx="4952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Times New Roman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765000"/>
            <a:ext cx="8064360" cy="72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Learning aims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我能够听懂，会说，认读和书写单词：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farm, farmer, pig, cow, sheep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我能够理解并口头运用句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                      —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’s this?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                      —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t’s 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765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hat’s 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1916280"/>
            <a:ext cx="432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It’s a f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5651640" cy="45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6360" y="620640"/>
            <a:ext cx="28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farm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88448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126828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’s 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565360"/>
            <a:ext cx="334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It’s a far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3528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pi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220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66236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3500280"/>
            <a:ext cx="38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It’s a p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545440" cy="4392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84720" y="40464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co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7725" t="8300" r="5576" b="12123"/>
          <a:stretch/>
        </p:blipFill>
        <p:spPr>
          <a:xfrm>
            <a:off x="179280" y="693720"/>
            <a:ext cx="5256360" cy="511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8920" y="1989000"/>
            <a:ext cx="37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’s 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t’s a c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26:08Z</dcterms:created>
  <dc:creator>lenovo</dc:creator>
  <dc:description/>
  <dc:language>en-US</dc:language>
  <cp:lastModifiedBy>lenovo</cp:lastModifiedBy>
  <dcterms:modified xsi:type="dcterms:W3CDTF">2014-05-13T12:08:56Z</dcterms:modified>
  <cp:revision>15</cp:revision>
  <dc:subject/>
  <dc:title>幻灯片 1</dc:title>
</cp:coreProperties>
</file>