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wind.wav" ContentType="audio/x-wav"/>
  <Override PartName="/ppt/media/chimes.wav" ContentType="audio/x-wav"/>
  <Override PartName="/ppt/media/image21.jpeg" ContentType="image/jpeg"/>
  <Override PartName="/ppt/media/image29.png" ContentType="image/png"/>
  <Override PartName="/ppt/media/bomb.wav" ContentType="audio/x-wav"/>
  <Override PartName="/ppt/media/type.wav" ContentType="audio/x-wav"/>
  <Override PartName="/ppt/media/image6.jpeg" ContentType="image/jpeg"/>
  <Override PartName="/ppt/media/image18.png" ContentType="image/png"/>
  <Override PartName="/ppt/media/image11.jpeg" ContentType="image/jpeg"/>
  <Override PartName="/ppt/media/image24.png" ContentType="image/png"/>
  <Override PartName="/ppt/media/image9.jpeg" ContentType="image/jpeg"/>
  <Override PartName="/ppt/media/click.wav" ContentType="audio/x-wav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25.png" ContentType="image/png"/>
  <Override PartName="/ppt/media/image4.jpeg" ContentType="image/jpeg"/>
  <Override PartName="/ppt/media/suction.wav" ContentType="audio/x-wav"/>
  <Override PartName="/ppt/media/image20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jpeg" ContentType="image/jpeg"/>
  <Override PartName="/ppt/media/image22.jpeg" ContentType="image/jpeg"/>
  <Override PartName="/ppt/media/image27.png" ContentType="image/png"/>
  <Override PartName="/ppt/media/image33.jpeg" ContentType="image/jpeg"/>
  <Override PartName="/ppt/media/applause.wav" ContentType="audio/x-wav"/>
  <Override PartName="/ppt/media/image31.png" ContentType="image/png"/>
  <Override PartName="/ppt/media/image23.jpeg" ContentType="image/jpeg"/>
  <Override PartName="/ppt/media/push.wav" ContentType="audio/x-wav"/>
  <Override PartName="/ppt/media/image12.jpeg" ContentType="image/jpeg"/>
  <Override PartName="/ppt/media/image2.jpeg" ContentType="image/jpeg"/>
  <Override PartName="/ppt/media/hammer.wav" ContentType="audio/x-wav"/>
  <Override PartName="/ppt/media/image30.png" ContentType="image/png"/>
  <Override PartName="/ppt/media/voltage.wav" ContentType="audio/x-wav"/>
  <Override PartName="/ppt/media/image3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AC6-2BED-45A3-A748-83860093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C27-C031-45D3-9788-181CAA2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049-72BE-464D-B1CE-8ABE1967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88F-E710-40FA-9726-4D11AF20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299-C2D5-4802-8478-95ABC3F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AE1-F778-4D1E-977D-B3D05B3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53A-A30F-4A68-910F-D4FBDE15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577-27BB-4171-80DE-F51831F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22E-93DA-4C14-953A-747DFCC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ED7-B447-40A3-8837-D14A9C0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EB6-4866-43DA-B888-5D2DD7C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4BF-DD5D-4AB2-8FCF-A779C1C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17550871-A589-4C93-A3B2-D2EFDFB30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sson 3   Fish and 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138400"/>
            <a:ext cx="396216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4191120" cy="327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720" y="5562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4480" y="297180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ind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54100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00ff00"/>
                </a:solidFill>
                <a:latin typeface="Arial"/>
              </a:rPr>
              <a:t>d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applause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1181160"/>
            <a:ext cx="9753840" cy="922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335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voltage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66880" y="160020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2" name="hammer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75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441972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Fish  can  swi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2" name="push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img_2528_副本_副本.jpg"/>
          <p:cNvPicPr/>
          <p:nvPr/>
        </p:nvPicPr>
        <p:blipFill>
          <a:blip r:embed="rId1"/>
          <a:stretch/>
        </p:blipFill>
        <p:spPr>
          <a:xfrm>
            <a:off x="1214280" y="428760"/>
            <a:ext cx="6786720" cy="4214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2595240" cy="1139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7956720" y="6093000"/>
            <a:ext cx="857160" cy="48096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941720"/>
            <a:ext cx="6119640" cy="1151280"/>
          </a:xfrm>
          <a:prstGeom prst="wedgeEllipseCallout">
            <a:avLst>
              <a:gd name="adj1" fmla="val -12254"/>
              <a:gd name="adj2" fmla="val -12779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wim,  swim,  I can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 rot="1843800">
            <a:off x="6803640" y="5950080"/>
            <a:ext cx="792360" cy="765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5076720" y="3141720"/>
            <a:ext cx="4392720" cy="230328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Fly fly, I can f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8974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78000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Comic Sans MS"/>
              </a:rPr>
              <a:t>f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5445000"/>
            <a:ext cx="6553080" cy="785880"/>
          </a:xfrm>
          <a:prstGeom prst="wedgeEllipseCallout">
            <a:avLst>
              <a:gd name="adj1" fmla="val 9328"/>
              <a:gd name="adj2" fmla="val -211009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Dance dance ,  I can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700280"/>
            <a:ext cx="244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楷体"/>
              </a:rPr>
              <a:t>danc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35280" cy="45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27280" y="5589720"/>
            <a:ext cx="6337440" cy="785520"/>
          </a:xfrm>
          <a:prstGeom prst="wedgeEllipseCallout">
            <a:avLst>
              <a:gd name="adj1" fmla="val -33569"/>
              <a:gd name="adj2" fmla="val -22111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ing , sing , I can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313080" cy="4608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8000" spc="-1" strike="noStrike">
                <a:solidFill>
                  <a:srgbClr val="ff6600"/>
                </a:solidFill>
                <a:latin typeface="Arial"/>
              </a:rPr>
              <a:t>s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5880" y="342900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suction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2012042619220868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3371760" cy="69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22760" y="5013360"/>
            <a:ext cx="3621240" cy="7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2008113152139895_2.jpg"/>
          <p:cNvPicPr/>
          <p:nvPr/>
        </p:nvPicPr>
        <p:blipFill>
          <a:blip r:embed="rId4"/>
          <a:stretch/>
        </p:blipFill>
        <p:spPr>
          <a:xfrm>
            <a:off x="4932360" y="3645000"/>
            <a:ext cx="57456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2008621111345720.gif"/>
          <p:cNvPicPr/>
          <p:nvPr/>
        </p:nvPicPr>
        <p:blipFill>
          <a:blip r:embed="rId5"/>
          <a:stretch/>
        </p:blipFill>
        <p:spPr>
          <a:xfrm>
            <a:off x="5003640" y="4941720"/>
            <a:ext cx="570240" cy="7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16360" y="1700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an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34290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68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2924280"/>
            <a:ext cx="64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a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wi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59f434db15ed0f3ed0164e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7360" y="1571760"/>
            <a:ext cx="333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你喜欢小兔它们吗？了解它们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现在请你来扮演它们，看看我们中间谁是最佳演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3160" y="142920"/>
            <a:ext cx="3071880" cy="128592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ctivity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57680" y="2857680"/>
            <a:ext cx="14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an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8520" y="3816360"/>
            <a:ext cx="4310280" cy="700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86040" y="50720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fl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371760" cy="70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362124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2008113152139895_2.jpg"/>
          <p:cNvPicPr/>
          <p:nvPr/>
        </p:nvPicPr>
        <p:blipFill>
          <a:blip r:embed="rId5"/>
          <a:stretch/>
        </p:blipFill>
        <p:spPr>
          <a:xfrm>
            <a:off x="4572000" y="3284640"/>
            <a:ext cx="49536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2008621111345720.gif"/>
          <p:cNvPicPr/>
          <p:nvPr/>
        </p:nvPicPr>
        <p:blipFill>
          <a:blip r:embed="rId6"/>
          <a:stretch/>
        </p:blipFill>
        <p:spPr>
          <a:xfrm>
            <a:off x="4572000" y="4508640"/>
            <a:ext cx="566640" cy="714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268360" y="328464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4437000"/>
            <a:ext cx="5749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59f434db15ed0f3ed0164e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143160" y="142920"/>
            <a:ext cx="3071880" cy="128592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ctivity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u=2115056501,3715697241&amp;fm=51&amp;gp=0.jpg"/>
          <p:cNvPicPr/>
          <p:nvPr/>
        </p:nvPicPr>
        <p:blipFill>
          <a:blip r:embed="rId2"/>
          <a:stretch/>
        </p:blipFill>
        <p:spPr>
          <a:xfrm>
            <a:off x="285840" y="407196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u=252021064,740914604&amp;fm=51&amp;gp=0.jpg"/>
          <p:cNvPicPr/>
          <p:nvPr/>
        </p:nvPicPr>
        <p:blipFill>
          <a:blip r:embed="rId3"/>
          <a:stretch/>
        </p:blipFill>
        <p:spPr>
          <a:xfrm>
            <a:off x="7286760" y="4500720"/>
            <a:ext cx="1214280" cy="19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500200"/>
            <a:ext cx="6840720" cy="1143000"/>
          </a:xfrm>
          <a:prstGeom prst="cloudCallout">
            <a:avLst>
              <a:gd name="adj1" fmla="val -48305"/>
              <a:gd name="adj2" fmla="val 142083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  <a:ea typeface="Arial Unicode MS"/>
              </a:rPr>
              <a:t>Colin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  <a:ea typeface="Arial Unicode MS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  <a:ea typeface="Arial Unicode MS"/>
              </a:rPr>
              <a:t>Can   you  swi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4000680"/>
            <a:ext cx="3643200" cy="1000080"/>
          </a:xfrm>
          <a:prstGeom prst="wedgeEllipseCallout">
            <a:avLst>
              <a:gd name="adj1" fmla="val 56370"/>
              <a:gd name="adj2" fmla="val 69879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.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Yes  , I 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And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14720" y="5500800"/>
            <a:ext cx="4214520" cy="1000080"/>
          </a:xfrm>
          <a:prstGeom prst="cloudCallout">
            <a:avLst>
              <a:gd name="adj1" fmla="val -66708"/>
              <a:gd name="adj2" fmla="val -97212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No , I can’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8143920" y="5929200"/>
            <a:ext cx="785880" cy="5716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484280"/>
            <a:ext cx="75247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Make a dialogue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Sh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l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样，和你的搭档合作做一个对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59f434db15ed0f3ed0164e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87640" y="476280"/>
            <a:ext cx="3071880" cy="128592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ctivity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500880" y="5429160"/>
            <a:ext cx="857160" cy="7146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068640"/>
            <a:ext cx="626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565360"/>
            <a:ext cx="7561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Show time is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表演时间到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（来吧！把你们做的对话表演出来，比一比，看哪一队表演的最好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24f924ecf526bcb4adafd56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57200" y="1143000"/>
            <a:ext cx="65725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.Write down the 2 new words on your exercise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按要求抄写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个新单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.Read English 20 minutes everyday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每天读英语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28880" y="428760"/>
            <a:ext cx="5286240" cy="928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day’s homework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51814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hammer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24080" y="52578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whoosh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00800" y="2666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2" name="applause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53352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hammer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990720"/>
            <a:ext cx="182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42040" y="1396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f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lick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f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type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440" y="-1338120"/>
            <a:ext cx="9524880" cy="953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152280" y="-38088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Birds   can    fl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bomb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1</cp:lastModifiedBy>
  <dcterms:modified xsi:type="dcterms:W3CDTF">2015-09-21T08:10:3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