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type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5AA-01EA-4801-BD07-DC405105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959-8864-45F6-9B24-63AAF1B5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A99-7AA1-4208-9F7D-9E3BEE32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607-3327-4BF4-8389-AB93EF6C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07F-7563-4667-B492-B97AA217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F84-07F1-4743-A27E-CEA3C555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C49-455B-46D8-B732-523C28F8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2C3-A3AC-42D9-9E45-DF51C5AE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C5A-7AAE-4425-953E-62693251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5B9-C2DF-4B9E-BD74-4049FCA6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4C8-617D-473F-8347-031A6593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9E3-1EA6-4E33-8968-399FDE93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9812-B785-44CB-A6A9-E8A59E55BE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609480" y="-609480"/>
            <a:ext cx="5184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Lesson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Fish and Bird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3429000" cy="7696080"/>
            <a:chOff x="0" y="0"/>
            <a:chExt cx="3429000" cy="7696080"/>
          </a:xfrm>
        </p:grpSpPr>
        <p:pic>
          <p:nvPicPr>
            <p:cNvPr id="44" name="" descr=""/>
            <p:cNvPicPr/>
            <p:nvPr/>
          </p:nvPicPr>
          <p:blipFill>
            <a:blip r:embed="rId1"/>
            <a:srcRect l="0" t="0" r="60496" b="-13052"/>
            <a:stretch/>
          </p:blipFill>
          <p:spPr>
            <a:xfrm>
              <a:off x="0" y="0"/>
              <a:ext cx="3429000" cy="76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838080" y="1371600"/>
              <a:ext cx="167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Arial"/>
                </a:rPr>
                <a:t>fish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85800" y="228600"/>
            <a:ext cx="76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What’s this? It’s a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429000" y="1371600"/>
            <a:ext cx="5334120" cy="4803120"/>
            <a:chOff x="3429000" y="1371600"/>
            <a:chExt cx="5334120" cy="48031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3429000" y="1371600"/>
              <a:ext cx="5334120" cy="40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105520" y="5257800"/>
              <a:ext cx="167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Arial"/>
                </a:rPr>
                <a:t>bird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76920" y="571500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swi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924680" cy="5378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Fish can          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98100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f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98100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Bird</a:t>
            </a: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s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can         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973160"/>
            <a:ext cx="4765680" cy="4884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95480" y="1219320"/>
            <a:ext cx="4953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I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dance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I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sing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483240" y="2895480"/>
            <a:ext cx="2660760" cy="3562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819520"/>
            <a:ext cx="65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080" y="380880"/>
            <a:ext cx="4311720" cy="4419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343400" y="762120"/>
            <a:ext cx="2590920" cy="685800"/>
          </a:xfrm>
          <a:prstGeom prst="wedgeRoundRectCallout">
            <a:avLst>
              <a:gd name="adj1" fmla="val -85782"/>
              <a:gd name="adj2" fmla="val 15393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80880"/>
            <a:ext cx="4648320" cy="1067040"/>
          </a:xfrm>
          <a:prstGeom prst="wedgeEllipseCallout">
            <a:avLst>
              <a:gd name="adj1" fmla="val -66699"/>
              <a:gd name="adj2" fmla="val 2276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 you fly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4572000"/>
            <a:ext cx="4647960" cy="2057400"/>
          </a:xfrm>
          <a:prstGeom prst="wedgeEllipseCallout">
            <a:avLst>
              <a:gd name="adj1" fmla="val 39583"/>
              <a:gd name="adj2" fmla="val -9668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es, I c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5715000"/>
            <a:ext cx="39621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571500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 you 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1752480"/>
            <a:ext cx="4648320" cy="1067040"/>
          </a:xfrm>
          <a:prstGeom prst="wedgeEllipseCallout">
            <a:avLst>
              <a:gd name="adj1" fmla="val -74759"/>
              <a:gd name="adj2" fmla="val -10506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, I ca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83240" y="2895480"/>
            <a:ext cx="2660760" cy="3562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2819520"/>
            <a:ext cx="65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080" y="380880"/>
            <a:ext cx="4311720" cy="4419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343400" y="762120"/>
            <a:ext cx="2590920" cy="685800"/>
          </a:xfrm>
          <a:prstGeom prst="wedgeRoundRectCallout">
            <a:avLst>
              <a:gd name="adj1" fmla="val -85782"/>
              <a:gd name="adj2" fmla="val 15393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80880"/>
            <a:ext cx="5638680" cy="1067040"/>
          </a:xfrm>
          <a:prstGeom prst="wedgeEllipseCallout">
            <a:avLst>
              <a:gd name="adj1" fmla="val -63768"/>
              <a:gd name="adj2" fmla="val 2276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 you dan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4572000"/>
            <a:ext cx="5638680" cy="2057400"/>
          </a:xfrm>
          <a:prstGeom prst="wedgeEllipseCallout">
            <a:avLst>
              <a:gd name="adj1" fmla="val 41412"/>
              <a:gd name="adj2" fmla="val -9668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, I ca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5715000"/>
            <a:ext cx="39621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71500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 you d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1752480"/>
            <a:ext cx="4648320" cy="1067040"/>
          </a:xfrm>
          <a:prstGeom prst="wedgeEllipseCallout">
            <a:avLst>
              <a:gd name="adj1" fmla="val -74759"/>
              <a:gd name="adj2" fmla="val -10506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es, I c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t’s do i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3520" y="2590920"/>
          <a:ext cx="7924680" cy="403056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wi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l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 Weis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 D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3809880" y="228600"/>
            <a:ext cx="4114800" cy="2311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an you 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es, I c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, I ca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755640" y="260280"/>
            <a:ext cx="7632720" cy="3316320"/>
            <a:chOff x="755640" y="260280"/>
            <a:chExt cx="7632720" cy="3316320"/>
          </a:xfrm>
        </p:grpSpPr>
        <p:sp>
          <p:nvSpPr>
            <p:cNvPr id="80" name=""/>
            <p:cNvSpPr/>
            <p:nvPr/>
          </p:nvSpPr>
          <p:spPr>
            <a:xfrm>
              <a:off x="1834920" y="620640"/>
              <a:ext cx="6551640" cy="29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ff"/>
                  </a:solidFill>
                  <a:latin typeface="Times New Roman"/>
                </a:rPr>
                <a:t>Can you ______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Times New Roman"/>
                </a:rPr>
                <a:t>dance       sing      fl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Times New Roman"/>
                </a:rPr>
                <a:t>swim    hop    play card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755640" y="260280"/>
              <a:ext cx="7632720" cy="3078360"/>
              <a:chOff x="755640" y="260280"/>
              <a:chExt cx="7632720" cy="3078360"/>
            </a:xfrm>
          </p:grpSpPr>
          <p:pic>
            <p:nvPicPr>
              <p:cNvPr id="82" name="" descr=""/>
              <p:cNvPicPr/>
              <p:nvPr/>
            </p:nvPicPr>
            <p:blipFill>
              <a:blip r:embed="rId1"/>
              <a:srcRect l="0" t="66682" r="43160" b="0"/>
              <a:stretch/>
            </p:blipFill>
            <p:spPr>
              <a:xfrm>
                <a:off x="755640" y="1628640"/>
                <a:ext cx="2050920" cy="171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1835280" y="260280"/>
                <a:ext cx="6553080" cy="1511280"/>
              </a:xfrm>
              <a:prstGeom prst="wedgeEllipseCallout">
                <a:avLst>
                  <a:gd name="adj1" fmla="val -50726"/>
                  <a:gd name="adj2" fmla="val 5430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1835280" y="4221000"/>
            <a:ext cx="6697080" cy="2168640"/>
            <a:chOff x="1835280" y="4221000"/>
            <a:chExt cx="6697080" cy="2168640"/>
          </a:xfrm>
        </p:grpSpPr>
        <p:sp>
          <p:nvSpPr>
            <p:cNvPr id="85" name=""/>
            <p:cNvSpPr/>
            <p:nvPr/>
          </p:nvSpPr>
          <p:spPr>
            <a:xfrm>
              <a:off x="1835280" y="4292640"/>
              <a:ext cx="6697080" cy="2016000"/>
            </a:xfrm>
            <a:prstGeom prst="wedgeEllipseCallout">
              <a:avLst>
                <a:gd name="adj1" fmla="val -50726"/>
                <a:gd name="adj2" fmla="val 2110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24240" y="4221000"/>
              <a:ext cx="4930200" cy="21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99"/>
                  </a:solidFill>
                  <a:latin typeface="Times New Roman"/>
                </a:rPr>
                <a:t>Yes, I can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0" lang="en-US" sz="5400" spc="-1" strike="noStrike">
                  <a:solidFill>
                    <a:srgbClr val="333399"/>
                  </a:solidFill>
                  <a:latin typeface="Times New Roman"/>
                </a:rPr>
                <a:t>No, I can’t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3-03-04T07:31:4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