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11.gif" ContentType="image/gif"/>
  <Override PartName="/ppt/media/image19.png" ContentType="image/png"/>
  <Override PartName="/ppt/media/image17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EA0-92BB-4901-9904-45A980E2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F37-5177-4F9A-87E5-A471BE65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4D7-208C-4A36-BDF9-24F404D1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63C-D750-42F9-BB46-9093FCC7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9B7-FEEF-4AAD-BA80-114F1CDF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C0F-C9D2-41A6-B185-14165136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2DD-AD32-438A-AB2C-FA95E6A5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5C4-D759-4EC5-A2F6-B70A8A7E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D13-F492-45FE-9152-AB1CCB02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B9E-CBA9-4B4A-9F5A-D2812E57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45E-3379-4942-8158-29E6F525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386-6183-4521-A98F-F6A418BD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3EB1394C-DA91-4B0E-97F6-63680D4D5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914400"/>
            <a:ext cx="8153640" cy="2399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Lesson 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Horses and Rabbi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6520" r="0" b="4346"/>
          <a:stretch/>
        </p:blipFill>
        <p:spPr>
          <a:xfrm>
            <a:off x="4419720" y="2595600"/>
            <a:ext cx="3809880" cy="3500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049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Is this a ____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1430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Yes, it 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9051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No, it is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2895840" cy="1914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352680" y="1522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8088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8763120" cy="31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-1066680"/>
            <a:ext cx="5790960" cy="433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-609480" y="-914400"/>
            <a:ext cx="3943080" cy="3971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05720" y="26668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4100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971800" y="380880"/>
            <a:ext cx="3152880" cy="232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9880" y="2743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74320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53352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Can a _____ ru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0492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447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Yes, it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6668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Can it fl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5053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No, it ca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581640" cy="32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1676520"/>
            <a:ext cx="44960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____ can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fly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6094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What animals can_____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9720" y="3808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7000" y="152388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6094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What animals can_____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457200"/>
            <a:ext cx="1981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swi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52280" y="2743200"/>
            <a:ext cx="100584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______________can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swim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.                                        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676520"/>
            <a:ext cx="5181840" cy="46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____can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swim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.                                        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5788" t="0" r="19295" b="0"/>
          <a:stretch/>
        </p:blipFill>
        <p:spPr>
          <a:xfrm>
            <a:off x="2209680" y="4038480"/>
            <a:ext cx="17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15000" y="1665360"/>
            <a:ext cx="1523880" cy="1299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15788" t="0" r="19295" b="0"/>
          <a:stretch/>
        </p:blipFill>
        <p:spPr>
          <a:xfrm>
            <a:off x="457200" y="4038480"/>
            <a:ext cx="1781280" cy="205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6002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6668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Ducks and do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724280" y="4267080"/>
            <a:ext cx="4191120" cy="1764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95480" y="13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5546880"/>
            <a:ext cx="3047760" cy="131292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hor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5767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257800"/>
            <a:ext cx="7772400" cy="131292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Horses can ru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952880"/>
            <a:ext cx="3962160" cy="131292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334120"/>
            <a:ext cx="8991720" cy="131292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Rabbits can jump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049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Is this a ____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1430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Yes, it 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9051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No, it is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4724280" y="2362320"/>
            <a:ext cx="3733920" cy="3595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2590920" cy="1712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1522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8088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5329" t="0" r="12006" b="0"/>
          <a:stretch/>
        </p:blipFill>
        <p:spPr>
          <a:xfrm>
            <a:off x="4419720" y="2376360"/>
            <a:ext cx="3809880" cy="3640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3049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Is this a _______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1430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Yes, it 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9051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No, it is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2590920" cy="171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352680" y="1522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8088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957400" cy="4190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3049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Is this a _____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1430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Yes, it 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9051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No, it is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2590560" cy="1712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352680" y="15228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8088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91120" y="3319560"/>
            <a:ext cx="4376520" cy="2509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3049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Is this a ______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1430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Yes, it 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9051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No, it is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2895480" cy="1914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52680" y="1522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80880" cy="8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1</cp:lastModifiedBy>
  <dcterms:modified xsi:type="dcterms:W3CDTF">2015-09-21T01:48:18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