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png" ContentType="image/png"/>
  <Override PartName="/ppt/media/chimes.wav" ContentType="audio/x-wav"/>
  <Override PartName="/ppt/media/image18.gif" ContentType="image/gif"/>
  <Override PartName="/ppt/media/image17.jpeg" ContentType="image/jpeg"/>
  <Override PartName="/ppt/media/image14.png" ContentType="image/png"/>
  <Override PartName="/ppt/media/image21.png" ContentType="image/png"/>
  <Override PartName="/ppt/media/image16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5.png" ContentType="image/png"/>
  <Override PartName="/ppt/media/image10.png" ContentType="image/png"/>
  <Override PartName="/ppt/media/image13.png" ContentType="image/png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2EC-BACF-4448-91CE-83C487A2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820-14A4-4CB8-9AAD-B0A6021C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BCC-F134-4768-87CD-A3C749A7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995-4A71-4AAC-86C9-801ED0A3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BD7-3D87-4168-9300-3D20E45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90A-98E8-4F47-8E47-28EC23CB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021-F95C-4A3D-B2E4-2123AB6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85A-C903-4526-A7E6-61A122B7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C71-69B1-420B-8CDE-C6B6EEA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BAE-C248-4559-9028-4F2C35E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F9A-4EAD-4908-988C-3B179E5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0B5-45C6-4484-B16C-399F77A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68B6-63AC-4E89-82C4-9DD87A84F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9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38080" y="281952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it 1 Animals on the Fa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son 5 W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方位介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1828800"/>
            <a:ext cx="1752480" cy="93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72200" y="533520"/>
            <a:ext cx="1600200" cy="172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743200" y="533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8600" y="533520"/>
            <a:ext cx="2286000" cy="2065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056600" y="3886200"/>
            <a:ext cx="71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re is the cat?            It is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031040" y="4800600"/>
            <a:ext cx="71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re is the cat?           It is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991440" y="5778360"/>
            <a:ext cx="79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re is the cat?            It is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2133720"/>
            <a:ext cx="1788480" cy="1450080"/>
            <a:chOff x="533520" y="2133720"/>
            <a:chExt cx="1788480" cy="1450080"/>
          </a:xfrm>
        </p:grpSpPr>
        <p:sp>
          <p:nvSpPr>
            <p:cNvPr id="102" name=""/>
            <p:cNvSpPr/>
            <p:nvPr/>
          </p:nvSpPr>
          <p:spPr>
            <a:xfrm>
              <a:off x="533520" y="2133720"/>
              <a:ext cx="1617480" cy="1179360"/>
            </a:xfrm>
            <a:prstGeom prst="flowChartPunchedTap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</a:rPr>
                <a:t>  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</a:rPr>
                <a:t>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713160" y="3124080"/>
              <a:ext cx="16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面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838080" y="533520"/>
            <a:ext cx="1676520" cy="109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276720" y="838080"/>
            <a:ext cx="2057400" cy="9367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783600" y="2057400"/>
            <a:ext cx="1616400" cy="1374120"/>
            <a:chOff x="3783600" y="2057400"/>
            <a:chExt cx="1616400" cy="1374120"/>
          </a:xfrm>
        </p:grpSpPr>
        <p:sp>
          <p:nvSpPr>
            <p:cNvPr id="107" name="Text Box 16"/>
            <p:cNvSpPr/>
            <p:nvPr/>
          </p:nvSpPr>
          <p:spPr>
            <a:xfrm>
              <a:off x="3783600" y="297180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里面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2057400"/>
              <a:ext cx="1067040" cy="1083960"/>
            </a:xfrm>
            <a:prstGeom prst="cloudCallout">
              <a:avLst>
                <a:gd name="adj1" fmla="val -48824"/>
                <a:gd name="adj2" fmla="val 710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</a:rPr>
                <a:t>i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431760" y="1944720"/>
            <a:ext cx="2432160" cy="1410480"/>
            <a:chOff x="6431760" y="1944720"/>
            <a:chExt cx="2432160" cy="1410480"/>
          </a:xfrm>
        </p:grpSpPr>
        <p:sp>
          <p:nvSpPr>
            <p:cNvPr id="110" name="Text Box 17"/>
            <p:cNvSpPr/>
            <p:nvPr/>
          </p:nvSpPr>
          <p:spPr>
            <a:xfrm>
              <a:off x="6791760" y="289548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31760" y="1944720"/>
              <a:ext cx="2432160" cy="1083960"/>
            </a:xfrm>
            <a:prstGeom prst="cloudCallout">
              <a:avLst>
                <a:gd name="adj1" fmla="val -42171"/>
                <a:gd name="adj2" fmla="val 7768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</a:rPr>
                <a:t>und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045120" y="38354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69160" y="4724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664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0492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73320" y="60948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8088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392436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40" y="483876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5842080"/>
            <a:ext cx="533520" cy="457200"/>
          </a:xfrm>
          <a:prstGeom prst="ellipse">
            <a:avLst/>
          </a:prstGeom>
          <a:gradFill rotWithShape="0">
            <a:gsLst>
              <a:gs pos="0">
                <a:srgbClr val="75755e">
                  <a:alpha val="44313"/>
                </a:srgbClr>
              </a:gs>
              <a:gs pos="50000">
                <a:srgbClr val="ffffcc">
                  <a:alpha val="39215"/>
                </a:srgbClr>
              </a:gs>
              <a:gs pos="100000">
                <a:srgbClr val="75755e">
                  <a:alpha val="44313"/>
                </a:srgbClr>
              </a:gs>
            </a:gsLst>
            <a:lin ang="5400000"/>
          </a:gra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M_009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014480" y="2217600"/>
            <a:ext cx="6248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Where’s the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: It’s in/on/under th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s … in/on/under the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: Yes, it is. / No, it i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809880" y="99072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ummary</a:t>
            </a:r>
            <a:endParaRPr b="1" lang="en-US" sz="28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5" descr="图片9"/>
          <p:cNvPicPr/>
          <p:nvPr/>
        </p:nvPicPr>
        <p:blipFill>
          <a:blip r:embed="rId3"/>
          <a:stretch/>
        </p:blipFill>
        <p:spPr>
          <a:xfrm>
            <a:off x="815328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图片9"/>
          <p:cNvPicPr/>
          <p:nvPr/>
        </p:nvPicPr>
        <p:blipFill>
          <a:blip r:embed="rId4"/>
          <a:stretch/>
        </p:blipFill>
        <p:spPr>
          <a:xfrm>
            <a:off x="12600" y="596916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64000" y="1197000"/>
            <a:ext cx="3249720" cy="3419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50920" y="1989000"/>
            <a:ext cx="4897440" cy="15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5e75"/>
                    </a:gs>
                    <a:gs pos="50000">
                      <a:srgbClr val="00ccff"/>
                    </a:gs>
                    <a:gs pos="100000">
                      <a:srgbClr val="005e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's have fun</a:t>
            </a:r>
            <a:endParaRPr b="1" i="1" lang="en-US" sz="1800" spc="-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5e75"/>
                  </a:gs>
                  <a:gs pos="50000">
                    <a:srgbClr val="00ccff"/>
                  </a:gs>
                  <a:gs pos="100000">
                    <a:srgbClr val="005e75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76640"/>
            <a:ext cx="80643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Enjoy  the s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Georgia"/>
              </a:rPr>
              <a:t> </a:t>
            </a:r>
            <a:r>
              <a:rPr b="1" i="1" lang="zh-CN" sz="36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1" i="1" lang="zh-CN" sz="3600" spc="-1" strike="noStrike">
                <a:solidFill>
                  <a:srgbClr val="0000ff"/>
                </a:solidFill>
                <a:latin typeface="Georgia"/>
              </a:rPr>
              <a:t>on    in   under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ordArt 3" descr=""/>
          <p:cNvPicPr/>
          <p:nvPr/>
        </p:nvPicPr>
        <p:blipFill>
          <a:blip r:embed="rId2"/>
          <a:stretch/>
        </p:blipFill>
        <p:spPr>
          <a:xfrm>
            <a:off x="590400" y="1847880"/>
            <a:ext cx="5677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81480" y="11430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在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华文隶书"/>
              </a:rPr>
              <a:t>……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上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149400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4419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在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华文隶书"/>
              </a:rPr>
              <a:t>……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5909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在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华文隶书"/>
              </a:rPr>
              <a:t>……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隶书"/>
              </a:rPr>
              <a:t>里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1733400" cy="208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17146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1866960" cy="22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68360" y="4572000"/>
            <a:ext cx="1538640" cy="66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286000" y="1219320"/>
            <a:ext cx="1511280" cy="649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1143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4495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457200" y="990720"/>
            <a:ext cx="83883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Times New Roman"/>
              </a:rPr>
              <a:t>Where is the ...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11640" y="4365720"/>
            <a:ext cx="66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4419720"/>
            <a:ext cx="6248520" cy="2057400"/>
          </a:xfrm>
          <a:prstGeom prst="wedgeRoundRectCallout">
            <a:avLst>
              <a:gd name="adj1" fmla="val -50763"/>
              <a:gd name="adj2" fmla="val -70986"/>
              <a:gd name="adj3" fmla="val 16667"/>
            </a:avLst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意思是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在哪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通常放在句首构成疑问句，用来</a:t>
            </a: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询问地点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2227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143000" y="6094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re’s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he ca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n"/>
          <p:cNvPicPr/>
          <p:nvPr/>
        </p:nvPicPr>
        <p:blipFill>
          <a:blip r:embed="rId3"/>
          <a:srcRect l="14763" t="5906" r="7382" b="9843"/>
          <a:stretch/>
        </p:blipFill>
        <p:spPr>
          <a:xfrm>
            <a:off x="5746680" y="6977160"/>
            <a:ext cx="812880" cy="660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600200" y="4267080"/>
            <a:ext cx="187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410080" y="42512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514600" cy="22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219320" y="1828800"/>
            <a:ext cx="2057400" cy="134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183280" y="2057400"/>
            <a:ext cx="15238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143000" y="6094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re’s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the ca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217520" y="41403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191120" y="15238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矩形 1"/>
          <p:cNvGrpSpPr/>
          <p:nvPr/>
        </p:nvGrpSpPr>
        <p:grpSpPr>
          <a:xfrm>
            <a:off x="907920" y="530280"/>
            <a:ext cx="7553160" cy="5419800"/>
            <a:chOff x="907920" y="530280"/>
            <a:chExt cx="7553160" cy="5419800"/>
          </a:xfrm>
        </p:grpSpPr>
        <p:pic>
          <p:nvPicPr>
            <p:cNvPr id="71" name="矩形 1" descr=""/>
            <p:cNvPicPr/>
            <p:nvPr/>
          </p:nvPicPr>
          <p:blipFill>
            <a:blip r:embed="rId2"/>
            <a:stretch/>
          </p:blipFill>
          <p:spPr>
            <a:xfrm>
              <a:off x="907920" y="530280"/>
              <a:ext cx="755316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"/>
            <p:cNvSpPr/>
            <p:nvPr/>
          </p:nvSpPr>
          <p:spPr>
            <a:xfrm>
              <a:off x="914400" y="533520"/>
              <a:ext cx="754380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0000"/>
                  </a:solidFill>
                  <a:latin typeface="Comic Sans MS"/>
                  <a:ea typeface="楷体"/>
                </a:rPr>
                <a:t>Let’s lear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方位介词</a:t>
              </a: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in/on/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under</a:t>
              </a: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 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的基本用法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  </a:t>
              </a: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in</a:t>
              </a: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 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表示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在</a:t>
              </a: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……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里面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  </a:t>
              </a: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on 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表示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在</a:t>
              </a: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……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上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  </a:t>
              </a:r>
              <a:r>
                <a:rPr b="1" lang="en-US" sz="2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 </a:t>
              </a:r>
              <a:r>
                <a:rPr b="1" lang="en-US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under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表示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Comic Sans MS"/>
                  <a:ea typeface="楷体"/>
                </a:rPr>
                <a:t>在</a:t>
              </a: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……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下面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"</a:t>
              </a:r>
              <a:r>
                <a:rPr b="1" lang="zh-CN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楷体"/>
                  <a:ea typeface="楷体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5146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Where is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787040" y="498312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b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324160" y="5867280"/>
            <a:ext cx="2819520" cy="762120"/>
          </a:xfrm>
          <a:prstGeom prst="wedgeRoundRectCallout">
            <a:avLst>
              <a:gd name="adj1" fmla="val -40087"/>
              <a:gd name="adj2" fmla="val -85625"/>
              <a:gd name="adj3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6600ff"/>
                </a:solidFill>
                <a:latin typeface="华文行楷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图片6"/>
          <p:cNvPicPr/>
          <p:nvPr/>
        </p:nvPicPr>
        <p:blipFill>
          <a:blip r:embed="rId2"/>
          <a:stretch/>
        </p:blipFill>
        <p:spPr>
          <a:xfrm>
            <a:off x="762120" y="487692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图片t"/>
          <p:cNvPicPr/>
          <p:nvPr/>
        </p:nvPicPr>
        <p:blipFill>
          <a:blip r:embed="rId3"/>
          <a:stretch/>
        </p:blipFill>
        <p:spPr>
          <a:xfrm>
            <a:off x="7772400" y="380880"/>
            <a:ext cx="8478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895480" y="1905120"/>
            <a:ext cx="354492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733920" y="1905120"/>
            <a:ext cx="182880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at21"/>
          <p:cNvPicPr/>
          <p:nvPr/>
        </p:nvPicPr>
        <p:blipFill>
          <a:blip r:embed="rId2"/>
          <a:stretch/>
        </p:blipFill>
        <p:spPr>
          <a:xfrm>
            <a:off x="3352680" y="2819520"/>
            <a:ext cx="2210040" cy="1649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86000" y="7621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Where is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5280" y="4221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under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2293920" y="5430960"/>
            <a:ext cx="2743200" cy="685800"/>
          </a:xfrm>
          <a:prstGeom prst="wedgeRoundRectCallout">
            <a:avLst>
              <a:gd name="adj1" fmla="val -3759"/>
              <a:gd name="adj2" fmla="val -119212"/>
              <a:gd name="adj3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6600ff"/>
                </a:solidFill>
                <a:latin typeface="华文行楷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图片6"/>
          <p:cNvPicPr/>
          <p:nvPr/>
        </p:nvPicPr>
        <p:blipFill>
          <a:blip r:embed="rId3"/>
          <a:stretch/>
        </p:blipFill>
        <p:spPr>
          <a:xfrm>
            <a:off x="546120" y="471492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图片t"/>
          <p:cNvPicPr/>
          <p:nvPr/>
        </p:nvPicPr>
        <p:blipFill>
          <a:blip r:embed="rId4"/>
          <a:stretch/>
        </p:blipFill>
        <p:spPr>
          <a:xfrm>
            <a:off x="7772400" y="380880"/>
            <a:ext cx="8478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505320" y="137160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362320" y="1295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Where is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20800" y="44528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zh-CN" sz="40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the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019240" y="5448240"/>
            <a:ext cx="2971800" cy="685800"/>
          </a:xfrm>
          <a:prstGeom prst="wedgeRoundRectCallout">
            <a:avLst>
              <a:gd name="adj1" fmla="val 2027"/>
              <a:gd name="adj2" fmla="val -109027"/>
              <a:gd name="adj3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</a:t>
            </a:r>
            <a:r>
              <a:rPr b="1" lang="en-US" sz="3600" spc="-1" strike="noStrike">
                <a:solidFill>
                  <a:srgbClr val="6600ff"/>
                </a:solidFill>
                <a:latin typeface="华文行楷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图片6"/>
          <p:cNvPicPr/>
          <p:nvPr/>
        </p:nvPicPr>
        <p:blipFill>
          <a:blip r:embed="rId2"/>
          <a:stretch/>
        </p:blipFill>
        <p:spPr>
          <a:xfrm>
            <a:off x="762120" y="46180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图片t"/>
          <p:cNvPicPr/>
          <p:nvPr/>
        </p:nvPicPr>
        <p:blipFill>
          <a:blip r:embed="rId3"/>
          <a:stretch/>
        </p:blipFill>
        <p:spPr>
          <a:xfrm>
            <a:off x="7391520" y="685800"/>
            <a:ext cx="92376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2362320"/>
            <a:ext cx="2514600" cy="22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971800" y="2058840"/>
            <a:ext cx="243828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4:03:11Z</dcterms:created>
  <dc:creator>蒋孝成</dc:creator>
  <dc:description/>
  <dc:language>en-US</dc:language>
  <cp:lastModifiedBy>孟茹</cp:lastModifiedBy>
  <dcterms:modified xsi:type="dcterms:W3CDTF">2015-04-08T03:54:33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