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6.png" ContentType="image/png"/>
  <Override PartName="/ppt/media/explode.wav" ContentType="audio/x-wav"/>
  <Override PartName="/ppt/media/image8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2.jpeg" ContentType="image/jpeg"/>
  <Override PartName="/ppt/media/image3.png" ContentType="image/png"/>
  <Override PartName="/ppt/media/image22.jpeg" ContentType="image/jpeg"/>
  <Override PartName="/ppt/media/image4.gif" ContentType="image/gif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6E9-275B-47D8-A362-15383DF5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EF8-0F1B-4AAC-8EAC-2157916C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FA9-1D96-4BA7-8E35-A3928227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479-F455-4D60-A696-AC527221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C8F2-3582-433E-813B-841D3527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1836-CAC5-4327-BEDF-502F9EB0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9B3D-7561-4FF4-9815-19E82069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2964-CB96-4B41-8156-BCC4A0D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AADA-11DA-4C91-884F-4FA0B8BC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7467-4B54-4701-96AC-12D5EA73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B470-D7BA-440D-944A-720FDF8C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343-AA41-4E3A-85C3-76CF137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BBF5-CAA4-47B7-93FB-505FA26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83B4-7B50-4FDE-8891-7C071D5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182A-34AF-4847-B1D9-8D7999FD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DFC0-8A8F-492F-90DC-018CD950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2A60-C074-4A89-8C22-0FAC07BF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1F9-0333-47D1-BF5F-B21CC48D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BE9-4D31-4272-A531-19E8D56B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D04-D704-46EC-AA1F-C8A7BCBC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4FB-32F2-402C-B2FE-17DA7682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82C-1305-4360-94DB-503379BF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518-8A31-4DF1-A036-5779BE03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8BB-380E-4C91-A6DE-6CFBDDE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1829" h="3282">
                <a:moveTo>
                  <a:pt x="1829" y="385"/>
                </a:moveTo>
                <a:lnTo>
                  <a:pt x="1615" y="71"/>
                </a:lnTo>
                <a:lnTo>
                  <a:pt x="1411" y="0"/>
                </a:lnTo>
                <a:lnTo>
                  <a:pt x="69" y="2503"/>
                </a:lnTo>
                <a:lnTo>
                  <a:pt x="69" y="2874"/>
                </a:lnTo>
                <a:lnTo>
                  <a:pt x="0" y="3233"/>
                </a:lnTo>
                <a:lnTo>
                  <a:pt x="45" y="3282"/>
                </a:lnTo>
                <a:lnTo>
                  <a:pt x="276" y="2987"/>
                </a:lnTo>
                <a:lnTo>
                  <a:pt x="465" y="2874"/>
                </a:lnTo>
                <a:lnTo>
                  <a:pt x="1829" y="385"/>
                </a:lnTo>
                <a:lnTo>
                  <a:pt x="1829" y="385"/>
                </a:lnTo>
                <a:lnTo>
                  <a:pt x="1829" y="385"/>
                </a:lnTo>
                <a:lnTo>
                  <a:pt x="1829" y="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E00F-7D42-4502-B5B1-547011771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任意多边形 7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1834" h="3302">
                <a:moveTo>
                  <a:pt x="1444" y="0"/>
                </a:moveTo>
                <a:lnTo>
                  <a:pt x="81" y="2528"/>
                </a:lnTo>
                <a:lnTo>
                  <a:pt x="81" y="2854"/>
                </a:lnTo>
                <a:lnTo>
                  <a:pt x="0" y="3240"/>
                </a:lnTo>
                <a:lnTo>
                  <a:pt x="31" y="3302"/>
                </a:lnTo>
                <a:lnTo>
                  <a:pt x="265" y="2989"/>
                </a:lnTo>
                <a:lnTo>
                  <a:pt x="480" y="2871"/>
                </a:lnTo>
                <a:lnTo>
                  <a:pt x="1834" y="381"/>
                </a:lnTo>
                <a:lnTo>
                  <a:pt x="1631" y="85"/>
                </a:lnTo>
                <a:lnTo>
                  <a:pt x="1444" y="0"/>
                </a:lnTo>
                <a:lnTo>
                  <a:pt x="1444" y="0"/>
                </a:lnTo>
                <a:lnTo>
                  <a:pt x="1444" y="0"/>
                </a:lnTo>
                <a:lnTo>
                  <a:pt x="1444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任意多边形 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1615" h="2475">
                <a:moveTo>
                  <a:pt x="0" y="2214"/>
                </a:moveTo>
                <a:lnTo>
                  <a:pt x="271" y="2275"/>
                </a:lnTo>
                <a:lnTo>
                  <a:pt x="464" y="2475"/>
                </a:lnTo>
                <a:lnTo>
                  <a:pt x="1615" y="355"/>
                </a:lnTo>
                <a:lnTo>
                  <a:pt x="1335" y="73"/>
                </a:lnTo>
                <a:lnTo>
                  <a:pt x="1196" y="0"/>
                </a:lnTo>
                <a:lnTo>
                  <a:pt x="0" y="2214"/>
                </a:lnTo>
                <a:lnTo>
                  <a:pt x="0" y="2214"/>
                </a:lnTo>
                <a:lnTo>
                  <a:pt x="0" y="2214"/>
                </a:lnTo>
                <a:lnTo>
                  <a:pt x="0" y="2214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组合 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任意多边形 1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722" h="1622">
                  <a:moveTo>
                    <a:pt x="1984" y="1574"/>
                  </a:moveTo>
                  <a:lnTo>
                    <a:pt x="1775" y="1382"/>
                  </a:lnTo>
                  <a:lnTo>
                    <a:pt x="1664" y="596"/>
                  </a:lnTo>
                  <a:lnTo>
                    <a:pt x="2674" y="412"/>
                  </a:lnTo>
                  <a:lnTo>
                    <a:pt x="2722" y="253"/>
                  </a:lnTo>
                  <a:lnTo>
                    <a:pt x="2624" y="124"/>
                  </a:lnTo>
                  <a:lnTo>
                    <a:pt x="1595" y="263"/>
                  </a:lnTo>
                  <a:lnTo>
                    <a:pt x="1524" y="39"/>
                  </a:lnTo>
                  <a:lnTo>
                    <a:pt x="1356" y="0"/>
                  </a:lnTo>
                  <a:lnTo>
                    <a:pt x="1198" y="35"/>
                  </a:lnTo>
                  <a:lnTo>
                    <a:pt x="1110" y="132"/>
                  </a:lnTo>
                  <a:lnTo>
                    <a:pt x="1171" y="356"/>
                  </a:lnTo>
                  <a:lnTo>
                    <a:pt x="825" y="551"/>
                  </a:lnTo>
                  <a:lnTo>
                    <a:pt x="1229" y="591"/>
                  </a:lnTo>
                  <a:lnTo>
                    <a:pt x="1390" y="1111"/>
                  </a:lnTo>
                  <a:lnTo>
                    <a:pt x="176" y="586"/>
                  </a:lnTo>
                  <a:lnTo>
                    <a:pt x="57" y="636"/>
                  </a:lnTo>
                  <a:lnTo>
                    <a:pt x="0" y="794"/>
                  </a:lnTo>
                  <a:lnTo>
                    <a:pt x="68" y="973"/>
                  </a:lnTo>
                  <a:lnTo>
                    <a:pt x="1424" y="1609"/>
                  </a:lnTo>
                  <a:lnTo>
                    <a:pt x="1723" y="1569"/>
                  </a:lnTo>
                  <a:lnTo>
                    <a:pt x="1963" y="1622"/>
                  </a:lnTo>
                  <a:lnTo>
                    <a:pt x="1984" y="1574"/>
                  </a:lnTo>
                  <a:lnTo>
                    <a:pt x="1984" y="1574"/>
                  </a:lnTo>
                  <a:lnTo>
                    <a:pt x="1984" y="1574"/>
                  </a:lnTo>
                  <a:lnTo>
                    <a:pt x="1984" y="157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1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77" h="322">
                  <a:moveTo>
                    <a:pt x="0" y="8"/>
                  </a:moveTo>
                  <a:lnTo>
                    <a:pt x="148" y="0"/>
                  </a:lnTo>
                  <a:lnTo>
                    <a:pt x="177" y="291"/>
                  </a:lnTo>
                  <a:lnTo>
                    <a:pt x="9" y="32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1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980" h="1025">
                  <a:moveTo>
                    <a:pt x="171" y="0"/>
                  </a:moveTo>
                  <a:lnTo>
                    <a:pt x="1661" y="647"/>
                  </a:lnTo>
                  <a:lnTo>
                    <a:pt x="1782" y="796"/>
                  </a:lnTo>
                  <a:lnTo>
                    <a:pt x="1980" y="988"/>
                  </a:lnTo>
                  <a:lnTo>
                    <a:pt x="1953" y="1025"/>
                  </a:lnTo>
                  <a:lnTo>
                    <a:pt x="1685" y="982"/>
                  </a:lnTo>
                  <a:lnTo>
                    <a:pt x="1429" y="1012"/>
                  </a:lnTo>
                  <a:lnTo>
                    <a:pt x="52" y="372"/>
                  </a:lnTo>
                  <a:lnTo>
                    <a:pt x="0" y="187"/>
                  </a:lnTo>
                  <a:lnTo>
                    <a:pt x="57" y="38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任意多边形 1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312" h="935">
                  <a:moveTo>
                    <a:pt x="0" y="405"/>
                  </a:moveTo>
                  <a:lnTo>
                    <a:pt x="1153" y="935"/>
                  </a:lnTo>
                  <a:lnTo>
                    <a:pt x="1174" y="667"/>
                  </a:lnTo>
                  <a:lnTo>
                    <a:pt x="1312" y="528"/>
                  </a:lnTo>
                  <a:lnTo>
                    <a:pt x="97" y="0"/>
                  </a:lnTo>
                  <a:lnTo>
                    <a:pt x="0" y="158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任意多边形 1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337" h="302">
                  <a:moveTo>
                    <a:pt x="0" y="35"/>
                  </a:moveTo>
                  <a:lnTo>
                    <a:pt x="198" y="0"/>
                  </a:lnTo>
                  <a:lnTo>
                    <a:pt x="311" y="45"/>
                  </a:lnTo>
                  <a:lnTo>
                    <a:pt x="337" y="174"/>
                  </a:lnTo>
                  <a:lnTo>
                    <a:pt x="203" y="183"/>
                  </a:lnTo>
                  <a:lnTo>
                    <a:pt x="39" y="30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1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90" h="279">
                  <a:moveTo>
                    <a:pt x="190" y="4"/>
                  </a:moveTo>
                  <a:lnTo>
                    <a:pt x="190" y="279"/>
                  </a:lnTo>
                  <a:lnTo>
                    <a:pt x="0" y="10"/>
                  </a:lnTo>
                  <a:lnTo>
                    <a:pt x="90" y="0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任意多边形 1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482" h="957">
                  <a:moveTo>
                    <a:pt x="0" y="100"/>
                  </a:moveTo>
                  <a:lnTo>
                    <a:pt x="108" y="0"/>
                  </a:lnTo>
                  <a:lnTo>
                    <a:pt x="289" y="7"/>
                  </a:lnTo>
                  <a:lnTo>
                    <a:pt x="482" y="957"/>
                  </a:lnTo>
                  <a:lnTo>
                    <a:pt x="348" y="902"/>
                  </a:lnTo>
                  <a:lnTo>
                    <a:pt x="189" y="84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任意多边形 1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910" h="434">
                  <a:moveTo>
                    <a:pt x="865" y="0"/>
                  </a:moveTo>
                  <a:lnTo>
                    <a:pt x="0" y="132"/>
                  </a:lnTo>
                  <a:lnTo>
                    <a:pt x="33" y="434"/>
                  </a:lnTo>
                  <a:lnTo>
                    <a:pt x="893" y="296"/>
                  </a:lnTo>
                  <a:lnTo>
                    <a:pt x="910" y="53"/>
                  </a:lnTo>
                  <a:lnTo>
                    <a:pt x="865" y="0"/>
                  </a:lnTo>
                  <a:lnTo>
                    <a:pt x="865" y="0"/>
                  </a:lnTo>
                  <a:lnTo>
                    <a:pt x="865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任意多边形 1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89" h="167">
                  <a:moveTo>
                    <a:pt x="339" y="0"/>
                  </a:moveTo>
                  <a:lnTo>
                    <a:pt x="0" y="96"/>
                  </a:lnTo>
                  <a:lnTo>
                    <a:pt x="389" y="16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组合 1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组合 2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任意多边形 2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92" h="217">
                      <a:moveTo>
                        <a:pt x="0" y="132"/>
                      </a:moveTo>
                      <a:lnTo>
                        <a:pt x="142" y="12"/>
                      </a:lnTo>
                      <a:lnTo>
                        <a:pt x="267" y="0"/>
                      </a:lnTo>
                      <a:lnTo>
                        <a:pt x="366" y="33"/>
                      </a:lnTo>
                      <a:lnTo>
                        <a:pt x="392" y="113"/>
                      </a:lnTo>
                      <a:lnTo>
                        <a:pt x="209" y="83"/>
                      </a:lnTo>
                      <a:lnTo>
                        <a:pt x="92" y="125"/>
                      </a:lnTo>
                      <a:lnTo>
                        <a:pt x="16" y="217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任意多边形 2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87" h="332">
                      <a:moveTo>
                        <a:pt x="0" y="49"/>
                      </a:moveTo>
                      <a:lnTo>
                        <a:pt x="199" y="332"/>
                      </a:lnTo>
                      <a:lnTo>
                        <a:pt x="287" y="313"/>
                      </a:lnTo>
                      <a:lnTo>
                        <a:pt x="278" y="21"/>
                      </a:lnTo>
                      <a:lnTo>
                        <a:pt x="207" y="0"/>
                      </a:lnTo>
                      <a:lnTo>
                        <a:pt x="223" y="246"/>
                      </a:lnTo>
                      <a:lnTo>
                        <a:pt x="88" y="5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任意多边形 2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107" h="292">
                      <a:moveTo>
                        <a:pt x="0" y="23"/>
                      </a:moveTo>
                      <a:lnTo>
                        <a:pt x="44" y="116"/>
                      </a:lnTo>
                      <a:lnTo>
                        <a:pt x="54" y="192"/>
                      </a:lnTo>
                      <a:lnTo>
                        <a:pt x="33" y="292"/>
                      </a:lnTo>
                      <a:lnTo>
                        <a:pt x="98" y="275"/>
                      </a:lnTo>
                      <a:lnTo>
                        <a:pt x="107" y="144"/>
                      </a:lnTo>
                      <a:lnTo>
                        <a:pt x="56" y="0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任意多边形 2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487" h="624">
                    <a:moveTo>
                      <a:pt x="124" y="0"/>
                    </a:moveTo>
                    <a:lnTo>
                      <a:pt x="1487" y="612"/>
                    </a:lnTo>
                    <a:lnTo>
                      <a:pt x="1345" y="624"/>
                    </a:lnTo>
                    <a:lnTo>
                      <a:pt x="0" y="33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任意多边形 2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609" h="369">
                    <a:moveTo>
                      <a:pt x="17" y="42"/>
                    </a:moveTo>
                    <a:lnTo>
                      <a:pt x="199" y="81"/>
                    </a:lnTo>
                    <a:lnTo>
                      <a:pt x="404" y="170"/>
                    </a:lnTo>
                    <a:lnTo>
                      <a:pt x="548" y="302"/>
                    </a:lnTo>
                    <a:lnTo>
                      <a:pt x="406" y="286"/>
                    </a:lnTo>
                    <a:lnTo>
                      <a:pt x="173" y="181"/>
                    </a:lnTo>
                    <a:lnTo>
                      <a:pt x="62" y="99"/>
                    </a:lnTo>
                    <a:lnTo>
                      <a:pt x="133" y="202"/>
                    </a:lnTo>
                    <a:lnTo>
                      <a:pt x="339" y="336"/>
                    </a:lnTo>
                    <a:lnTo>
                      <a:pt x="581" y="369"/>
                    </a:lnTo>
                    <a:lnTo>
                      <a:pt x="611" y="279"/>
                    </a:lnTo>
                    <a:lnTo>
                      <a:pt x="491" y="149"/>
                    </a:lnTo>
                    <a:lnTo>
                      <a:pt x="212" y="21"/>
                    </a:lnTo>
                    <a:lnTo>
                      <a:pt x="0" y="0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任意多边形 2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67" h="594">
                    <a:moveTo>
                      <a:pt x="30" y="0"/>
                    </a:moveTo>
                    <a:lnTo>
                      <a:pt x="114" y="31"/>
                    </a:lnTo>
                    <a:lnTo>
                      <a:pt x="100" y="238"/>
                    </a:lnTo>
                    <a:lnTo>
                      <a:pt x="133" y="407"/>
                    </a:lnTo>
                    <a:lnTo>
                      <a:pt x="267" y="561"/>
                    </a:lnTo>
                    <a:lnTo>
                      <a:pt x="121" y="594"/>
                    </a:lnTo>
                    <a:lnTo>
                      <a:pt x="37" y="428"/>
                    </a:lnTo>
                    <a:lnTo>
                      <a:pt x="0" y="7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组合 2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任意多边形 2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87" h="217">
                      <a:moveTo>
                        <a:pt x="137" y="0"/>
                      </a:moveTo>
                      <a:lnTo>
                        <a:pt x="49" y="82"/>
                      </a:lnTo>
                      <a:lnTo>
                        <a:pt x="0" y="217"/>
                      </a:lnTo>
                      <a:lnTo>
                        <a:pt x="100" y="201"/>
                      </a:lnTo>
                      <a:lnTo>
                        <a:pt x="128" y="105"/>
                      </a:lnTo>
                      <a:lnTo>
                        <a:pt x="187" y="33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任意多边形 2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2105" h="1099">
                      <a:moveTo>
                        <a:pt x="194" y="0"/>
                      </a:moveTo>
                      <a:lnTo>
                        <a:pt x="78" y="64"/>
                      </a:lnTo>
                      <a:lnTo>
                        <a:pt x="0" y="259"/>
                      </a:lnTo>
                      <a:lnTo>
                        <a:pt x="83" y="447"/>
                      </a:lnTo>
                      <a:lnTo>
                        <a:pt x="1477" y="1083"/>
                      </a:lnTo>
                      <a:lnTo>
                        <a:pt x="1777" y="1043"/>
                      </a:lnTo>
                      <a:lnTo>
                        <a:pt x="2019" y="1099"/>
                      </a:lnTo>
                      <a:lnTo>
                        <a:pt x="2105" y="1009"/>
                      </a:lnTo>
                      <a:lnTo>
                        <a:pt x="1877" y="829"/>
                      </a:lnTo>
                      <a:lnTo>
                        <a:pt x="1784" y="639"/>
                      </a:lnTo>
                      <a:lnTo>
                        <a:pt x="1711" y="658"/>
                      </a:lnTo>
                      <a:lnTo>
                        <a:pt x="1798" y="829"/>
                      </a:lnTo>
                      <a:lnTo>
                        <a:pt x="1972" y="1012"/>
                      </a:lnTo>
                      <a:lnTo>
                        <a:pt x="1766" y="983"/>
                      </a:lnTo>
                      <a:lnTo>
                        <a:pt x="1523" y="1017"/>
                      </a:lnTo>
                      <a:lnTo>
                        <a:pt x="1568" y="812"/>
                      </a:lnTo>
                      <a:lnTo>
                        <a:pt x="1672" y="672"/>
                      </a:lnTo>
                      <a:lnTo>
                        <a:pt x="1551" y="689"/>
                      </a:lnTo>
                      <a:lnTo>
                        <a:pt x="1456" y="822"/>
                      </a:lnTo>
                      <a:lnTo>
                        <a:pt x="1423" y="988"/>
                      </a:lnTo>
                      <a:lnTo>
                        <a:pt x="133" y="387"/>
                      </a:lnTo>
                      <a:lnTo>
                        <a:pt x="99" y="268"/>
                      </a:lnTo>
                      <a:lnTo>
                        <a:pt x="128" y="118"/>
                      </a:lnTo>
                      <a:lnTo>
                        <a:pt x="271" y="0"/>
                      </a:lnTo>
                      <a:lnTo>
                        <a:pt x="194" y="0"/>
                      </a:lnTo>
                      <a:lnTo>
                        <a:pt x="194" y="0"/>
                      </a:lnTo>
                      <a:lnTo>
                        <a:pt x="194" y="0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任意多边形 3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99" h="417">
                      <a:moveTo>
                        <a:pt x="145" y="0"/>
                      </a:moveTo>
                      <a:lnTo>
                        <a:pt x="23" y="132"/>
                      </a:lnTo>
                      <a:lnTo>
                        <a:pt x="0" y="286"/>
                      </a:lnTo>
                      <a:lnTo>
                        <a:pt x="41" y="391"/>
                      </a:lnTo>
                      <a:lnTo>
                        <a:pt x="117" y="417"/>
                      </a:lnTo>
                      <a:lnTo>
                        <a:pt x="94" y="191"/>
                      </a:lnTo>
                      <a:lnTo>
                        <a:pt x="199" y="21"/>
                      </a:lnTo>
                      <a:lnTo>
                        <a:pt x="145" y="0"/>
                      </a:lnTo>
                      <a:lnTo>
                        <a:pt x="145" y="0"/>
                      </a:lnTo>
                      <a:lnTo>
                        <a:pt x="145" y="0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任意多边形 3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804" h="1485">
                      <a:moveTo>
                        <a:pt x="273" y="1119"/>
                      </a:moveTo>
                      <a:lnTo>
                        <a:pt x="0" y="155"/>
                      </a:lnTo>
                      <a:lnTo>
                        <a:pt x="101" y="47"/>
                      </a:lnTo>
                      <a:lnTo>
                        <a:pt x="322" y="0"/>
                      </a:lnTo>
                      <a:lnTo>
                        <a:pt x="499" y="71"/>
                      </a:lnTo>
                      <a:lnTo>
                        <a:pt x="804" y="1485"/>
                      </a:lnTo>
                      <a:lnTo>
                        <a:pt x="694" y="1363"/>
                      </a:lnTo>
                      <a:lnTo>
                        <a:pt x="444" y="121"/>
                      </a:lnTo>
                      <a:lnTo>
                        <a:pt x="282" y="76"/>
                      </a:lnTo>
                      <a:lnTo>
                        <a:pt x="149" y="92"/>
                      </a:lnTo>
                      <a:lnTo>
                        <a:pt x="94" y="176"/>
                      </a:lnTo>
                      <a:lnTo>
                        <a:pt x="382" y="1154"/>
                      </a:lnTo>
                      <a:lnTo>
                        <a:pt x="273" y="1119"/>
                      </a:lnTo>
                      <a:lnTo>
                        <a:pt x="273" y="1119"/>
                      </a:lnTo>
                      <a:lnTo>
                        <a:pt x="273" y="1119"/>
                      </a:lnTo>
                      <a:lnTo>
                        <a:pt x="273" y="1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任意多边形 3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239" h="630">
                      <a:moveTo>
                        <a:pt x="0" y="32"/>
                      </a:moveTo>
                      <a:lnTo>
                        <a:pt x="94" y="242"/>
                      </a:lnTo>
                      <a:lnTo>
                        <a:pt x="141" y="397"/>
                      </a:lnTo>
                      <a:lnTo>
                        <a:pt x="145" y="630"/>
                      </a:lnTo>
                      <a:lnTo>
                        <a:pt x="241" y="630"/>
                      </a:lnTo>
                      <a:lnTo>
                        <a:pt x="233" y="450"/>
                      </a:lnTo>
                      <a:lnTo>
                        <a:pt x="202" y="260"/>
                      </a:lnTo>
                      <a:lnTo>
                        <a:pt x="123" y="73"/>
                      </a:lnTo>
                      <a:lnTo>
                        <a:pt x="78" y="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任意多边形 3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487" h="337">
                      <a:moveTo>
                        <a:pt x="371" y="0"/>
                      </a:moveTo>
                      <a:lnTo>
                        <a:pt x="321" y="21"/>
                      </a:lnTo>
                      <a:lnTo>
                        <a:pt x="316" y="82"/>
                      </a:lnTo>
                      <a:lnTo>
                        <a:pt x="0" y="212"/>
                      </a:lnTo>
                      <a:lnTo>
                        <a:pt x="0" y="278"/>
                      </a:lnTo>
                      <a:lnTo>
                        <a:pt x="355" y="283"/>
                      </a:lnTo>
                      <a:lnTo>
                        <a:pt x="400" y="337"/>
                      </a:lnTo>
                      <a:lnTo>
                        <a:pt x="487" y="333"/>
                      </a:lnTo>
                      <a:lnTo>
                        <a:pt x="478" y="238"/>
                      </a:lnTo>
                      <a:lnTo>
                        <a:pt x="145" y="220"/>
                      </a:lnTo>
                      <a:lnTo>
                        <a:pt x="416" y="111"/>
                      </a:lnTo>
                      <a:lnTo>
                        <a:pt x="371" y="0"/>
                      </a:lnTo>
                      <a:lnTo>
                        <a:pt x="371" y="0"/>
                      </a:lnTo>
                      <a:lnTo>
                        <a:pt x="371" y="0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任意多边形 3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1177" h="529">
                      <a:moveTo>
                        <a:pt x="0" y="163"/>
                      </a:moveTo>
                      <a:lnTo>
                        <a:pt x="1079" y="0"/>
                      </a:lnTo>
                      <a:lnTo>
                        <a:pt x="1158" y="97"/>
                      </a:lnTo>
                      <a:lnTo>
                        <a:pt x="1177" y="226"/>
                      </a:lnTo>
                      <a:lnTo>
                        <a:pt x="1129" y="352"/>
                      </a:lnTo>
                      <a:lnTo>
                        <a:pt x="71" y="529"/>
                      </a:lnTo>
                      <a:lnTo>
                        <a:pt x="66" y="480"/>
                      </a:lnTo>
                      <a:lnTo>
                        <a:pt x="1079" y="302"/>
                      </a:lnTo>
                      <a:lnTo>
                        <a:pt x="1117" y="181"/>
                      </a:lnTo>
                      <a:lnTo>
                        <a:pt x="1051" y="71"/>
                      </a:lnTo>
                      <a:lnTo>
                        <a:pt x="0" y="231"/>
                      </a:lnTo>
                      <a:lnTo>
                        <a:pt x="0" y="163"/>
                      </a:lnTo>
                      <a:lnTo>
                        <a:pt x="0" y="163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任意多边形 3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612" h="215">
                      <a:moveTo>
                        <a:pt x="0" y="155"/>
                      </a:moveTo>
                      <a:lnTo>
                        <a:pt x="82" y="215"/>
                      </a:lnTo>
                      <a:lnTo>
                        <a:pt x="278" y="205"/>
                      </a:lnTo>
                      <a:lnTo>
                        <a:pt x="524" y="144"/>
                      </a:lnTo>
                      <a:lnTo>
                        <a:pt x="612" y="52"/>
                      </a:lnTo>
                      <a:lnTo>
                        <a:pt x="556" y="2"/>
                      </a:lnTo>
                      <a:lnTo>
                        <a:pt x="317" y="0"/>
                      </a:lnTo>
                      <a:lnTo>
                        <a:pt x="138" y="14"/>
                      </a:lnTo>
                      <a:lnTo>
                        <a:pt x="18" y="94"/>
                      </a:lnTo>
                      <a:lnTo>
                        <a:pt x="140" y="117"/>
                      </a:lnTo>
                      <a:lnTo>
                        <a:pt x="345" y="64"/>
                      </a:lnTo>
                      <a:lnTo>
                        <a:pt x="522" y="64"/>
                      </a:lnTo>
                      <a:lnTo>
                        <a:pt x="336" y="136"/>
                      </a:lnTo>
                      <a:lnTo>
                        <a:pt x="178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组合 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任意多边形 3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512" h="3567">
                  <a:moveTo>
                    <a:pt x="459" y="3447"/>
                  </a:moveTo>
                  <a:lnTo>
                    <a:pt x="252" y="3216"/>
                  </a:lnTo>
                  <a:lnTo>
                    <a:pt x="211" y="3039"/>
                  </a:lnTo>
                  <a:lnTo>
                    <a:pt x="246" y="2776"/>
                  </a:lnTo>
                  <a:lnTo>
                    <a:pt x="392" y="2458"/>
                  </a:lnTo>
                  <a:lnTo>
                    <a:pt x="425" y="2261"/>
                  </a:lnTo>
                  <a:lnTo>
                    <a:pt x="392" y="2127"/>
                  </a:lnTo>
                  <a:lnTo>
                    <a:pt x="266" y="2030"/>
                  </a:lnTo>
                  <a:lnTo>
                    <a:pt x="239" y="1908"/>
                  </a:lnTo>
                  <a:lnTo>
                    <a:pt x="285" y="1733"/>
                  </a:lnTo>
                  <a:lnTo>
                    <a:pt x="491" y="1262"/>
                  </a:lnTo>
                  <a:lnTo>
                    <a:pt x="512" y="1032"/>
                  </a:lnTo>
                  <a:lnTo>
                    <a:pt x="459" y="778"/>
                  </a:lnTo>
                  <a:lnTo>
                    <a:pt x="285" y="658"/>
                  </a:lnTo>
                  <a:lnTo>
                    <a:pt x="132" y="460"/>
                  </a:lnTo>
                  <a:lnTo>
                    <a:pt x="0" y="0"/>
                  </a:lnTo>
                  <a:lnTo>
                    <a:pt x="19" y="417"/>
                  </a:lnTo>
                  <a:lnTo>
                    <a:pt x="118" y="668"/>
                  </a:lnTo>
                  <a:lnTo>
                    <a:pt x="252" y="822"/>
                  </a:lnTo>
                  <a:lnTo>
                    <a:pt x="398" y="909"/>
                  </a:lnTo>
                  <a:lnTo>
                    <a:pt x="406" y="1140"/>
                  </a:lnTo>
                  <a:lnTo>
                    <a:pt x="331" y="1382"/>
                  </a:lnTo>
                  <a:lnTo>
                    <a:pt x="159" y="1811"/>
                  </a:lnTo>
                  <a:lnTo>
                    <a:pt x="152" y="2085"/>
                  </a:lnTo>
                  <a:lnTo>
                    <a:pt x="312" y="2238"/>
                  </a:lnTo>
                  <a:lnTo>
                    <a:pt x="305" y="2381"/>
                  </a:lnTo>
                  <a:lnTo>
                    <a:pt x="165" y="2678"/>
                  </a:lnTo>
                  <a:lnTo>
                    <a:pt x="106" y="2963"/>
                  </a:lnTo>
                  <a:lnTo>
                    <a:pt x="159" y="3270"/>
                  </a:lnTo>
                  <a:lnTo>
                    <a:pt x="285" y="3434"/>
                  </a:lnTo>
                  <a:lnTo>
                    <a:pt x="445" y="3567"/>
                  </a:lnTo>
                  <a:lnTo>
                    <a:pt x="459" y="3447"/>
                  </a:lnTo>
                  <a:lnTo>
                    <a:pt x="459" y="3447"/>
                  </a:lnTo>
                  <a:lnTo>
                    <a:pt x="459" y="3447"/>
                  </a:lnTo>
                  <a:lnTo>
                    <a:pt x="459" y="3447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任意多边形 3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512" h="4082">
                  <a:moveTo>
                    <a:pt x="459" y="3945"/>
                  </a:moveTo>
                  <a:lnTo>
                    <a:pt x="252" y="3681"/>
                  </a:lnTo>
                  <a:lnTo>
                    <a:pt x="211" y="3478"/>
                  </a:lnTo>
                  <a:lnTo>
                    <a:pt x="246" y="3177"/>
                  </a:lnTo>
                  <a:lnTo>
                    <a:pt x="392" y="2813"/>
                  </a:lnTo>
                  <a:lnTo>
                    <a:pt x="425" y="2587"/>
                  </a:lnTo>
                  <a:lnTo>
                    <a:pt x="392" y="2435"/>
                  </a:lnTo>
                  <a:lnTo>
                    <a:pt x="266" y="2323"/>
                  </a:lnTo>
                  <a:lnTo>
                    <a:pt x="239" y="2183"/>
                  </a:lnTo>
                  <a:lnTo>
                    <a:pt x="285" y="1983"/>
                  </a:lnTo>
                  <a:lnTo>
                    <a:pt x="491" y="1445"/>
                  </a:lnTo>
                  <a:lnTo>
                    <a:pt x="512" y="1181"/>
                  </a:lnTo>
                  <a:lnTo>
                    <a:pt x="459" y="891"/>
                  </a:lnTo>
                  <a:lnTo>
                    <a:pt x="285" y="753"/>
                  </a:lnTo>
                  <a:lnTo>
                    <a:pt x="132" y="527"/>
                  </a:lnTo>
                  <a:lnTo>
                    <a:pt x="0" y="0"/>
                  </a:lnTo>
                  <a:lnTo>
                    <a:pt x="19" y="477"/>
                  </a:lnTo>
                  <a:lnTo>
                    <a:pt x="118" y="765"/>
                  </a:lnTo>
                  <a:lnTo>
                    <a:pt x="252" y="941"/>
                  </a:lnTo>
                  <a:lnTo>
                    <a:pt x="398" y="1041"/>
                  </a:lnTo>
                  <a:lnTo>
                    <a:pt x="406" y="1305"/>
                  </a:lnTo>
                  <a:lnTo>
                    <a:pt x="331" y="1582"/>
                  </a:lnTo>
                  <a:lnTo>
                    <a:pt x="159" y="2072"/>
                  </a:lnTo>
                  <a:lnTo>
                    <a:pt x="152" y="2386"/>
                  </a:lnTo>
                  <a:lnTo>
                    <a:pt x="312" y="2561"/>
                  </a:lnTo>
                  <a:lnTo>
                    <a:pt x="305" y="2725"/>
                  </a:lnTo>
                  <a:lnTo>
                    <a:pt x="165" y="3065"/>
                  </a:lnTo>
                  <a:lnTo>
                    <a:pt x="106" y="3391"/>
                  </a:lnTo>
                  <a:lnTo>
                    <a:pt x="159" y="3742"/>
                  </a:lnTo>
                  <a:lnTo>
                    <a:pt x="285" y="3930"/>
                  </a:lnTo>
                  <a:lnTo>
                    <a:pt x="445" y="4082"/>
                  </a:lnTo>
                  <a:lnTo>
                    <a:pt x="459" y="3945"/>
                  </a:lnTo>
                  <a:lnTo>
                    <a:pt x="459" y="3945"/>
                  </a:lnTo>
                  <a:lnTo>
                    <a:pt x="459" y="3945"/>
                  </a:lnTo>
                  <a:lnTo>
                    <a:pt x="459" y="3945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组合 39"/>
          <p:cNvGrpSpPr/>
          <p:nvPr/>
        </p:nvGrpSpPr>
        <p:grpSpPr>
          <a:xfrm>
            <a:off x="7171920" y="-86040"/>
            <a:ext cx="2426400" cy="2245680"/>
            <a:chOff x="7171920" y="-86040"/>
            <a:chExt cx="2426400" cy="2245680"/>
          </a:xfrm>
        </p:grpSpPr>
        <p:grpSp>
          <p:nvGrpSpPr>
            <p:cNvPr id="39" name="组合 40"/>
            <p:cNvGrpSpPr/>
            <p:nvPr/>
          </p:nvGrpSpPr>
          <p:grpSpPr>
            <a:xfrm>
              <a:off x="7171920" y="-86040"/>
              <a:ext cx="2426400" cy="2245680"/>
              <a:chOff x="7171920" y="-86040"/>
              <a:chExt cx="2426400" cy="2245680"/>
            </a:xfrm>
          </p:grpSpPr>
          <p:sp>
            <p:nvSpPr>
              <p:cNvPr id="40" name="任意多边形 4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155" h="719">
                    <a:moveTo>
                      <a:pt x="77" y="8"/>
                    </a:moveTo>
                    <a:lnTo>
                      <a:pt x="81" y="305"/>
                    </a:lnTo>
                    <a:lnTo>
                      <a:pt x="0" y="719"/>
                    </a:lnTo>
                    <a:lnTo>
                      <a:pt x="49" y="703"/>
                    </a:lnTo>
                    <a:lnTo>
                      <a:pt x="137" y="334"/>
                    </a:lnTo>
                    <a:lnTo>
                      <a:pt x="155" y="0"/>
                    </a:lnTo>
                    <a:lnTo>
                      <a:pt x="77" y="8"/>
                    </a:lnTo>
                    <a:lnTo>
                      <a:pt x="77" y="8"/>
                    </a:lnTo>
                    <a:lnTo>
                      <a:pt x="77" y="8"/>
                    </a:lnTo>
                    <a:lnTo>
                      <a:pt x="7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组合 42"/>
              <p:cNvGrpSpPr/>
              <p:nvPr/>
            </p:nvGrpSpPr>
            <p:grpSpPr>
              <a:xfrm>
                <a:off x="7171920" y="-86040"/>
                <a:ext cx="2426400" cy="2245680"/>
                <a:chOff x="7171920" y="-86040"/>
                <a:chExt cx="2426400" cy="2245680"/>
              </a:xfrm>
            </p:grpSpPr>
            <p:sp>
              <p:nvSpPr>
                <p:cNvPr id="42" name="任意多边形 43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382" h="312">
                      <a:moveTo>
                        <a:pt x="0" y="0"/>
                      </a:moveTo>
                      <a:lnTo>
                        <a:pt x="188" y="164"/>
                      </a:lnTo>
                      <a:lnTo>
                        <a:pt x="316" y="312"/>
                      </a:lnTo>
                      <a:lnTo>
                        <a:pt x="382" y="125"/>
                      </a:lnTo>
                      <a:lnTo>
                        <a:pt x="227" y="8"/>
                      </a:lnTo>
                      <a:lnTo>
                        <a:pt x="293" y="164"/>
                      </a:lnTo>
                      <a:lnTo>
                        <a:pt x="82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任意多边形 44"/>
                <p:cNvSpPr/>
                <p:nvPr/>
              </p:nvSpPr>
              <p:spPr>
                <a:xfrm rot="18427200">
                  <a:off x="8013960" y="525240"/>
                  <a:ext cx="424800" cy="695520"/>
                </a:xfrm>
                <a:custGeom>
                  <a:avLst/>
                  <a:gdLst/>
                  <a:ahLst/>
                  <a:rect l="l" t="t" r="r" b="b"/>
                  <a:pathLst>
                    <a:path w="669" h="1095">
                      <a:moveTo>
                        <a:pt x="466" y="114"/>
                      </a:moveTo>
                      <a:lnTo>
                        <a:pt x="305" y="313"/>
                      </a:lnTo>
                      <a:lnTo>
                        <a:pt x="102" y="678"/>
                      </a:lnTo>
                      <a:lnTo>
                        <a:pt x="0" y="980"/>
                      </a:lnTo>
                      <a:lnTo>
                        <a:pt x="36" y="1095"/>
                      </a:lnTo>
                      <a:lnTo>
                        <a:pt x="164" y="1069"/>
                      </a:lnTo>
                      <a:lnTo>
                        <a:pt x="363" y="813"/>
                      </a:lnTo>
                      <a:lnTo>
                        <a:pt x="551" y="475"/>
                      </a:lnTo>
                      <a:lnTo>
                        <a:pt x="651" y="240"/>
                      </a:lnTo>
                      <a:lnTo>
                        <a:pt x="669" y="74"/>
                      </a:lnTo>
                      <a:lnTo>
                        <a:pt x="615" y="0"/>
                      </a:lnTo>
                      <a:lnTo>
                        <a:pt x="526" y="57"/>
                      </a:lnTo>
                      <a:lnTo>
                        <a:pt x="610" y="95"/>
                      </a:lnTo>
                      <a:lnTo>
                        <a:pt x="551" y="313"/>
                      </a:lnTo>
                      <a:lnTo>
                        <a:pt x="434" y="583"/>
                      </a:lnTo>
                      <a:lnTo>
                        <a:pt x="220" y="897"/>
                      </a:lnTo>
                      <a:lnTo>
                        <a:pt x="72" y="991"/>
                      </a:lnTo>
                      <a:lnTo>
                        <a:pt x="84" y="839"/>
                      </a:lnTo>
                      <a:lnTo>
                        <a:pt x="275" y="448"/>
                      </a:lnTo>
                      <a:lnTo>
                        <a:pt x="523" y="105"/>
                      </a:lnTo>
                      <a:lnTo>
                        <a:pt x="466" y="114"/>
                      </a:lnTo>
                      <a:lnTo>
                        <a:pt x="466" y="114"/>
                      </a:lnTo>
                      <a:lnTo>
                        <a:pt x="466" y="114"/>
                      </a:lnTo>
                      <a:lnTo>
                        <a:pt x="466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任意多边形 45"/>
                <p:cNvSpPr/>
                <p:nvPr/>
              </p:nvSpPr>
              <p:spPr>
                <a:xfrm rot="18427200">
                  <a:off x="7710840" y="28692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1265" h="2244">
                      <a:moveTo>
                        <a:pt x="1226" y="0"/>
                      </a:moveTo>
                      <a:lnTo>
                        <a:pt x="0" y="2245"/>
                      </a:lnTo>
                      <a:lnTo>
                        <a:pt x="121" y="2181"/>
                      </a:lnTo>
                      <a:lnTo>
                        <a:pt x="1265" y="53"/>
                      </a:lnTo>
                      <a:lnTo>
                        <a:pt x="1226" y="0"/>
                      </a:lnTo>
                      <a:lnTo>
                        <a:pt x="1226" y="0"/>
                      </a:lnTo>
                      <a:lnTo>
                        <a:pt x="1226" y="0"/>
                      </a:lnTo>
                      <a:lnTo>
                        <a:pt x="12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任意多边形 46"/>
                <p:cNvSpPr/>
                <p:nvPr/>
              </p:nvSpPr>
              <p:spPr>
                <a:xfrm rot="18427200">
                  <a:off x="7783920" y="-29880"/>
                  <a:ext cx="1202040" cy="2133360"/>
                </a:xfrm>
                <a:custGeom>
                  <a:avLst/>
                  <a:gdLst/>
                  <a:ahLst/>
                  <a:rect l="l" t="t" r="r" b="b"/>
                  <a:pathLst>
                    <a:path w="1895" h="3359">
                      <a:moveTo>
                        <a:pt x="59" y="2534"/>
                      </a:moveTo>
                      <a:lnTo>
                        <a:pt x="248" y="2525"/>
                      </a:lnTo>
                      <a:lnTo>
                        <a:pt x="517" y="2681"/>
                      </a:lnTo>
                      <a:lnTo>
                        <a:pt x="429" y="2508"/>
                      </a:lnTo>
                      <a:lnTo>
                        <a:pt x="231" y="2407"/>
                      </a:lnTo>
                      <a:lnTo>
                        <a:pt x="401" y="2422"/>
                      </a:lnTo>
                      <a:lnTo>
                        <a:pt x="616" y="2556"/>
                      </a:lnTo>
                      <a:lnTo>
                        <a:pt x="1801" y="374"/>
                      </a:lnTo>
                      <a:lnTo>
                        <a:pt x="1624" y="131"/>
                      </a:lnTo>
                      <a:lnTo>
                        <a:pt x="1454" y="0"/>
                      </a:lnTo>
                      <a:lnTo>
                        <a:pt x="1696" y="69"/>
                      </a:lnTo>
                      <a:lnTo>
                        <a:pt x="1895" y="381"/>
                      </a:lnTo>
                      <a:lnTo>
                        <a:pt x="523" y="2916"/>
                      </a:lnTo>
                      <a:lnTo>
                        <a:pt x="303" y="3040"/>
                      </a:lnTo>
                      <a:lnTo>
                        <a:pt x="66" y="3360"/>
                      </a:lnTo>
                      <a:lnTo>
                        <a:pt x="0" y="3267"/>
                      </a:lnTo>
                      <a:lnTo>
                        <a:pt x="82" y="3234"/>
                      </a:lnTo>
                      <a:lnTo>
                        <a:pt x="236" y="3016"/>
                      </a:lnTo>
                      <a:lnTo>
                        <a:pt x="103" y="2916"/>
                      </a:lnTo>
                      <a:lnTo>
                        <a:pt x="103" y="2828"/>
                      </a:lnTo>
                      <a:lnTo>
                        <a:pt x="259" y="2938"/>
                      </a:lnTo>
                      <a:lnTo>
                        <a:pt x="259" y="2838"/>
                      </a:lnTo>
                      <a:lnTo>
                        <a:pt x="380" y="2868"/>
                      </a:lnTo>
                      <a:lnTo>
                        <a:pt x="269" y="2742"/>
                      </a:lnTo>
                      <a:lnTo>
                        <a:pt x="396" y="2727"/>
                      </a:lnTo>
                      <a:lnTo>
                        <a:pt x="59" y="2534"/>
                      </a:lnTo>
                      <a:lnTo>
                        <a:pt x="59" y="2534"/>
                      </a:lnTo>
                      <a:lnTo>
                        <a:pt x="59" y="2534"/>
                      </a:lnTo>
                      <a:lnTo>
                        <a:pt x="59" y="25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任意多边形 47"/>
                <p:cNvSpPr/>
                <p:nvPr/>
              </p:nvSpPr>
              <p:spPr>
                <a:xfrm rot="18427200">
                  <a:off x="8407440" y="1421640"/>
                  <a:ext cx="269640" cy="193680"/>
                </a:xfrm>
                <a:custGeom>
                  <a:avLst/>
                  <a:gdLst/>
                  <a:ahLst/>
                  <a:rect l="l" t="t" r="r" b="b"/>
                  <a:pathLst>
                    <a:path w="424" h="305">
                      <a:moveTo>
                        <a:pt x="0" y="71"/>
                      </a:moveTo>
                      <a:lnTo>
                        <a:pt x="161" y="94"/>
                      </a:lnTo>
                      <a:lnTo>
                        <a:pt x="403" y="304"/>
                      </a:lnTo>
                      <a:lnTo>
                        <a:pt x="424" y="257"/>
                      </a:lnTo>
                      <a:lnTo>
                        <a:pt x="281" y="101"/>
                      </a:lnTo>
                      <a:lnTo>
                        <a:pt x="16" y="0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任意多边形 48"/>
                <p:cNvSpPr/>
                <p:nvPr/>
              </p:nvSpPr>
              <p:spPr>
                <a:xfrm rot="18427200">
                  <a:off x="8339040" y="1277280"/>
                  <a:ext cx="285480" cy="228600"/>
                </a:xfrm>
                <a:custGeom>
                  <a:avLst/>
                  <a:gdLst/>
                  <a:ahLst/>
                  <a:rect l="l" t="t" r="r" b="b"/>
                  <a:pathLst>
                    <a:path w="449" h="359">
                      <a:moveTo>
                        <a:pt x="0" y="69"/>
                      </a:moveTo>
                      <a:lnTo>
                        <a:pt x="213" y="132"/>
                      </a:lnTo>
                      <a:lnTo>
                        <a:pt x="401" y="360"/>
                      </a:lnTo>
                      <a:lnTo>
                        <a:pt x="449" y="264"/>
                      </a:lnTo>
                      <a:lnTo>
                        <a:pt x="263" y="101"/>
                      </a:lnTo>
                      <a:lnTo>
                        <a:pt x="43" y="0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任意多边形 49"/>
                <p:cNvSpPr/>
                <p:nvPr/>
              </p:nvSpPr>
              <p:spPr>
                <a:xfrm rot="18427200">
                  <a:off x="7910640" y="330480"/>
                  <a:ext cx="286920" cy="233280"/>
                </a:xfrm>
                <a:custGeom>
                  <a:avLst/>
                  <a:gdLst/>
                  <a:ahLst/>
                  <a:rect l="l" t="t" r="r" b="b"/>
                  <a:pathLst>
                    <a:path w="452" h="367">
                      <a:moveTo>
                        <a:pt x="0" y="69"/>
                      </a:moveTo>
                      <a:lnTo>
                        <a:pt x="199" y="124"/>
                      </a:lnTo>
                      <a:lnTo>
                        <a:pt x="409" y="367"/>
                      </a:lnTo>
                      <a:lnTo>
                        <a:pt x="452" y="280"/>
                      </a:lnTo>
                      <a:lnTo>
                        <a:pt x="248" y="77"/>
                      </a:lnTo>
                      <a:lnTo>
                        <a:pt x="34" y="0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任意多边形 50"/>
                <p:cNvSpPr/>
                <p:nvPr/>
              </p:nvSpPr>
              <p:spPr>
                <a:xfrm rot="18427200">
                  <a:off x="7855920" y="225360"/>
                  <a:ext cx="282240" cy="217440"/>
                </a:xfrm>
                <a:custGeom>
                  <a:avLst/>
                  <a:gdLst/>
                  <a:ahLst/>
                  <a:rect l="l" t="t" r="r" b="b"/>
                  <a:pathLst>
                    <a:path w="447" h="344">
                      <a:moveTo>
                        <a:pt x="0" y="78"/>
                      </a:moveTo>
                      <a:lnTo>
                        <a:pt x="171" y="117"/>
                      </a:lnTo>
                      <a:lnTo>
                        <a:pt x="419" y="344"/>
                      </a:lnTo>
                      <a:lnTo>
                        <a:pt x="447" y="275"/>
                      </a:lnTo>
                      <a:lnTo>
                        <a:pt x="193" y="47"/>
                      </a:lnTo>
                      <a:lnTo>
                        <a:pt x="27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直接连接符 51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任意多边形 1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14009" h="10677">
                <a:moveTo>
                  <a:pt x="9921" y="0"/>
                </a:moveTo>
                <a:lnTo>
                  <a:pt x="0" y="2876"/>
                </a:lnTo>
                <a:lnTo>
                  <a:pt x="7625" y="10677"/>
                </a:lnTo>
                <a:lnTo>
                  <a:pt x="14010" y="3319"/>
                </a:lnTo>
                <a:lnTo>
                  <a:pt x="9921" y="0"/>
                </a:lnTo>
                <a:lnTo>
                  <a:pt x="9921" y="0"/>
                </a:lnTo>
                <a:lnTo>
                  <a:pt x="9921" y="0"/>
                </a:lnTo>
                <a:lnTo>
                  <a:pt x="9921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7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1" name="任意多边形 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5625" h="2542">
                  <a:moveTo>
                    <a:pt x="5626" y="2425"/>
                  </a:moveTo>
                  <a:lnTo>
                    <a:pt x="5029" y="1952"/>
                  </a:lnTo>
                  <a:lnTo>
                    <a:pt x="3938" y="1289"/>
                  </a:lnTo>
                  <a:lnTo>
                    <a:pt x="502" y="0"/>
                  </a:lnTo>
                  <a:lnTo>
                    <a:pt x="162" y="122"/>
                  </a:lnTo>
                  <a:lnTo>
                    <a:pt x="0" y="509"/>
                  </a:lnTo>
                  <a:lnTo>
                    <a:pt x="198" y="951"/>
                  </a:lnTo>
                  <a:lnTo>
                    <a:pt x="4038" y="2511"/>
                  </a:lnTo>
                  <a:lnTo>
                    <a:pt x="4881" y="2413"/>
                  </a:lnTo>
                  <a:lnTo>
                    <a:pt x="5561" y="2542"/>
                  </a:lnTo>
                  <a:lnTo>
                    <a:pt x="5626" y="2425"/>
                  </a:lnTo>
                  <a:lnTo>
                    <a:pt x="5626" y="2425"/>
                  </a:lnTo>
                  <a:lnTo>
                    <a:pt x="5626" y="2425"/>
                  </a:lnTo>
                  <a:lnTo>
                    <a:pt x="5626" y="242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5610" h="2517">
                  <a:moveTo>
                    <a:pt x="484" y="0"/>
                  </a:moveTo>
                  <a:lnTo>
                    <a:pt x="4708" y="1591"/>
                  </a:lnTo>
                  <a:lnTo>
                    <a:pt x="5051" y="1956"/>
                  </a:lnTo>
                  <a:lnTo>
                    <a:pt x="5611" y="2428"/>
                  </a:lnTo>
                  <a:lnTo>
                    <a:pt x="5535" y="2517"/>
                  </a:lnTo>
                  <a:lnTo>
                    <a:pt x="4775" y="2413"/>
                  </a:lnTo>
                  <a:lnTo>
                    <a:pt x="4050" y="2486"/>
                  </a:lnTo>
                  <a:lnTo>
                    <a:pt x="148" y="913"/>
                  </a:lnTo>
                  <a:lnTo>
                    <a:pt x="0" y="459"/>
                  </a:lnTo>
                  <a:lnTo>
                    <a:pt x="162" y="98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3719" h="2297">
                  <a:moveTo>
                    <a:pt x="0" y="999"/>
                  </a:moveTo>
                  <a:lnTo>
                    <a:pt x="3269" y="2297"/>
                  </a:lnTo>
                  <a:lnTo>
                    <a:pt x="3329" y="1642"/>
                  </a:lnTo>
                  <a:lnTo>
                    <a:pt x="3719" y="1297"/>
                  </a:lnTo>
                  <a:lnTo>
                    <a:pt x="276" y="0"/>
                  </a:lnTo>
                  <a:lnTo>
                    <a:pt x="0" y="390"/>
                  </a:lnTo>
                  <a:lnTo>
                    <a:pt x="0" y="999"/>
                  </a:lnTo>
                  <a:lnTo>
                    <a:pt x="0" y="999"/>
                  </a:lnTo>
                  <a:lnTo>
                    <a:pt x="0" y="999"/>
                  </a:lnTo>
                  <a:lnTo>
                    <a:pt x="0" y="999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组合 11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5" name="任意多边形 12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530" h="534">
                    <a:moveTo>
                      <a:pt x="388" y="0"/>
                    </a:moveTo>
                    <a:lnTo>
                      <a:pt x="141" y="204"/>
                    </a:lnTo>
                    <a:lnTo>
                      <a:pt x="0" y="533"/>
                    </a:lnTo>
                    <a:lnTo>
                      <a:pt x="282" y="493"/>
                    </a:lnTo>
                    <a:lnTo>
                      <a:pt x="363" y="259"/>
                    </a:lnTo>
                    <a:lnTo>
                      <a:pt x="530" y="82"/>
                    </a:lnTo>
                    <a:lnTo>
                      <a:pt x="388" y="0"/>
                    </a:lnTo>
                    <a:lnTo>
                      <a:pt x="388" y="0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13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5964" h="2702">
                    <a:moveTo>
                      <a:pt x="552" y="0"/>
                    </a:moveTo>
                    <a:lnTo>
                      <a:pt x="223" y="159"/>
                    </a:lnTo>
                    <a:lnTo>
                      <a:pt x="0" y="638"/>
                    </a:lnTo>
                    <a:lnTo>
                      <a:pt x="237" y="1099"/>
                    </a:lnTo>
                    <a:lnTo>
                      <a:pt x="4186" y="2662"/>
                    </a:lnTo>
                    <a:lnTo>
                      <a:pt x="5036" y="2564"/>
                    </a:lnTo>
                    <a:lnTo>
                      <a:pt x="5724" y="2702"/>
                    </a:lnTo>
                    <a:lnTo>
                      <a:pt x="5965" y="2481"/>
                    </a:lnTo>
                    <a:lnTo>
                      <a:pt x="5320" y="2039"/>
                    </a:lnTo>
                    <a:lnTo>
                      <a:pt x="5058" y="1572"/>
                    </a:lnTo>
                    <a:lnTo>
                      <a:pt x="4849" y="1618"/>
                    </a:lnTo>
                    <a:lnTo>
                      <a:pt x="5097" y="2039"/>
                    </a:lnTo>
                    <a:lnTo>
                      <a:pt x="5589" y="2487"/>
                    </a:lnTo>
                    <a:lnTo>
                      <a:pt x="5005" y="2416"/>
                    </a:lnTo>
                    <a:lnTo>
                      <a:pt x="4317" y="2499"/>
                    </a:lnTo>
                    <a:lnTo>
                      <a:pt x="4445" y="1996"/>
                    </a:lnTo>
                    <a:lnTo>
                      <a:pt x="4739" y="1652"/>
                    </a:lnTo>
                    <a:lnTo>
                      <a:pt x="4395" y="1695"/>
                    </a:lnTo>
                    <a:lnTo>
                      <a:pt x="4126" y="2020"/>
                    </a:lnTo>
                    <a:lnTo>
                      <a:pt x="4034" y="2429"/>
                    </a:lnTo>
                    <a:lnTo>
                      <a:pt x="379" y="952"/>
                    </a:lnTo>
                    <a:lnTo>
                      <a:pt x="283" y="660"/>
                    </a:lnTo>
                    <a:lnTo>
                      <a:pt x="364" y="291"/>
                    </a:lnTo>
                    <a:lnTo>
                      <a:pt x="768" y="0"/>
                    </a:lnTo>
                    <a:lnTo>
                      <a:pt x="552" y="0"/>
                    </a:lnTo>
                    <a:lnTo>
                      <a:pt x="552" y="0"/>
                    </a:lnTo>
                    <a:lnTo>
                      <a:pt x="552" y="0"/>
                    </a:lnTo>
                    <a:lnTo>
                      <a:pt x="5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14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4215" h="1534">
                    <a:moveTo>
                      <a:pt x="354" y="0"/>
                    </a:moveTo>
                    <a:lnTo>
                      <a:pt x="4215" y="1503"/>
                    </a:lnTo>
                    <a:lnTo>
                      <a:pt x="3811" y="1533"/>
                    </a:lnTo>
                    <a:lnTo>
                      <a:pt x="0" y="81"/>
                    </a:lnTo>
                    <a:lnTo>
                      <a:pt x="354" y="0"/>
                    </a:lnTo>
                    <a:lnTo>
                      <a:pt x="354" y="0"/>
                    </a:lnTo>
                    <a:lnTo>
                      <a:pt x="354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任意多边形 15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567" h="1024">
                    <a:moveTo>
                      <a:pt x="411" y="0"/>
                    </a:moveTo>
                    <a:lnTo>
                      <a:pt x="67" y="323"/>
                    </a:lnTo>
                    <a:lnTo>
                      <a:pt x="0" y="702"/>
                    </a:lnTo>
                    <a:lnTo>
                      <a:pt x="117" y="960"/>
                    </a:lnTo>
                    <a:lnTo>
                      <a:pt x="333" y="1024"/>
                    </a:lnTo>
                    <a:lnTo>
                      <a:pt x="269" y="471"/>
                    </a:lnTo>
                    <a:lnTo>
                      <a:pt x="567" y="52"/>
                    </a:lnTo>
                    <a:lnTo>
                      <a:pt x="411" y="0"/>
                    </a:lnTo>
                    <a:lnTo>
                      <a:pt x="411" y="0"/>
                    </a:lnTo>
                    <a:lnTo>
                      <a:pt x="411" y="0"/>
                    </a:lnTo>
                    <a:lnTo>
                      <a:pt x="4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16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1727" h="910">
                    <a:moveTo>
                      <a:pt x="49" y="104"/>
                    </a:moveTo>
                    <a:lnTo>
                      <a:pt x="565" y="202"/>
                    </a:lnTo>
                    <a:lnTo>
                      <a:pt x="1144" y="421"/>
                    </a:lnTo>
                    <a:lnTo>
                      <a:pt x="1554" y="747"/>
                    </a:lnTo>
                    <a:lnTo>
                      <a:pt x="1151" y="707"/>
                    </a:lnTo>
                    <a:lnTo>
                      <a:pt x="491" y="448"/>
                    </a:lnTo>
                    <a:lnTo>
                      <a:pt x="176" y="245"/>
                    </a:lnTo>
                    <a:lnTo>
                      <a:pt x="378" y="501"/>
                    </a:lnTo>
                    <a:lnTo>
                      <a:pt x="960" y="830"/>
                    </a:lnTo>
                    <a:lnTo>
                      <a:pt x="1646" y="910"/>
                    </a:lnTo>
                    <a:lnTo>
                      <a:pt x="1727" y="688"/>
                    </a:lnTo>
                    <a:lnTo>
                      <a:pt x="1391" y="368"/>
                    </a:lnTo>
                    <a:lnTo>
                      <a:pt x="600" y="52"/>
                    </a:lnTo>
                    <a:lnTo>
                      <a:pt x="0" y="0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9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组合 17"/>
          <p:cNvGrpSpPr/>
          <p:nvPr/>
        </p:nvGrpSpPr>
        <p:grpSpPr>
          <a:xfrm>
            <a:off x="7795440" y="4318920"/>
            <a:ext cx="978840" cy="1158840"/>
            <a:chOff x="7795440" y="4318920"/>
            <a:chExt cx="978840" cy="1158840"/>
          </a:xfrm>
        </p:grpSpPr>
        <p:sp>
          <p:nvSpPr>
            <p:cNvPr id="101" name="任意多边形 18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1572" h="732">
                  <a:moveTo>
                    <a:pt x="1572" y="698"/>
                  </a:moveTo>
                  <a:lnTo>
                    <a:pt x="1406" y="562"/>
                  </a:lnTo>
                  <a:lnTo>
                    <a:pt x="1101" y="371"/>
                  </a:lnTo>
                  <a:lnTo>
                    <a:pt x="140" y="0"/>
                  </a:lnTo>
                  <a:lnTo>
                    <a:pt x="45" y="35"/>
                  </a:lnTo>
                  <a:lnTo>
                    <a:pt x="0" y="146"/>
                  </a:lnTo>
                  <a:lnTo>
                    <a:pt x="55" y="274"/>
                  </a:lnTo>
                  <a:lnTo>
                    <a:pt x="1128" y="723"/>
                  </a:lnTo>
                  <a:lnTo>
                    <a:pt x="1364" y="695"/>
                  </a:lnTo>
                  <a:lnTo>
                    <a:pt x="1554" y="732"/>
                  </a:lnTo>
                  <a:lnTo>
                    <a:pt x="1572" y="698"/>
                  </a:lnTo>
                  <a:lnTo>
                    <a:pt x="1572" y="698"/>
                  </a:lnTo>
                  <a:lnTo>
                    <a:pt x="1572" y="698"/>
                  </a:lnTo>
                  <a:lnTo>
                    <a:pt x="1572" y="69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9"/>
            <p:cNvSpPr/>
            <p:nvPr/>
          </p:nvSpPr>
          <p:spPr>
            <a:xfrm rot="7320000">
              <a:off x="7767360" y="4635360"/>
              <a:ext cx="995040" cy="461880"/>
            </a:xfrm>
            <a:custGeom>
              <a:avLst/>
              <a:gdLst/>
              <a:ahLst/>
              <a:rect l="l" t="t" r="r" b="b"/>
              <a:pathLst>
                <a:path w="1567" h="727">
                  <a:moveTo>
                    <a:pt x="135" y="0"/>
                  </a:moveTo>
                  <a:lnTo>
                    <a:pt x="1315" y="459"/>
                  </a:lnTo>
                  <a:lnTo>
                    <a:pt x="1411" y="564"/>
                  </a:lnTo>
                  <a:lnTo>
                    <a:pt x="1567" y="701"/>
                  </a:lnTo>
                  <a:lnTo>
                    <a:pt x="1546" y="727"/>
                  </a:lnTo>
                  <a:lnTo>
                    <a:pt x="1334" y="696"/>
                  </a:lnTo>
                  <a:lnTo>
                    <a:pt x="1131" y="718"/>
                  </a:lnTo>
                  <a:lnTo>
                    <a:pt x="41" y="263"/>
                  </a:lnTo>
                  <a:lnTo>
                    <a:pt x="0" y="132"/>
                  </a:lnTo>
                  <a:lnTo>
                    <a:pt x="45" y="28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20"/>
            <p:cNvSpPr/>
            <p:nvPr/>
          </p:nvSpPr>
          <p:spPr>
            <a:xfrm rot="7320000">
              <a:off x="7936560" y="4622400"/>
              <a:ext cx="660600" cy="422280"/>
            </a:xfrm>
            <a:custGeom>
              <a:avLst/>
              <a:gdLst/>
              <a:ahLst/>
              <a:rect l="l" t="t" r="r" b="b"/>
              <a:pathLst>
                <a:path w="1039" h="662">
                  <a:moveTo>
                    <a:pt x="0" y="288"/>
                  </a:moveTo>
                  <a:lnTo>
                    <a:pt x="914" y="662"/>
                  </a:lnTo>
                  <a:lnTo>
                    <a:pt x="930" y="473"/>
                  </a:lnTo>
                  <a:lnTo>
                    <a:pt x="1039" y="374"/>
                  </a:lnTo>
                  <a:lnTo>
                    <a:pt x="77" y="0"/>
                  </a:lnTo>
                  <a:lnTo>
                    <a:pt x="0" y="112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1"/>
            <p:cNvGrpSpPr/>
            <p:nvPr/>
          </p:nvGrpSpPr>
          <p:grpSpPr>
            <a:xfrm>
              <a:off x="7795440" y="4318920"/>
              <a:ext cx="978840" cy="1158840"/>
              <a:chOff x="7795440" y="4318920"/>
              <a:chExt cx="978840" cy="1158840"/>
            </a:xfrm>
          </p:grpSpPr>
          <p:sp>
            <p:nvSpPr>
              <p:cNvPr id="105" name="任意多边形 22"/>
              <p:cNvSpPr/>
              <p:nvPr/>
            </p:nvSpPr>
            <p:spPr>
              <a:xfrm rot="7320000">
                <a:off x="7916760" y="5063040"/>
                <a:ext cx="93600" cy="96480"/>
              </a:xfrm>
              <a:custGeom>
                <a:avLst/>
                <a:gdLst/>
                <a:ahLst/>
                <a:rect l="l" t="t" r="r" b="b"/>
                <a:pathLst>
                  <a:path w="147" h="152">
                    <a:moveTo>
                      <a:pt x="108" y="0"/>
                    </a:moveTo>
                    <a:lnTo>
                      <a:pt x="39" y="58"/>
                    </a:lnTo>
                    <a:lnTo>
                      <a:pt x="0" y="152"/>
                    </a:lnTo>
                    <a:lnTo>
                      <a:pt x="78" y="141"/>
                    </a:lnTo>
                    <a:lnTo>
                      <a:pt x="101" y="74"/>
                    </a:lnTo>
                    <a:lnTo>
                      <a:pt x="147" y="23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23"/>
              <p:cNvSpPr/>
              <p:nvPr/>
            </p:nvSpPr>
            <p:spPr>
              <a:xfrm rot="7320000">
                <a:off x="7755480" y="4651920"/>
                <a:ext cx="1058760" cy="492480"/>
              </a:xfrm>
              <a:custGeom>
                <a:avLst/>
                <a:gdLst/>
                <a:ahLst/>
                <a:rect l="l" t="t" r="r" b="b"/>
                <a:pathLst>
                  <a:path w="1667" h="777">
                    <a:moveTo>
                      <a:pt x="154" y="0"/>
                    </a:moveTo>
                    <a:lnTo>
                      <a:pt x="62" y="45"/>
                    </a:lnTo>
                    <a:lnTo>
                      <a:pt x="0" y="183"/>
                    </a:lnTo>
                    <a:lnTo>
                      <a:pt x="66" y="316"/>
                    </a:lnTo>
                    <a:lnTo>
                      <a:pt x="1170" y="766"/>
                    </a:lnTo>
                    <a:lnTo>
                      <a:pt x="1408" y="737"/>
                    </a:lnTo>
                    <a:lnTo>
                      <a:pt x="1600" y="777"/>
                    </a:lnTo>
                    <a:lnTo>
                      <a:pt x="1667" y="713"/>
                    </a:lnTo>
                    <a:lnTo>
                      <a:pt x="1487" y="586"/>
                    </a:lnTo>
                    <a:lnTo>
                      <a:pt x="1414" y="452"/>
                    </a:lnTo>
                    <a:lnTo>
                      <a:pt x="1355" y="465"/>
                    </a:lnTo>
                    <a:lnTo>
                      <a:pt x="1424" y="586"/>
                    </a:lnTo>
                    <a:lnTo>
                      <a:pt x="1562" y="715"/>
                    </a:lnTo>
                    <a:lnTo>
                      <a:pt x="1399" y="695"/>
                    </a:lnTo>
                    <a:lnTo>
                      <a:pt x="1207" y="719"/>
                    </a:lnTo>
                    <a:lnTo>
                      <a:pt x="1242" y="574"/>
                    </a:lnTo>
                    <a:lnTo>
                      <a:pt x="1324" y="475"/>
                    </a:lnTo>
                    <a:lnTo>
                      <a:pt x="1228" y="487"/>
                    </a:lnTo>
                    <a:lnTo>
                      <a:pt x="1153" y="581"/>
                    </a:lnTo>
                    <a:lnTo>
                      <a:pt x="1127" y="698"/>
                    </a:lnTo>
                    <a:lnTo>
                      <a:pt x="105" y="273"/>
                    </a:lnTo>
                    <a:lnTo>
                      <a:pt x="79" y="189"/>
                    </a:lnTo>
                    <a:lnTo>
                      <a:pt x="101" y="83"/>
                    </a:lnTo>
                    <a:lnTo>
                      <a:pt x="21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24"/>
              <p:cNvSpPr/>
              <p:nvPr/>
            </p:nvSpPr>
            <p:spPr>
              <a:xfrm rot="7320000">
                <a:off x="8036280" y="47595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79" h="440">
                    <a:moveTo>
                      <a:pt x="99" y="0"/>
                    </a:moveTo>
                    <a:lnTo>
                      <a:pt x="1179" y="431"/>
                    </a:lnTo>
                    <a:lnTo>
                      <a:pt x="1066" y="440"/>
                    </a:lnTo>
                    <a:lnTo>
                      <a:pt x="0" y="22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任意多边形 25"/>
              <p:cNvSpPr/>
              <p:nvPr/>
            </p:nvSpPr>
            <p:spPr>
              <a:xfrm rot="7320000">
                <a:off x="8513280" y="4560840"/>
                <a:ext cx="100080" cy="188280"/>
              </a:xfrm>
              <a:custGeom>
                <a:avLst/>
                <a:gdLst/>
                <a:ahLst/>
                <a:rect l="l" t="t" r="r" b="b"/>
                <a:pathLst>
                  <a:path w="157" h="295">
                    <a:moveTo>
                      <a:pt x="114" y="0"/>
                    </a:moveTo>
                    <a:lnTo>
                      <a:pt x="18" y="93"/>
                    </a:lnTo>
                    <a:lnTo>
                      <a:pt x="0" y="202"/>
                    </a:lnTo>
                    <a:lnTo>
                      <a:pt x="32" y="276"/>
                    </a:lnTo>
                    <a:lnTo>
                      <a:pt x="92" y="295"/>
                    </a:lnTo>
                    <a:lnTo>
                      <a:pt x="74" y="135"/>
                    </a:lnTo>
                    <a:lnTo>
                      <a:pt x="157" y="1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任意多边形 26"/>
              <p:cNvSpPr/>
              <p:nvPr/>
            </p:nvSpPr>
            <p:spPr>
              <a:xfrm rot="7320000">
                <a:off x="8154360" y="4763880"/>
                <a:ext cx="306360" cy="164160"/>
              </a:xfrm>
              <a:custGeom>
                <a:avLst/>
                <a:gdLst/>
                <a:ahLst/>
                <a:rect l="l" t="t" r="r" b="b"/>
                <a:pathLst>
                  <a:path w="482" h="260">
                    <a:moveTo>
                      <a:pt x="13" y="29"/>
                    </a:moveTo>
                    <a:lnTo>
                      <a:pt x="157" y="56"/>
                    </a:lnTo>
                    <a:lnTo>
                      <a:pt x="319" y="120"/>
                    </a:lnTo>
                    <a:lnTo>
                      <a:pt x="434" y="213"/>
                    </a:lnTo>
                    <a:lnTo>
                      <a:pt x="321" y="201"/>
                    </a:lnTo>
                    <a:lnTo>
                      <a:pt x="137" y="128"/>
                    </a:lnTo>
                    <a:lnTo>
                      <a:pt x="49" y="70"/>
                    </a:lnTo>
                    <a:lnTo>
                      <a:pt x="105" y="143"/>
                    </a:lnTo>
                    <a:lnTo>
                      <a:pt x="268" y="236"/>
                    </a:lnTo>
                    <a:lnTo>
                      <a:pt x="459" y="260"/>
                    </a:lnTo>
                    <a:lnTo>
                      <a:pt x="482" y="196"/>
                    </a:lnTo>
                    <a:lnTo>
                      <a:pt x="388" y="105"/>
                    </a:lnTo>
                    <a:lnTo>
                      <a:pt x="167" y="14"/>
                    </a:lnTo>
                    <a:lnTo>
                      <a:pt x="0" y="0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任意多边形 27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10720" h="1147">
                <a:moveTo>
                  <a:pt x="0" y="0"/>
                </a:moveTo>
                <a:cubicBezTo>
                  <a:pt x="340" y="107"/>
                  <a:pt x="1390" y="579"/>
                  <a:pt x="2040" y="639"/>
                </a:cubicBezTo>
                <a:cubicBezTo>
                  <a:pt x="2689" y="699"/>
                  <a:pt x="3467" y="310"/>
                  <a:pt x="3900" y="360"/>
                </a:cubicBezTo>
                <a:cubicBezTo>
                  <a:pt x="4332" y="409"/>
                  <a:pt x="4312" y="937"/>
                  <a:pt x="4640" y="939"/>
                </a:cubicBezTo>
                <a:cubicBezTo>
                  <a:pt x="4967" y="942"/>
                  <a:pt x="5160" y="347"/>
                  <a:pt x="5860" y="380"/>
                </a:cubicBezTo>
                <a:cubicBezTo>
                  <a:pt x="6560" y="412"/>
                  <a:pt x="8030" y="1147"/>
                  <a:pt x="8840" y="1140"/>
                </a:cubicBezTo>
                <a:cubicBezTo>
                  <a:pt x="9650" y="1132"/>
                  <a:pt x="10412" y="469"/>
                  <a:pt x="10720" y="339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8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1400" h="599">
                <a:moveTo>
                  <a:pt x="0" y="80"/>
                </a:moveTo>
                <a:cubicBezTo>
                  <a:pt x="255" y="222"/>
                  <a:pt x="511" y="367"/>
                  <a:pt x="700" y="360"/>
                </a:cubicBezTo>
                <a:cubicBezTo>
                  <a:pt x="887" y="352"/>
                  <a:pt x="1002" y="0"/>
                  <a:pt x="1120" y="39"/>
                </a:cubicBezTo>
                <a:cubicBezTo>
                  <a:pt x="1237" y="80"/>
                  <a:pt x="1351" y="502"/>
                  <a:pt x="1400" y="601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7A99-B40F-48E8-9222-EFE074C4306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4.png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4.png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3" descr="92666377914428849528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矩形 4"/>
          <p:cNvSpPr/>
          <p:nvPr/>
        </p:nvSpPr>
        <p:spPr>
          <a:xfrm>
            <a:off x="0" y="457200"/>
            <a:ext cx="91440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esson 5  Where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" descr="97230276914428849529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" descr="台湾矢量卡通图库 - 趣味动物篇 - 卡通猪图片8 - 卡通猪向量图8"/>
          <p:cNvPicPr/>
          <p:nvPr/>
        </p:nvPicPr>
        <p:blipFill>
          <a:blip r:embed="rId2"/>
          <a:stretch/>
        </p:blipFill>
        <p:spPr>
          <a:xfrm>
            <a:off x="4500720" y="4151160"/>
            <a:ext cx="1076040" cy="92736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" descr="台湾卡通矢量图库 - 生活用品篇 - 椅子23 - 卡通椅子向量图23"/>
          <p:cNvPicPr/>
          <p:nvPr/>
        </p:nvPicPr>
        <p:blipFill>
          <a:blip r:embed="rId3"/>
          <a:stretch/>
        </p:blipFill>
        <p:spPr>
          <a:xfrm>
            <a:off x="3924360" y="2133720"/>
            <a:ext cx="1774800" cy="31669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4" descr="台湾矢量卡通图库 - 趣味动物篇 - 卡通猪图片8 - 卡通猪向量图8"/>
          <p:cNvPicPr/>
          <p:nvPr/>
        </p:nvPicPr>
        <p:blipFill>
          <a:blip r:embed="rId4"/>
          <a:stretch/>
        </p:blipFill>
        <p:spPr>
          <a:xfrm>
            <a:off x="4343400" y="2971800"/>
            <a:ext cx="1076400" cy="9270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"/>
          <p:cNvSpPr/>
          <p:nvPr/>
        </p:nvSpPr>
        <p:spPr>
          <a:xfrm>
            <a:off x="2124000" y="189000"/>
            <a:ext cx="641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Where is the </a:t>
            </a: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pig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It’s ____   the chair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"/>
          <p:cNvSpPr/>
          <p:nvPr/>
        </p:nvSpPr>
        <p:spPr>
          <a:xfrm>
            <a:off x="3315960" y="83664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Monotype Corsiva"/>
              </a:rPr>
              <a:t>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7"/>
          <p:cNvSpPr/>
          <p:nvPr/>
        </p:nvSpPr>
        <p:spPr>
          <a:xfrm>
            <a:off x="3024360" y="836640"/>
            <a:ext cx="20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Monotype Corsiva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8" descr="5235284331442884952965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34480" y="571500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6" name="hammer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"/>
                            </p:stCondLst>
                            <p:childTnLst>
                              <p:par>
                                <p:cTn id="213" dur="indefinite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"/>
                            </p:stCondLst>
                            <p:childTnLst>
                              <p:par>
                                <p:cTn id="236" dur="indefinite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3" descr="9723027691442884952936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14" name="立方体 4"/>
          <p:cNvSpPr/>
          <p:nvPr/>
        </p:nvSpPr>
        <p:spPr>
          <a:xfrm>
            <a:off x="6588000" y="2637000"/>
            <a:ext cx="2016360" cy="187164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5"/>
          <p:cNvSpPr/>
          <p:nvPr/>
        </p:nvSpPr>
        <p:spPr>
          <a:xfrm>
            <a:off x="685800" y="1890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Where is the </a:t>
            </a:r>
            <a:r>
              <a:rPr b="0" lang="en-US" sz="5400" spc="-1" strike="noStrike">
                <a:solidFill>
                  <a:srgbClr val="ff3300"/>
                </a:solidFill>
                <a:latin typeface="Monotype Corsiva"/>
              </a:rPr>
              <a:t>mouse 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It’s ____     the  box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6" descr="3968218601442884952973.gif"/>
          <p:cNvPicPr/>
          <p:nvPr/>
        </p:nvPicPr>
        <p:blipFill>
          <a:blip r:embed="rId2"/>
          <a:stretch/>
        </p:blipFill>
        <p:spPr>
          <a:xfrm>
            <a:off x="6732720" y="1700280"/>
            <a:ext cx="1360440" cy="1968480"/>
          </a:xfrm>
          <a:prstGeom prst="rect">
            <a:avLst/>
          </a:prstGeom>
          <a:ln w="0">
            <a:noFill/>
          </a:ln>
        </p:spPr>
      </p:pic>
      <p:sp>
        <p:nvSpPr>
          <p:cNvPr id="217" name="矩形 7"/>
          <p:cNvSpPr/>
          <p:nvPr/>
        </p:nvSpPr>
        <p:spPr>
          <a:xfrm>
            <a:off x="6588000" y="3068640"/>
            <a:ext cx="1513080" cy="1368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8"/>
          <p:cNvSpPr/>
          <p:nvPr/>
        </p:nvSpPr>
        <p:spPr>
          <a:xfrm>
            <a:off x="2514240" y="981000"/>
            <a:ext cx="9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9" descr="3968218601442884952973.gif"/>
          <p:cNvPicPr/>
          <p:nvPr/>
        </p:nvPicPr>
        <p:blipFill>
          <a:blip r:embed="rId3"/>
          <a:stretch/>
        </p:blipFill>
        <p:spPr>
          <a:xfrm>
            <a:off x="6732720" y="4149720"/>
            <a:ext cx="1360440" cy="196848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10"/>
          <p:cNvSpPr/>
          <p:nvPr/>
        </p:nvSpPr>
        <p:spPr>
          <a:xfrm>
            <a:off x="1843920" y="990720"/>
            <a:ext cx="24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un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11" descr="3968218601442884952973.gif"/>
          <p:cNvPicPr/>
          <p:nvPr/>
        </p:nvPicPr>
        <p:blipFill>
          <a:blip r:embed="rId4"/>
          <a:stretch/>
        </p:blipFill>
        <p:spPr>
          <a:xfrm>
            <a:off x="7093080" y="836640"/>
            <a:ext cx="1360440" cy="196848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2"/>
          <p:cNvSpPr/>
          <p:nvPr/>
        </p:nvSpPr>
        <p:spPr>
          <a:xfrm>
            <a:off x="2243880" y="91440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3" descr="5235284331442884952965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34480" y="570564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"/>
                            </p:stCondLst>
                            <p:childTnLst>
                              <p:par>
                                <p:cTn id="256" dur="indefinite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"/>
                            </p:stCondLst>
                            <p:childTnLst>
                              <p:par>
                                <p:cTn id="273" dur="indefinite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"/>
                            </p:stCondLst>
                            <p:childTnLst>
                              <p:par>
                                <p:cTn id="288" dur="indefinite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" descr="97230276914428849529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2" descr="台湾卡通矢量图库 - 生活用品篇 - 桌子30 - 卡通桌子向量图30"/>
          <p:cNvPicPr/>
          <p:nvPr/>
        </p:nvPicPr>
        <p:blipFill>
          <a:blip r:embed="rId2"/>
          <a:stretch/>
        </p:blipFill>
        <p:spPr>
          <a:xfrm>
            <a:off x="3203640" y="2708280"/>
            <a:ext cx="3889440" cy="33717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3"/>
          <p:cNvSpPr/>
          <p:nvPr/>
        </p:nvSpPr>
        <p:spPr>
          <a:xfrm>
            <a:off x="2212200" y="404640"/>
            <a:ext cx="607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Where is the </a:t>
            </a: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rabbit 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It’s ____   the ____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4" descr="卡通形象-兔子36 - 卡通兔子图片36"/>
          <p:cNvPicPr/>
          <p:nvPr/>
        </p:nvPicPr>
        <p:blipFill>
          <a:blip r:embed="rId3"/>
          <a:stretch/>
        </p:blipFill>
        <p:spPr>
          <a:xfrm>
            <a:off x="4356000" y="4581360"/>
            <a:ext cx="1042920" cy="114480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5" descr="台湾卡通矢量图库 - 生活用品篇 - 办公文具30 - 卡通文具向量图30"/>
          <p:cNvPicPr/>
          <p:nvPr/>
        </p:nvPicPr>
        <p:blipFill>
          <a:blip r:embed="rId4"/>
          <a:stretch/>
        </p:blipFill>
        <p:spPr>
          <a:xfrm>
            <a:off x="3995640" y="2781360"/>
            <a:ext cx="2016360" cy="94932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6"/>
          <p:cNvSpPr/>
          <p:nvPr/>
        </p:nvSpPr>
        <p:spPr>
          <a:xfrm>
            <a:off x="3082680" y="1052640"/>
            <a:ext cx="46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Monotype Corsiva"/>
              </a:rPr>
              <a:t>under        de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7" descr="日式彩绘植物漫画素材：新鲜水果矢量图3 - 苹果向量图3"/>
          <p:cNvPicPr/>
          <p:nvPr/>
        </p:nvPicPr>
        <p:blipFill>
          <a:blip r:embed="rId5"/>
          <a:stretch/>
        </p:blipFill>
        <p:spPr>
          <a:xfrm>
            <a:off x="4876920" y="2514600"/>
            <a:ext cx="610920" cy="68256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8" descr="5235284331442884952965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34480" y="570564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7" name="hammer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"/>
                            </p:stCondLst>
                            <p:childTnLst>
                              <p:par>
                                <p:cTn id="301" dur="indefinite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1" descr="97230276914428849529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2" descr="台湾卡通矢量图库 - 生活用品篇 - 桌子30 - 卡通桌子向量图30"/>
          <p:cNvPicPr/>
          <p:nvPr/>
        </p:nvPicPr>
        <p:blipFill>
          <a:blip r:embed="rId2"/>
          <a:stretch/>
        </p:blipFill>
        <p:spPr>
          <a:xfrm>
            <a:off x="3203640" y="2708280"/>
            <a:ext cx="3889440" cy="33717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" descr="卡通形象-兔子36 - 卡通兔子图片36"/>
          <p:cNvPicPr/>
          <p:nvPr/>
        </p:nvPicPr>
        <p:blipFill>
          <a:blip r:embed="rId3"/>
          <a:stretch/>
        </p:blipFill>
        <p:spPr>
          <a:xfrm>
            <a:off x="4356000" y="4581360"/>
            <a:ext cx="1042920" cy="11448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" descr="台湾卡通矢量图库 - 生活用品篇 - 办公文具30 - 卡通文具向量图30"/>
          <p:cNvPicPr/>
          <p:nvPr/>
        </p:nvPicPr>
        <p:blipFill>
          <a:blip r:embed="rId4"/>
          <a:stretch/>
        </p:blipFill>
        <p:spPr>
          <a:xfrm>
            <a:off x="3995640" y="2781360"/>
            <a:ext cx="2016360" cy="949320"/>
          </a:xfrm>
          <a:prstGeom prst="rect">
            <a:avLst/>
          </a:prstGeom>
          <a:ln w="0">
            <a:noFill/>
          </a:ln>
        </p:spPr>
      </p:pic>
      <p:sp>
        <p:nvSpPr>
          <p:cNvPr id="236" name="文本框 5"/>
          <p:cNvSpPr/>
          <p:nvPr/>
        </p:nvSpPr>
        <p:spPr>
          <a:xfrm>
            <a:off x="1752480" y="0"/>
            <a:ext cx="5035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Where is the </a:t>
            </a:r>
            <a:r>
              <a:rPr b="0" lang="en-US" sz="4800" spc="-1" strike="noStrike">
                <a:solidFill>
                  <a:srgbClr val="ff3300"/>
                </a:solidFill>
                <a:latin typeface="Monotype Corsiva"/>
              </a:rPr>
              <a:t>apple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It’s ____ the _____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6"/>
          <p:cNvSpPr/>
          <p:nvPr/>
        </p:nvSpPr>
        <p:spPr>
          <a:xfrm>
            <a:off x="1991880" y="1447920"/>
            <a:ext cx="27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Monotype Corsiva"/>
              </a:rPr>
              <a:t>on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7" descr="日式彩绘植物漫画素材：新鲜水果矢量图3 - 苹果向量图3"/>
          <p:cNvPicPr/>
          <p:nvPr/>
        </p:nvPicPr>
        <p:blipFill>
          <a:blip r:embed="rId5"/>
          <a:stretch/>
        </p:blipFill>
        <p:spPr>
          <a:xfrm>
            <a:off x="4876920" y="2514600"/>
            <a:ext cx="610920" cy="68256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8" descr="5235284331442884952965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34480" y="5705640"/>
            <a:ext cx="1109520" cy="114300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9"/>
          <p:cNvSpPr/>
          <p:nvPr/>
        </p:nvSpPr>
        <p:spPr>
          <a:xfrm>
            <a:off x="1824840" y="220968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7" name="hammer.wav"/>
      </p:stSnd>
    </p:sndAc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"/>
                            </p:stCondLst>
                            <p:childTnLst>
                              <p:par>
                                <p:cTn id="343" dur="indefinite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ookman Old Style"/>
              </a:rPr>
              <a:t>What’s in the box ?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Bookman Old Style"/>
              </a:rPr>
              <a:t>Jenny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: What’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in the box 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Bookman Old Style"/>
              </a:rPr>
              <a:t>Danny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: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n animal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3" descr="1958873371442884952896.png"/>
          <p:cNvPicPr/>
          <p:nvPr/>
        </p:nvPicPr>
        <p:blipFill>
          <a:blip r:embed="rId1"/>
          <a:stretch/>
        </p:blipFill>
        <p:spPr>
          <a:xfrm>
            <a:off x="3809880" y="1981080"/>
            <a:ext cx="33530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Bookman Old Style"/>
              </a:rPr>
              <a:t>Jenny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: Is it a cat 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Bookman Old Style"/>
              </a:rPr>
              <a:t>Danny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: No, it isn’t 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2" descr="7821796631442884952878.png"/>
          <p:cNvPicPr/>
          <p:nvPr/>
        </p:nvPicPr>
        <p:blipFill>
          <a:blip r:embed="rId1"/>
          <a:stretch/>
        </p:blipFill>
        <p:spPr>
          <a:xfrm>
            <a:off x="3048120" y="1447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3" descr="4646724331442884953060.jpg"/>
          <p:cNvPicPr/>
          <p:nvPr/>
        </p:nvPicPr>
        <p:blipFill>
          <a:blip r:embed="rId2"/>
          <a:stretch/>
        </p:blipFill>
        <p:spPr>
          <a:xfrm>
            <a:off x="6324480" y="10666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-360" y="6091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Bookman Old Style"/>
              </a:rPr>
              <a:t>Jenny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: Can it swim ?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Bookman Old Style"/>
              </a:rPr>
              <a:t>Danny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: Yes, it can 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t can say “quack, quack” 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2" descr="7821796631442884952878.png"/>
          <p:cNvPicPr/>
          <p:nvPr/>
        </p:nvPicPr>
        <p:blipFill>
          <a:blip r:embed="rId1"/>
          <a:stretch/>
        </p:blipFill>
        <p:spPr>
          <a:xfrm>
            <a:off x="5181480" y="1219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182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Bookman Old Style"/>
              </a:rPr>
              <a:t>Jenny</a:t>
            </a:r>
            <a:r>
              <a:rPr b="0" i="1" lang="en-US" sz="4000" spc="-1" strike="noStrike">
                <a:solidFill>
                  <a:srgbClr val="000000"/>
                </a:solidFill>
                <a:latin typeface="Bookman Old Style"/>
              </a:rPr>
              <a:t>: Oh, I see ! It’s a duck .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" descr="4504513561442884953066.jpg"/>
          <p:cNvPicPr/>
          <p:nvPr/>
        </p:nvPicPr>
        <p:blipFill>
          <a:blip r:embed="rId1"/>
          <a:stretch/>
        </p:blipFill>
        <p:spPr>
          <a:xfrm>
            <a:off x="3962520" y="1676520"/>
            <a:ext cx="4114800" cy="38844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3" descr="7486024841442884953072.jpg"/>
          <p:cNvPicPr/>
          <p:nvPr/>
        </p:nvPicPr>
        <p:blipFill>
          <a:blip r:embed="rId2"/>
          <a:stretch/>
        </p:blipFill>
        <p:spPr>
          <a:xfrm>
            <a:off x="762120" y="26668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732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Letters  and  sounds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</a:pP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m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 /m/  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m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outh  swi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m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100"/>
              </a:spcBef>
              <a:buNone/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</a:pP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n 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 /n/   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d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ance   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n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os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100"/>
              </a:spcBef>
              <a:buNone/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</a:pP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l  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/l/     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l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eg     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l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ak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100"/>
              </a:spcBef>
              <a:buNone/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</a:pP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i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  /a i/  n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i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ne    f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i</a:t>
            </a:r>
            <a:r>
              <a:rPr b="0" i="1" lang="en-US" sz="4400" spc="-1" strike="noStrike" u="sng">
                <a:solidFill>
                  <a:srgbClr val="00b200"/>
                </a:solidFill>
                <a:uFillTx/>
                <a:latin typeface="Bookman Old Style"/>
              </a:rPr>
              <a:t>ve</a:t>
            </a:r>
            <a:r>
              <a:rPr b="0" i="1" lang="en-US" sz="4000" spc="-1" strike="noStrike" u="sng">
                <a:solidFill>
                  <a:srgbClr val="00b200"/>
                </a:solidFill>
                <a:uFillTx/>
                <a:latin typeface="Bookman Old Style"/>
              </a:rPr>
              <a:t>    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'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's   in...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3" descr="9723027691442884952936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4"/>
          <p:cNvSpPr/>
          <p:nvPr/>
        </p:nvSpPr>
        <p:spPr>
          <a:xfrm>
            <a:off x="2268360" y="1844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…………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5"/>
          <p:cNvSpPr/>
          <p:nvPr/>
        </p:nvSpPr>
        <p:spPr>
          <a:xfrm>
            <a:off x="2124000" y="1341360"/>
            <a:ext cx="460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6"/>
          <p:cNvSpPr/>
          <p:nvPr/>
        </p:nvSpPr>
        <p:spPr>
          <a:xfrm>
            <a:off x="3276720" y="2421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's   in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7"/>
          <p:cNvSpPr/>
          <p:nvPr/>
        </p:nvSpPr>
        <p:spPr>
          <a:xfrm>
            <a:off x="1692360" y="476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8"/>
          <p:cNvSpPr/>
          <p:nvPr/>
        </p:nvSpPr>
        <p:spPr>
          <a:xfrm>
            <a:off x="900000" y="1341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课主要的学习重点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9"/>
          <p:cNvSpPr/>
          <p:nvPr/>
        </p:nvSpPr>
        <p:spPr>
          <a:xfrm>
            <a:off x="3851280" y="2781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0"/>
          <p:cNvSpPr/>
          <p:nvPr/>
        </p:nvSpPr>
        <p:spPr>
          <a:xfrm>
            <a:off x="3851280" y="3141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1"/>
          <p:cNvSpPr/>
          <p:nvPr/>
        </p:nvSpPr>
        <p:spPr>
          <a:xfrm>
            <a:off x="1763640" y="400536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习难点是学会如何运用和理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2"/>
          <p:cNvSpPr/>
          <p:nvPr/>
        </p:nvSpPr>
        <p:spPr>
          <a:xfrm>
            <a:off x="3132000" y="4508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s my car? It's in the toy box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13" descr="6901987091442884953096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5910120"/>
            <a:ext cx="1143000" cy="9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1" i="1" lang="zh-CN" sz="2800" spc="-1" strike="noStrike">
              <a:solidFill>
                <a:srgbClr val="000000"/>
              </a:solidFill>
              <a:latin typeface="Comic Sans MS"/>
              <a:ea typeface="宋体"/>
            </a:endParaRPr>
          </a:p>
        </p:txBody>
      </p:sp>
      <p:pic>
        <p:nvPicPr>
          <p:cNvPr id="159" name="图片 3" descr="4639252991442884952846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86440"/>
          </a:xfrm>
          <a:prstGeom prst="rect">
            <a:avLst/>
          </a:prstGeom>
          <a:ln w="0">
            <a:noFill/>
          </a:ln>
        </p:spPr>
      </p:pic>
      <p:sp>
        <p:nvSpPr>
          <p:cNvPr id="160" name="矩形 4"/>
          <p:cNvSpPr/>
          <p:nvPr/>
        </p:nvSpPr>
        <p:spPr>
          <a:xfrm>
            <a:off x="324000" y="333360"/>
            <a:ext cx="1800000" cy="503280"/>
          </a:xfrm>
          <a:prstGeom prst="rect">
            <a:avLst/>
          </a:prstGeom>
          <a:solidFill>
            <a:srgbClr val="0080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习检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324000" y="1052640"/>
            <a:ext cx="1800000" cy="503280"/>
          </a:xfrm>
          <a:prstGeom prst="rect">
            <a:avLst/>
          </a:prstGeom>
          <a:solidFill>
            <a:srgbClr val="00800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0" y="1752480"/>
            <a:ext cx="2590920" cy="524160"/>
          </a:xfrm>
          <a:prstGeom prst="rect">
            <a:avLst/>
          </a:prstGeom>
          <a:solidFill>
            <a:srgbClr val="008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问题引导下再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324000" y="2492280"/>
            <a:ext cx="1800000" cy="503280"/>
          </a:xfrm>
          <a:prstGeom prst="rect">
            <a:avLst/>
          </a:prstGeom>
          <a:solidFill>
            <a:srgbClr val="008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324000" y="3213000"/>
            <a:ext cx="1800000" cy="503280"/>
          </a:xfrm>
          <a:prstGeom prst="rect">
            <a:avLst/>
          </a:prstGeom>
          <a:solidFill>
            <a:srgbClr val="008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右箭头 9"/>
          <p:cNvSpPr/>
          <p:nvPr/>
        </p:nvSpPr>
        <p:spPr>
          <a:xfrm>
            <a:off x="2195640" y="404640"/>
            <a:ext cx="792000" cy="360360"/>
          </a:xfrm>
          <a:prstGeom prst="rightArrow">
            <a:avLst>
              <a:gd name="adj1" fmla="val 50000"/>
              <a:gd name="adj2" fmla="val 5493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右箭头 10"/>
          <p:cNvSpPr/>
          <p:nvPr/>
        </p:nvSpPr>
        <p:spPr>
          <a:xfrm>
            <a:off x="2195640" y="1125360"/>
            <a:ext cx="792000" cy="360720"/>
          </a:xfrm>
          <a:prstGeom prst="rightArrow">
            <a:avLst>
              <a:gd name="adj1" fmla="val 50000"/>
              <a:gd name="adj2" fmla="val 5488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右箭头 11"/>
          <p:cNvSpPr/>
          <p:nvPr/>
        </p:nvSpPr>
        <p:spPr>
          <a:xfrm>
            <a:off x="2819520" y="1828800"/>
            <a:ext cx="792000" cy="360360"/>
          </a:xfrm>
          <a:prstGeom prst="rightArrow">
            <a:avLst>
              <a:gd name="adj1" fmla="val 50000"/>
              <a:gd name="adj2" fmla="val 5493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右箭头 12"/>
          <p:cNvSpPr/>
          <p:nvPr/>
        </p:nvSpPr>
        <p:spPr>
          <a:xfrm>
            <a:off x="2195640" y="2565360"/>
            <a:ext cx="792000" cy="360360"/>
          </a:xfrm>
          <a:prstGeom prst="rightArrow">
            <a:avLst>
              <a:gd name="adj1" fmla="val 50000"/>
              <a:gd name="adj2" fmla="val 5493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右箭头 13"/>
          <p:cNvSpPr/>
          <p:nvPr/>
        </p:nvSpPr>
        <p:spPr>
          <a:xfrm>
            <a:off x="2195640" y="3284640"/>
            <a:ext cx="792000" cy="360360"/>
          </a:xfrm>
          <a:prstGeom prst="rightArrow">
            <a:avLst>
              <a:gd name="adj1" fmla="val 50000"/>
              <a:gd name="adj2" fmla="val 5493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4"/>
          <p:cNvSpPr/>
          <p:nvPr/>
        </p:nvSpPr>
        <p:spPr>
          <a:xfrm>
            <a:off x="3059280" y="333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5"/>
          <p:cNvSpPr/>
          <p:nvPr/>
        </p:nvSpPr>
        <p:spPr>
          <a:xfrm>
            <a:off x="3059280" y="1052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6"/>
          <p:cNvSpPr/>
          <p:nvPr/>
        </p:nvSpPr>
        <p:spPr>
          <a:xfrm>
            <a:off x="3124080" y="251460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Arial"/>
              </a:rPr>
              <a:t>猜一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7" descr="305516211442884952854.pn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524720" y="3284640"/>
            <a:ext cx="1619280" cy="11714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8"/>
          <p:cNvSpPr/>
          <p:nvPr/>
        </p:nvSpPr>
        <p:spPr>
          <a:xfrm>
            <a:off x="3059280" y="321300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Arial"/>
              </a:rPr>
              <a:t>记一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404748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学一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3" descr="57215571314428849531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4" descr="795156981442884953116.png"/>
          <p:cNvPicPr/>
          <p:nvPr/>
        </p:nvPicPr>
        <p:blipFill>
          <a:blip r:embed="rId2"/>
          <a:stretch/>
        </p:blipFill>
        <p:spPr>
          <a:xfrm>
            <a:off x="8001000" y="5910120"/>
            <a:ext cx="1143000" cy="947880"/>
          </a:xfrm>
          <a:prstGeom prst="rect">
            <a:avLst/>
          </a:prstGeom>
          <a:ln w="0">
            <a:noFill/>
          </a:ln>
        </p:spPr>
      </p:pic>
      <p:sp>
        <p:nvSpPr>
          <p:cNvPr id="271" name="矩形 5"/>
          <p:cNvSpPr/>
          <p:nvPr/>
        </p:nvSpPr>
        <p:spPr>
          <a:xfrm>
            <a:off x="1066680" y="838080"/>
            <a:ext cx="6858000" cy="5029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：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抄写并造句：有关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练习册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熟读课文三遍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3" descr="97230276914428849529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75" name="矩形 4"/>
          <p:cNvSpPr txBox="1"/>
          <p:nvPr/>
        </p:nvSpPr>
        <p:spPr>
          <a:xfrm>
            <a:off x="1692360" y="1916280"/>
            <a:ext cx="5832360" cy="23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76" name="图片 5" descr="6901987091442884953096.png"/>
          <p:cNvPicPr/>
          <p:nvPr/>
        </p:nvPicPr>
        <p:blipFill>
          <a:blip r:embed="rId2"/>
          <a:stretch/>
        </p:blipFill>
        <p:spPr>
          <a:xfrm>
            <a:off x="8001000" y="5910120"/>
            <a:ext cx="1143000" cy="9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15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ookman Old Style"/>
              </a:rPr>
              <a:t>Let’s play a guessing game !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Bookman Old Style"/>
              </a:rPr>
              <a:t>Where</a:t>
            </a:r>
            <a:r>
              <a:rPr b="1" i="1" lang="en-US" sz="4400" spc="-1" strike="noStrike">
                <a:solidFill>
                  <a:srgbClr val="ff0000"/>
                </a:solidFill>
                <a:latin typeface="Bookman Old Style"/>
              </a:rPr>
              <a:t>  is  the cat ?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3" descr="4859340801442884952862.gif"/>
          <p:cNvPicPr/>
          <p:nvPr/>
        </p:nvPicPr>
        <p:blipFill>
          <a:blip r:embed="rId1"/>
          <a:stretch/>
        </p:blipFill>
        <p:spPr>
          <a:xfrm>
            <a:off x="3200400" y="358128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1760" y="533520"/>
            <a:ext cx="78483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Bookman Old Style"/>
              </a:rPr>
              <a:t>Where ?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" descr="9882667031442884952870.png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523880"/>
            <a:ext cx="3047760" cy="274320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3"/>
          <p:cNvSpPr/>
          <p:nvPr/>
        </p:nvSpPr>
        <p:spPr>
          <a:xfrm>
            <a:off x="6667200" y="2438280"/>
            <a:ext cx="71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"/>
          <p:cNvSpPr/>
          <p:nvPr/>
        </p:nvSpPr>
        <p:spPr>
          <a:xfrm>
            <a:off x="2824560" y="4724280"/>
            <a:ext cx="29710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 the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3" name="explod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76960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Bookman Old Style"/>
              </a:rPr>
              <a:t>                      </a:t>
            </a:r>
            <a:r>
              <a:rPr b="0" i="1" lang="en-US" sz="5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"/>
          <p:cNvSpPr/>
          <p:nvPr/>
        </p:nvSpPr>
        <p:spPr>
          <a:xfrm>
            <a:off x="409320" y="339840"/>
            <a:ext cx="2416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3" descr="7821796631442884952878.png"/>
          <p:cNvPicPr/>
          <p:nvPr/>
        </p:nvPicPr>
        <p:blipFill>
          <a:blip r:embed="rId1"/>
          <a:stretch/>
        </p:blipFill>
        <p:spPr>
          <a:xfrm>
            <a:off x="3505320" y="838080"/>
            <a:ext cx="4572000" cy="38102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5944735821442884952885.jpg"/>
          <p:cNvPicPr/>
          <p:nvPr/>
        </p:nvPicPr>
        <p:blipFill>
          <a:blip r:embed="rId2"/>
          <a:stretch/>
        </p:blipFill>
        <p:spPr>
          <a:xfrm>
            <a:off x="4800600" y="609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5"/>
          <p:cNvSpPr/>
          <p:nvPr/>
        </p:nvSpPr>
        <p:spPr>
          <a:xfrm>
            <a:off x="2532960" y="2286000"/>
            <a:ext cx="8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6"/>
          <p:cNvSpPr/>
          <p:nvPr/>
        </p:nvSpPr>
        <p:spPr>
          <a:xfrm>
            <a:off x="2882160" y="5029200"/>
            <a:ext cx="31464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 the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-609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ere ?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Bookman Old Style"/>
              </a:rPr>
              <a:t>              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Bookman Old Style"/>
              </a:rPr>
              <a:t>                      </a:t>
            </a:r>
            <a:r>
              <a:rPr b="0" i="1" lang="en-US" sz="4800" spc="-1" strike="noStrike">
                <a:solidFill>
                  <a:srgbClr val="ff0000"/>
                </a:solidFill>
                <a:latin typeface="Bookman Old Style"/>
              </a:rPr>
              <a:t>under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Bookman Old Style"/>
              </a:rPr>
              <a:t>under  the  box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3" descr="1958873371442884952896.png"/>
          <p:cNvPicPr/>
          <p:nvPr/>
        </p:nvPicPr>
        <p:blipFill>
          <a:blip r:embed="rId1"/>
          <a:stretch/>
        </p:blipFill>
        <p:spPr>
          <a:xfrm>
            <a:off x="2590920" y="838080"/>
            <a:ext cx="586728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4" descr="5944735821442884952885.jpg"/>
          <p:cNvPicPr/>
          <p:nvPr/>
        </p:nvPicPr>
        <p:blipFill>
          <a:blip r:embed="rId2"/>
          <a:stretch/>
        </p:blipFill>
        <p:spPr>
          <a:xfrm>
            <a:off x="5029200" y="342900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en-US" sz="3200" spc="-1" strike="noStrike" u="sng">
                <a:solidFill>
                  <a:srgbClr val="00b200"/>
                </a:solidFill>
                <a:uFillTx/>
                <a:latin typeface="Arial"/>
              </a:rPr>
              <a:t>1.</a:t>
            </a:r>
            <a:r>
              <a:rPr b="0" i="1" lang="zh-CN" sz="3200" spc="-1" strike="noStrike" u="sng">
                <a:solidFill>
                  <a:srgbClr val="00b200"/>
                </a:solidFill>
                <a:uFillTx/>
                <a:latin typeface="Arial"/>
              </a:rPr>
              <a:t>能正确地听、说、读、写</a:t>
            </a:r>
            <a:r>
              <a:rPr b="0" i="1" lang="en-US" sz="3200" spc="-1" strike="noStrike" u="sng">
                <a:solidFill>
                  <a:srgbClr val="00b200"/>
                </a:solidFill>
                <a:uFillTx/>
                <a:latin typeface="Arial"/>
              </a:rPr>
              <a:t>on,in,under,box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en-US" sz="3200" spc="-1" strike="noStrike" u="sng">
                <a:solidFill>
                  <a:srgbClr val="00b200"/>
                </a:solidFill>
                <a:uFillTx/>
                <a:latin typeface="Arial"/>
              </a:rPr>
              <a:t>2.</a:t>
            </a:r>
            <a:r>
              <a:rPr b="0" i="1" lang="zh-CN" sz="3200" spc="-1" strike="noStrike" u="sng">
                <a:solidFill>
                  <a:srgbClr val="00b200"/>
                </a:solidFill>
                <a:uFillTx/>
                <a:latin typeface="Arial"/>
              </a:rPr>
              <a:t>能综合运用所学的语句进行交际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zh-CN" sz="3200" spc="-1" strike="noStrike" u="sng">
                <a:solidFill>
                  <a:srgbClr val="00b200"/>
                </a:solidFill>
                <a:uFillTx/>
                <a:latin typeface="Arial"/>
              </a:rPr>
              <a:t>  </a:t>
            </a:r>
            <a:r>
              <a:rPr b="1" i="1" lang="en-US" sz="3200" spc="-1" strike="noStrike" u="sng">
                <a:solidFill>
                  <a:srgbClr val="00b200"/>
                </a:solidFill>
                <a:uFillTx/>
                <a:latin typeface="Arial"/>
              </a:rPr>
              <a:t>Where  is  the  cat?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3200" spc="-1" strike="noStrike" u="sng">
                <a:solidFill>
                  <a:srgbClr val="00b200"/>
                </a:solidFill>
                <a:uFillTx/>
                <a:latin typeface="Arial"/>
              </a:rPr>
              <a:t>  It’s  on/in/under  the  box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3200" spc="-1" strike="noStrike" u="sng">
                <a:solidFill>
                  <a:srgbClr val="00b200"/>
                </a:solidFill>
                <a:uFillTx/>
                <a:latin typeface="Arial"/>
              </a:rPr>
              <a:t>  What’s  in  the   box?   It’s a/an  ___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en-US" sz="3200" spc="-1" strike="noStrike" u="sng">
                <a:solidFill>
                  <a:srgbClr val="00b200"/>
                </a:solidFill>
                <a:uFillTx/>
                <a:latin typeface="Arial"/>
              </a:rPr>
              <a:t>3.</a:t>
            </a:r>
            <a:r>
              <a:rPr b="0" i="1" lang="zh-CN" sz="3200" spc="-1" strike="noStrike" u="sng">
                <a:solidFill>
                  <a:srgbClr val="00b200"/>
                </a:solidFill>
                <a:uFillTx/>
                <a:latin typeface="Arial"/>
              </a:rPr>
              <a:t>了解字母</a:t>
            </a:r>
            <a:r>
              <a:rPr b="0" i="1" lang="en-US" sz="3200" spc="-1" strike="noStrike" u="sng">
                <a:solidFill>
                  <a:srgbClr val="00b200"/>
                </a:solidFill>
                <a:uFillTx/>
                <a:latin typeface="Arial"/>
              </a:rPr>
              <a:t>m,n,l,i</a:t>
            </a:r>
            <a:r>
              <a:rPr b="0" i="1" lang="zh-CN" sz="3200" spc="-1" strike="noStrike" u="sng">
                <a:solidFill>
                  <a:srgbClr val="00b200"/>
                </a:solidFill>
                <a:uFillTx/>
                <a:latin typeface="Arial"/>
              </a:rPr>
              <a:t>在单词中的发音极其规则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ere is the  rabbit ?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6" name="图片 2" descr="5700757921442884952902.jpg"/>
          <p:cNvPicPr/>
          <p:nvPr/>
        </p:nvPicPr>
        <p:blipFill>
          <a:blip r:embed="rId1"/>
          <a:stretch/>
        </p:blipFill>
        <p:spPr>
          <a:xfrm>
            <a:off x="3429000" y="2971800"/>
            <a:ext cx="2971800" cy="26607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" descr="3246492521442884952910.jpg"/>
          <p:cNvPicPr/>
          <p:nvPr/>
        </p:nvPicPr>
        <p:blipFill>
          <a:blip r:embed="rId2"/>
          <a:stretch/>
        </p:blipFill>
        <p:spPr>
          <a:xfrm>
            <a:off x="4191120" y="228600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198" name="矩形 4"/>
          <p:cNvSpPr/>
          <p:nvPr/>
        </p:nvSpPr>
        <p:spPr>
          <a:xfrm>
            <a:off x="1447920" y="5029200"/>
            <a:ext cx="7696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Bookman Old Style"/>
              </a:rPr>
              <a:t>It is </a:t>
            </a:r>
            <a:r>
              <a:rPr b="0" i="1" lang="en-US" sz="4800" spc="-1" strike="noStrike">
                <a:solidFill>
                  <a:srgbClr val="ff0000"/>
                </a:solidFill>
                <a:latin typeface="Bookman Old Style"/>
              </a:rPr>
              <a:t>on the desk</a:t>
            </a:r>
            <a:r>
              <a:rPr b="0" i="1" lang="en-US" sz="4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MS Mincho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MS Mincho"/>
              </a:rPr>
              <a:t>Where is the </a:t>
            </a:r>
            <a:r>
              <a:rPr b="1" lang="en-US" sz="48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rabbit</a:t>
            </a:r>
            <a:r>
              <a:rPr b="1" lang="en-US" sz="48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MS Mincho"/>
              </a:rPr>
              <a:t>?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920" y="48765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Bookman Old Style"/>
              </a:rPr>
              <a:t>It is </a:t>
            </a:r>
            <a:r>
              <a:rPr b="0" i="1" lang="en-US" sz="4800" spc="-1" strike="noStrike">
                <a:solidFill>
                  <a:srgbClr val="ff0000"/>
                </a:solidFill>
                <a:latin typeface="Bookman Old Style"/>
              </a:rPr>
              <a:t>under the desk</a:t>
            </a:r>
            <a:r>
              <a:rPr b="0" i="1" lang="en-US" sz="4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3" descr="5700757921442884952902.jpg"/>
          <p:cNvPicPr/>
          <p:nvPr/>
        </p:nvPicPr>
        <p:blipFill>
          <a:blip r:embed="rId1"/>
          <a:stretch/>
        </p:blipFill>
        <p:spPr>
          <a:xfrm>
            <a:off x="3276720" y="2362320"/>
            <a:ext cx="2952720" cy="26604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" descr="3246492521442884952910.jpg"/>
          <p:cNvPicPr/>
          <p:nvPr/>
        </p:nvPicPr>
        <p:blipFill>
          <a:blip r:embed="rId2"/>
          <a:stretch/>
        </p:blipFill>
        <p:spPr>
          <a:xfrm>
            <a:off x="4648320" y="3657600"/>
            <a:ext cx="106668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2:16:12Z</dcterms:created>
  <dc:creator>Administrator</dc:creator>
  <dc:description/>
  <dc:language>en-US</dc:language>
  <cp:lastModifiedBy>acer1</cp:lastModifiedBy>
  <dcterms:modified xsi:type="dcterms:W3CDTF">2015-10-14T09:18:3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