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DD3-57BA-4F70-8D61-53EDE9F7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90D-A3D5-453A-A83C-0F027385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020-BC85-4679-8D08-B9B6B46E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B6A-04D9-469B-AAA2-754A7823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490-3863-4782-988D-E954756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7D40-AD7A-4EC6-856E-83AA00F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B0D-8C25-477C-8202-EB07B1C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FCAB-3C41-42DD-965D-4D545FC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CF85-E8E9-4D0D-AF70-AA5DE5BA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E10-28AC-4421-A25A-60AC001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00E6-1B98-47CD-8201-9B2607D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D7A-5B2A-40FF-9C5A-447DF2F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A6D-40AB-4B65-97AF-FCF9EE9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6590-28F3-43C4-A1EE-A6367C7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CCD4-FFD2-47DA-B4AB-58D3F6C1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45F-AC7E-42A3-A471-F26BB822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74F-6364-4696-A43F-C1F43B87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D2E5-5E1F-4865-8CAC-8D3057FE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A804-CB88-47BC-B6B7-4B42FBA1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2CC9-C91A-48C4-BAF4-6B0155D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DD94-7C32-4560-B660-8090768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5A89-ED20-4F7C-AA9D-BF99ED5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D43-AC30-4340-98DC-194CEF8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243B-0AB2-4826-9956-83630957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165D-921E-4A31-8F86-4673619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7D36-E0D4-443F-A75E-6E4D279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609C-223A-46EA-A216-F68AB60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B159-C423-4A74-A320-8697C37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0555-2B61-424E-B77F-16661086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D6C1-4A51-4CB8-B9DB-0D26313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0A4C-7173-498E-995F-C8B231EC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64B4-40D1-4269-93AA-A3BA8E30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381B-EC2E-4EE6-AD88-254F06F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442-C1E2-4054-A806-8A7FCC5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C237-4D80-433A-8F28-3B94E766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F97D-42D9-44EE-A5B9-B87DCE5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C0ED-72EF-4F15-B4F0-A41B1CA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07F6-6DDD-426B-9D16-0E69888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A8751-C100-4ED5-AA1E-BC19A0C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A05E-0B6D-4EC9-AEFC-3D0AF30E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A31F-B565-4271-ABFE-03DAE38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501A-A900-40DE-87CF-AFA17E0B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76058-84F4-47CE-8EA3-C4249DF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FFB-6911-4C35-9271-8760197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24A-6774-40C1-94C9-7CE8344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35A-E8BC-4FC8-B926-A6999F04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CFA-B579-4074-ABE6-012BF48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729-AF0A-4F7A-B231-6947E77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"/>
          <p:cNvGrpSpPr/>
          <p:nvPr/>
        </p:nvGrpSpPr>
        <p:grpSpPr>
          <a:xfrm>
            <a:off x="0" y="-6480"/>
            <a:ext cx="9145440" cy="5151600"/>
            <a:chOff x="0" y="-6480"/>
            <a:chExt cx="9145440" cy="5151600"/>
          </a:xfrm>
        </p:grpSpPr>
        <p:pic>
          <p:nvPicPr>
            <p:cNvPr id="1" name="Picture 2" descr="G:\壁纸\2.png"/>
            <p:cNvPicPr/>
            <p:nvPr/>
          </p:nvPicPr>
          <p:blipFill>
            <a:blip r:embed="rId3"/>
            <a:stretch/>
          </p:blipFill>
          <p:spPr>
            <a:xfrm>
              <a:off x="0" y="-6480"/>
              <a:ext cx="9145440" cy="515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组合 3"/>
            <p:cNvGrpSpPr/>
            <p:nvPr/>
          </p:nvGrpSpPr>
          <p:grpSpPr>
            <a:xfrm>
              <a:off x="1295280" y="3907080"/>
              <a:ext cx="7696080" cy="792000"/>
              <a:chOff x="1295280" y="3907080"/>
              <a:chExt cx="7696080" cy="792000"/>
            </a:xfrm>
          </p:grpSpPr>
          <p:sp>
            <p:nvSpPr>
              <p:cNvPr id="3" name="TextBox 4"/>
              <p:cNvSpPr/>
              <p:nvPr/>
            </p:nvSpPr>
            <p:spPr>
              <a:xfrm>
                <a:off x="6705360" y="3907080"/>
                <a:ext cx="22860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TextBox 5"/>
              <p:cNvSpPr/>
              <p:nvPr/>
            </p:nvSpPr>
            <p:spPr>
              <a:xfrm>
                <a:off x="1295280" y="4097520"/>
                <a:ext cx="53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華康流風體"/>
                    <a:ea typeface="華康流風體"/>
                  </a:rPr>
                  <a:t>青衣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矩形 6"/>
          <p:cNvSpPr/>
          <p:nvPr/>
        </p:nvSpPr>
        <p:spPr>
          <a:xfrm>
            <a:off x="468360" y="195120"/>
            <a:ext cx="8280360" cy="439272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4302-2A75-4338-AD52-D361B74B2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"/>
          <p:cNvGrpSpPr/>
          <p:nvPr/>
        </p:nvGrpSpPr>
        <p:grpSpPr>
          <a:xfrm>
            <a:off x="0" y="-3240"/>
            <a:ext cx="9145440" cy="5148360"/>
            <a:chOff x="0" y="-3240"/>
            <a:chExt cx="9145440" cy="5148360"/>
          </a:xfrm>
        </p:grpSpPr>
        <p:pic>
          <p:nvPicPr>
            <p:cNvPr id="48" name="Picture 2" descr="G:\壁纸\2.png"/>
            <p:cNvPicPr/>
            <p:nvPr/>
          </p:nvPicPr>
          <p:blipFill>
            <a:blip r:embed="rId3"/>
            <a:stretch/>
          </p:blipFill>
          <p:spPr>
            <a:xfrm>
              <a:off x="0" y="-3240"/>
              <a:ext cx="9145440" cy="514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组合 3"/>
            <p:cNvGrpSpPr/>
            <p:nvPr/>
          </p:nvGrpSpPr>
          <p:grpSpPr>
            <a:xfrm>
              <a:off x="1295280" y="3907800"/>
              <a:ext cx="7696080" cy="791280"/>
              <a:chOff x="1295280" y="3907800"/>
              <a:chExt cx="7696080" cy="791280"/>
            </a:xfrm>
          </p:grpSpPr>
          <p:sp>
            <p:nvSpPr>
              <p:cNvPr id="50" name="TextBox 4"/>
              <p:cNvSpPr/>
              <p:nvPr/>
            </p:nvSpPr>
            <p:spPr>
              <a:xfrm>
                <a:off x="6705360" y="3907800"/>
                <a:ext cx="22860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Box 5"/>
              <p:cNvSpPr/>
              <p:nvPr/>
            </p:nvSpPr>
            <p:spPr>
              <a:xfrm>
                <a:off x="1295280" y="4097880"/>
                <a:ext cx="53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華康流風體"/>
                    <a:ea typeface="華康流風體"/>
                  </a:rPr>
                  <a:t>青衣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矩形 6"/>
          <p:cNvSpPr/>
          <p:nvPr/>
        </p:nvSpPr>
        <p:spPr>
          <a:xfrm>
            <a:off x="468360" y="195120"/>
            <a:ext cx="8280360" cy="439272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0EBD-4952-44E3-9359-4B4CAC1A8A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"/>
          <p:cNvGrpSpPr/>
          <p:nvPr/>
        </p:nvGrpSpPr>
        <p:grpSpPr>
          <a:xfrm>
            <a:off x="0" y="-6480"/>
            <a:ext cx="9145440" cy="5151600"/>
            <a:chOff x="0" y="-6480"/>
            <a:chExt cx="9145440" cy="5151600"/>
          </a:xfrm>
        </p:grpSpPr>
        <p:pic>
          <p:nvPicPr>
            <p:cNvPr id="95" name="Picture 2" descr="G:\壁纸\2.png"/>
            <p:cNvPicPr/>
            <p:nvPr/>
          </p:nvPicPr>
          <p:blipFill>
            <a:blip r:embed="rId3"/>
            <a:stretch/>
          </p:blipFill>
          <p:spPr>
            <a:xfrm>
              <a:off x="0" y="-6480"/>
              <a:ext cx="9145440" cy="515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3"/>
            <p:cNvGrpSpPr/>
            <p:nvPr/>
          </p:nvGrpSpPr>
          <p:grpSpPr>
            <a:xfrm>
              <a:off x="1295280" y="3907080"/>
              <a:ext cx="7696080" cy="792000"/>
              <a:chOff x="1295280" y="3907080"/>
              <a:chExt cx="7696080" cy="792000"/>
            </a:xfrm>
          </p:grpSpPr>
          <p:sp>
            <p:nvSpPr>
              <p:cNvPr id="97" name="TextBox 4"/>
              <p:cNvSpPr/>
              <p:nvPr/>
            </p:nvSpPr>
            <p:spPr>
              <a:xfrm>
                <a:off x="6705360" y="3907080"/>
                <a:ext cx="22860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5"/>
              <p:cNvSpPr/>
              <p:nvPr/>
            </p:nvSpPr>
            <p:spPr>
              <a:xfrm>
                <a:off x="1295280" y="4097520"/>
                <a:ext cx="53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華康流風體"/>
                    <a:ea typeface="華康流風體"/>
                  </a:rPr>
                  <a:t>青衣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E0A-E920-4F2C-91D9-9367B331E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"/>
          <p:cNvGrpSpPr/>
          <p:nvPr/>
        </p:nvGrpSpPr>
        <p:grpSpPr>
          <a:xfrm>
            <a:off x="0" y="-3240"/>
            <a:ext cx="9145440" cy="5148360"/>
            <a:chOff x="0" y="-3240"/>
            <a:chExt cx="9145440" cy="5148360"/>
          </a:xfrm>
        </p:grpSpPr>
        <p:pic>
          <p:nvPicPr>
            <p:cNvPr id="141" name="Picture 2" descr="G:\壁纸\2.png"/>
            <p:cNvPicPr/>
            <p:nvPr/>
          </p:nvPicPr>
          <p:blipFill>
            <a:blip r:embed="rId3"/>
            <a:stretch/>
          </p:blipFill>
          <p:spPr>
            <a:xfrm>
              <a:off x="0" y="-3240"/>
              <a:ext cx="9145440" cy="514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3"/>
            <p:cNvGrpSpPr/>
            <p:nvPr/>
          </p:nvGrpSpPr>
          <p:grpSpPr>
            <a:xfrm>
              <a:off x="1295280" y="3907800"/>
              <a:ext cx="7696080" cy="791280"/>
              <a:chOff x="1295280" y="3907800"/>
              <a:chExt cx="7696080" cy="791280"/>
            </a:xfrm>
          </p:grpSpPr>
          <p:sp>
            <p:nvSpPr>
              <p:cNvPr id="143" name="TextBox 4"/>
              <p:cNvSpPr/>
              <p:nvPr/>
            </p:nvSpPr>
            <p:spPr>
              <a:xfrm>
                <a:off x="6705360" y="3907800"/>
                <a:ext cx="22860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5"/>
              <p:cNvSpPr/>
              <p:nvPr/>
            </p:nvSpPr>
            <p:spPr>
              <a:xfrm>
                <a:off x="1295280" y="4097880"/>
                <a:ext cx="53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華康流風體"/>
                    <a:ea typeface="華康流風體"/>
                  </a:rPr>
                  <a:t>青衣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B14-5DD8-4543-A20B-5F946F4D79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699840"/>
            <a:ext cx="770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omic Sans MS"/>
                <a:ea typeface="隶书"/>
              </a:rPr>
              <a:t>Lesson 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  <a:ea typeface="隶书"/>
              </a:rPr>
              <a:t>6</a:t>
            </a:r>
            <a:r>
              <a:rPr b="1" lang="en-US" sz="4000" spc="-1" strike="noStrike">
                <a:solidFill>
                  <a:srgbClr val="009999"/>
                </a:solidFill>
                <a:latin typeface="Bookman Old Style"/>
                <a:ea typeface="隶书"/>
              </a:rPr>
              <a:t>   </a:t>
            </a:r>
            <a:r>
              <a:rPr b="1" lang="en-US" sz="4400" spc="-1" strike="noStrike">
                <a:solidFill>
                  <a:srgbClr val="009999"/>
                </a:solidFill>
                <a:latin typeface="Comic Sans MS"/>
                <a:ea typeface="隶书"/>
              </a:rPr>
              <a:t>Can I Help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19" name="图片 3" descr="067"/>
          <p:cNvPicPr/>
          <p:nvPr/>
        </p:nvPicPr>
        <p:blipFill>
          <a:blip r:embed="rId1"/>
          <a:stretch/>
        </p:blipFill>
        <p:spPr>
          <a:xfrm>
            <a:off x="0" y="0"/>
            <a:ext cx="912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22" name="图片 3" descr="068"/>
          <p:cNvPicPr/>
          <p:nvPr/>
        </p:nvPicPr>
        <p:blipFill>
          <a:blip r:embed="rId1"/>
          <a:stretch/>
        </p:blipFill>
        <p:spPr>
          <a:xfrm>
            <a:off x="0" y="0"/>
            <a:ext cx="912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25" name="图片 3" descr="069"/>
          <p:cNvPicPr/>
          <p:nvPr/>
        </p:nvPicPr>
        <p:blipFill>
          <a:blip r:embed="rId1"/>
          <a:stretch/>
        </p:blipFill>
        <p:spPr>
          <a:xfrm>
            <a:off x="0" y="0"/>
            <a:ext cx="912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27" name="图片 2" descr="060"/>
          <p:cNvPicPr/>
          <p:nvPr/>
        </p:nvPicPr>
        <p:blipFill>
          <a:blip r:embed="rId1"/>
          <a:stretch/>
        </p:blipFill>
        <p:spPr>
          <a:xfrm>
            <a:off x="0" y="843120"/>
            <a:ext cx="3203640" cy="22651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3" descr="062"/>
          <p:cNvPicPr/>
          <p:nvPr/>
        </p:nvPicPr>
        <p:blipFill>
          <a:blip r:embed="rId2"/>
          <a:stretch/>
        </p:blipFill>
        <p:spPr>
          <a:xfrm>
            <a:off x="2987640" y="843120"/>
            <a:ext cx="3166920" cy="22842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066"/>
          <p:cNvPicPr/>
          <p:nvPr/>
        </p:nvPicPr>
        <p:blipFill>
          <a:blip r:embed="rId3"/>
          <a:stretch/>
        </p:blipFill>
        <p:spPr>
          <a:xfrm>
            <a:off x="0" y="3076560"/>
            <a:ext cx="2916360" cy="20671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5" descr="068"/>
          <p:cNvPicPr/>
          <p:nvPr/>
        </p:nvPicPr>
        <p:blipFill>
          <a:blip r:embed="rId4"/>
          <a:stretch/>
        </p:blipFill>
        <p:spPr>
          <a:xfrm>
            <a:off x="2916360" y="3076560"/>
            <a:ext cx="3112920" cy="2067120"/>
          </a:xfrm>
          <a:prstGeom prst="rect">
            <a:avLst/>
          </a:prstGeom>
          <a:ln w="0">
            <a:noFill/>
          </a:ln>
        </p:spPr>
      </p:pic>
      <p:pic>
        <p:nvPicPr>
          <p:cNvPr id="231" name="标题 6" descr="064"/>
          <p:cNvPicPr/>
          <p:nvPr/>
        </p:nvPicPr>
        <p:blipFill>
          <a:blip r:embed="rId5"/>
          <a:stretch/>
        </p:blipFill>
        <p:spPr>
          <a:xfrm>
            <a:off x="6012000" y="843120"/>
            <a:ext cx="3132000" cy="22413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7" descr="069"/>
          <p:cNvPicPr/>
          <p:nvPr/>
        </p:nvPicPr>
        <p:blipFill>
          <a:blip r:embed="rId6"/>
          <a:stretch/>
        </p:blipFill>
        <p:spPr>
          <a:xfrm>
            <a:off x="5759280" y="3076560"/>
            <a:ext cx="3384720" cy="20671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8"/>
          <p:cNvSpPr/>
          <p:nvPr/>
        </p:nvSpPr>
        <p:spPr>
          <a:xfrm>
            <a:off x="395280" y="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1979640" y="2682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o helps the rabb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Bookman Old Style"/>
                <a:ea typeface="隶书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268360" y="1851120"/>
            <a:ext cx="65548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Tell the story to your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" descr="853"/>
          <p:cNvPicPr/>
          <p:nvPr/>
        </p:nvPicPr>
        <p:blipFill>
          <a:blip r:embed="rId1"/>
          <a:stretch/>
        </p:blipFill>
        <p:spPr>
          <a:xfrm>
            <a:off x="0" y="0"/>
            <a:ext cx="3059280" cy="24271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4" descr="201776-12062Q3331221"/>
          <p:cNvPicPr/>
          <p:nvPr/>
        </p:nvPicPr>
        <p:blipFill>
          <a:blip r:embed="rId2"/>
          <a:stretch/>
        </p:blipFill>
        <p:spPr>
          <a:xfrm>
            <a:off x="3059280" y="0"/>
            <a:ext cx="2973240" cy="24271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2014099_225133282237_2"/>
          <p:cNvPicPr/>
          <p:nvPr/>
        </p:nvPicPr>
        <p:blipFill>
          <a:blip r:embed="rId3"/>
          <a:stretch/>
        </p:blipFill>
        <p:spPr>
          <a:xfrm>
            <a:off x="6014880" y="0"/>
            <a:ext cx="3129120" cy="2427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6" descr="6608733_091831384000_2"/>
          <p:cNvPicPr/>
          <p:nvPr/>
        </p:nvPicPr>
        <p:blipFill>
          <a:blip r:embed="rId4"/>
          <a:stretch/>
        </p:blipFill>
        <p:spPr>
          <a:xfrm>
            <a:off x="0" y="242712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cb8065380cd79123bfade12caf345982b2b7801c"/>
          <p:cNvPicPr/>
          <p:nvPr/>
        </p:nvPicPr>
        <p:blipFill>
          <a:blip r:embed="rId5"/>
          <a:stretch/>
        </p:blipFill>
        <p:spPr>
          <a:xfrm>
            <a:off x="3059280" y="2427120"/>
            <a:ext cx="3097080" cy="2352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8" descr="u=4267665863,3643989062&amp;fm=21&amp;gp=0"/>
          <p:cNvPicPr/>
          <p:nvPr/>
        </p:nvPicPr>
        <p:blipFill>
          <a:blip r:embed="rId6"/>
          <a:stretch/>
        </p:blipFill>
        <p:spPr>
          <a:xfrm>
            <a:off x="6084720" y="2427120"/>
            <a:ext cx="30592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198" name="图片 3" descr="060"/>
          <p:cNvPicPr/>
          <p:nvPr/>
        </p:nvPicPr>
        <p:blipFill>
          <a:blip r:embed="rId1"/>
          <a:stretch/>
        </p:blipFill>
        <p:spPr>
          <a:xfrm>
            <a:off x="0" y="0"/>
            <a:ext cx="912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01" name="图片 3" descr="061"/>
          <p:cNvPicPr/>
          <p:nvPr/>
        </p:nvPicPr>
        <p:blipFill>
          <a:blip r:embed="rId1"/>
          <a:stretch/>
        </p:blipFill>
        <p:spPr>
          <a:xfrm>
            <a:off x="0" y="-19080"/>
            <a:ext cx="9126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04" name="图片 3" descr="062"/>
          <p:cNvPicPr/>
          <p:nvPr/>
        </p:nvPicPr>
        <p:blipFill>
          <a:blip r:embed="rId1"/>
          <a:stretch/>
        </p:blipFill>
        <p:spPr>
          <a:xfrm>
            <a:off x="0" y="-19080"/>
            <a:ext cx="9126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07" name="图片 3" descr="063"/>
          <p:cNvPicPr/>
          <p:nvPr/>
        </p:nvPicPr>
        <p:blipFill>
          <a:blip r:embed="rId1"/>
          <a:stretch/>
        </p:blipFill>
        <p:spPr>
          <a:xfrm>
            <a:off x="0" y="-19080"/>
            <a:ext cx="9126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10" name="图片 3" descr="06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13" name="图片 3" descr="065"/>
          <p:cNvPicPr/>
          <p:nvPr/>
        </p:nvPicPr>
        <p:blipFill>
          <a:blip r:embed="rId1"/>
          <a:stretch/>
        </p:blipFill>
        <p:spPr>
          <a:xfrm>
            <a:off x="0" y="-19080"/>
            <a:ext cx="9126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13080" y="185256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33cc"/>
              </a:solidFill>
              <a:latin typeface="Bookman Old Style"/>
              <a:ea typeface="隶书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pic>
        <p:nvPicPr>
          <p:cNvPr id="216" name="图片 3" descr="066"/>
          <p:cNvPicPr/>
          <p:nvPr/>
        </p:nvPicPr>
        <p:blipFill>
          <a:blip r:embed="rId1"/>
          <a:stretch/>
        </p:blipFill>
        <p:spPr>
          <a:xfrm>
            <a:off x="0" y="-19080"/>
            <a:ext cx="9126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>acer1</cp:lastModifiedBy>
  <dcterms:modified xsi:type="dcterms:W3CDTF">2015-10-14T09:26:17Z</dcterms:modified>
  <cp:revision>22</cp:revision>
  <dc:subject/>
  <dc:title>Lesson 7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