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24.jpeg" ContentType="image/jpeg"/>
  <Override PartName="/ppt/media/image22.png" ContentType="image/png"/>
  <Override PartName="/ppt/media/image21.png" ContentType="image/png"/>
  <Override PartName="/ppt/media/image29.png" ContentType="image/png"/>
  <Override PartName="/ppt/media/image6.png" ContentType="image/png"/>
  <Override PartName="/ppt/media/image18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9.jpeg" ContentType="image/jpeg"/>
  <Override PartName="/ppt/media/image11.jpeg" ContentType="image/jpeg"/>
  <Override PartName="/ppt/media/image31.jpeg" ContentType="image/jpeg"/>
  <Override PartName="/ppt/media/image32.png" ContentType="image/png"/>
  <Override PartName="/ppt/media/image1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9B20-5ADE-4A8C-9A1B-59D1AA90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DEF3-4DDB-43B4-B2F0-D4D4BF77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BABA-2552-4A36-8ABD-8CA33208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AEA9-5A3F-441C-965D-188000584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4CAE-BE65-4741-9FA7-CE375FAEC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917D-2F50-4DA4-8336-40B6A3F4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8E96-59F7-4DF7-A7F4-52C3CFA6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8D16-8090-4E37-95D3-925C4CAA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EAE6-1EF2-4919-9F27-F0EA5FB2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D416-54E9-402E-813E-A5E756ED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A072-4FB3-4629-8F22-21EC0B85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7679-6624-478F-AE92-F19093E1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8D34-EF5F-40BB-ACAD-430A0107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92AC-B149-4346-A933-95AC9F7C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2FBE-1934-470C-9B18-C2654EB8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0A1A-6BF6-464D-AD36-96B8A09F2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D136-9D94-48A3-B9FF-723FC4228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7E6C-4CE7-46F4-BE36-EBC86F71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83B4-0858-46C9-9993-C2A48077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74D7-54DB-401A-8A7E-4350E45B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3DDE-6132-4CDE-AA35-0617F02A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37F1-FFBD-41B3-966A-86E7394F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C220-8267-4B62-B279-76D08993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48D4-D9E2-4497-AADB-32CF355D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A9A1-9640-4936-8724-3BC0425DD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c0c0">
              <a:alpha val="43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9B55-C6C0-4001-B303-B62359C958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jpe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image" Target="../media/image12.jpeg"/><Relationship Id="rId12" Type="http://schemas.openxmlformats.org/officeDocument/2006/relationships/image" Target="../media/image34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Lesson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54280" y="2362320"/>
            <a:ext cx="54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Tigers and Bea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6"/>
          <p:cNvSpPr/>
          <p:nvPr/>
        </p:nvSpPr>
        <p:spPr>
          <a:xfrm>
            <a:off x="4496400" y="5105520"/>
            <a:ext cx="363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snak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234741~1"/>
          <p:cNvPicPr/>
          <p:nvPr/>
        </p:nvPicPr>
        <p:blipFill>
          <a:blip r:embed="rId2"/>
          <a:stretch/>
        </p:blipFill>
        <p:spPr>
          <a:xfrm>
            <a:off x="0" y="0"/>
            <a:ext cx="6019920" cy="454500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10"/>
          <p:cNvSpPr/>
          <p:nvPr/>
        </p:nvSpPr>
        <p:spPr>
          <a:xfrm>
            <a:off x="762120" y="1066680"/>
            <a:ext cx="4724280" cy="35816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380880" y="457200"/>
            <a:ext cx="4496040" cy="3962520"/>
          </a:xfrm>
          <a:custGeom>
            <a:avLst/>
            <a:gdLst>
              <a:gd name="textAreaLeft" fmla="*/ 0 w 4496040"/>
              <a:gd name="textAreaRight" fmla="*/ 4496400 w 4496040"/>
              <a:gd name="textAreaTop" fmla="*/ 513360 h 3962520"/>
              <a:gd name="textAreaBottom" fmla="*/ 344916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2"/>
          <p:cNvSpPr/>
          <p:nvPr/>
        </p:nvSpPr>
        <p:spPr>
          <a:xfrm>
            <a:off x="228600" y="0"/>
            <a:ext cx="4114800" cy="4876920"/>
          </a:xfrm>
          <a:custGeom>
            <a:avLst/>
            <a:gdLst>
              <a:gd name="textAreaLeft" fmla="*/ 0 w 4114800"/>
              <a:gd name="textAreaRight" fmla="*/ 4115160 w 4114800"/>
              <a:gd name="textAreaTop" fmla="*/ 632160 h 4876920"/>
              <a:gd name="textAreaBottom" fmla="*/ 4244760 h 4876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9" descr="234741~1"/>
          <p:cNvPicPr/>
          <p:nvPr/>
        </p:nvPicPr>
        <p:blipFill>
          <a:blip r:embed="rId2"/>
          <a:stretch/>
        </p:blipFill>
        <p:spPr>
          <a:xfrm>
            <a:off x="0" y="0"/>
            <a:ext cx="5334120" cy="40273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-228600" y="4495680"/>
            <a:ext cx="4952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 at the bea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’s th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s tail is lo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4419720" y="4303800"/>
            <a:ext cx="4952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 at the cat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’s f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s tail is lo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867280" y="1523880"/>
            <a:ext cx="2857680" cy="2381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905120" y="2514600"/>
            <a:ext cx="2895480" cy="1600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438280"/>
            <a:ext cx="1067040" cy="609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pic_162691"/>
          <p:cNvPicPr/>
          <p:nvPr/>
        </p:nvPicPr>
        <p:blipFill>
          <a:blip r:embed="rId2"/>
          <a:stretch/>
        </p:blipFill>
        <p:spPr>
          <a:xfrm>
            <a:off x="533520" y="0"/>
            <a:ext cx="3960720" cy="489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pic_162685"/>
          <p:cNvPicPr/>
          <p:nvPr/>
        </p:nvPicPr>
        <p:blipFill>
          <a:blip r:embed="rId3"/>
          <a:stretch/>
        </p:blipFill>
        <p:spPr>
          <a:xfrm>
            <a:off x="4967280" y="0"/>
            <a:ext cx="4176720" cy="49150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9"/>
          <p:cNvSpPr/>
          <p:nvPr/>
        </p:nvSpPr>
        <p:spPr>
          <a:xfrm>
            <a:off x="0" y="5105520"/>
            <a:ext cx="4648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t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os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s ____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4648320" y="5181480"/>
            <a:ext cx="449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ts nose is ____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3240" y="5791320"/>
            <a:ext cx="163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lo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4727160" y="5867280"/>
            <a:ext cx="18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sh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219320"/>
            <a:ext cx="1371600" cy="99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91320" y="914400"/>
            <a:ext cx="914400" cy="7621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鸟5"/>
          <p:cNvPicPr/>
          <p:nvPr/>
        </p:nvPicPr>
        <p:blipFill>
          <a:blip r:embed="rId2"/>
          <a:stretch/>
        </p:blipFill>
        <p:spPr>
          <a:xfrm>
            <a:off x="990720" y="609480"/>
            <a:ext cx="2927160" cy="3200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鸟2"/>
          <p:cNvPicPr/>
          <p:nvPr/>
        </p:nvPicPr>
        <p:blipFill>
          <a:blip r:embed="rId3"/>
          <a:stretch/>
        </p:blipFill>
        <p:spPr>
          <a:xfrm>
            <a:off x="5181480" y="914400"/>
            <a:ext cx="2698920" cy="2444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838080" y="762120"/>
            <a:ext cx="38124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81480" y="1676520"/>
            <a:ext cx="99072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-152280" y="4038480"/>
            <a:ext cx="4572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s is a bi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s mouth is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m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9880" y="4114800"/>
            <a:ext cx="579132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s is a purple bi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s mouth is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i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71800" y="56386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96080" y="56386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684360" y="981000"/>
            <a:ext cx="6870600" cy="360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3"/>
          <a:stretch/>
        </p:blipFill>
        <p:spPr>
          <a:xfrm>
            <a:off x="755640" y="2349360"/>
            <a:ext cx="3506760" cy="432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"/>
          <p:cNvPicPr/>
          <p:nvPr/>
        </p:nvPicPr>
        <p:blipFill>
          <a:blip r:embed="rId4"/>
          <a:stretch/>
        </p:blipFill>
        <p:spPr>
          <a:xfrm>
            <a:off x="755640" y="4005360"/>
            <a:ext cx="3352680" cy="371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5"/>
          <a:stretch/>
        </p:blipFill>
        <p:spPr>
          <a:xfrm>
            <a:off x="684360" y="5516640"/>
            <a:ext cx="4991040" cy="3715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826920" y="189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l in the blanks with 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o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 or 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or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692360" y="155736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pencil is 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1692360" y="299736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pencil is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1523880" y="46483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ruler is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1619280" y="602136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ruler is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4648320" y="152388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l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4267080" y="59436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l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4572000" y="29718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sh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4038480" y="4572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sh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838080" y="99072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Guess: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71600" y="2438280"/>
            <a:ext cx="6477120" cy="15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What animal is it 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104760"/>
            <a:ext cx="8991720" cy="6219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8001000" cy="5999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8381880" cy="6096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1905120" y="4952880"/>
            <a:ext cx="961920" cy="16574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3"/>
          <a:stretch/>
        </p:blipFill>
        <p:spPr>
          <a:xfrm>
            <a:off x="4191120" y="2666880"/>
            <a:ext cx="1028520" cy="1505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4"/>
          <a:stretch/>
        </p:blipFill>
        <p:spPr>
          <a:xfrm>
            <a:off x="2819520" y="4667400"/>
            <a:ext cx="2735280" cy="21906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"/>
          <p:cNvPicPr/>
          <p:nvPr/>
        </p:nvPicPr>
        <p:blipFill>
          <a:blip r:embed="rId5"/>
          <a:stretch/>
        </p:blipFill>
        <p:spPr>
          <a:xfrm>
            <a:off x="0" y="762120"/>
            <a:ext cx="2209680" cy="20509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4"/>
          <p:cNvSpPr/>
          <p:nvPr/>
        </p:nvSpPr>
        <p:spPr>
          <a:xfrm>
            <a:off x="1006560" y="0"/>
            <a:ext cx="813744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3300"/>
                </a:solidFill>
                <a:latin typeface="Arial"/>
              </a:rPr>
              <a:t>Talk about your favourite animal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                            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----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说说你喜欢的小动物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8" descr="234741~1"/>
          <p:cNvPicPr/>
          <p:nvPr/>
        </p:nvPicPr>
        <p:blipFill>
          <a:blip r:embed="rId6"/>
          <a:stretch/>
        </p:blipFill>
        <p:spPr>
          <a:xfrm>
            <a:off x="3657600" y="762120"/>
            <a:ext cx="1676520" cy="1265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8" descr="T014B7~1"/>
          <p:cNvPicPr/>
          <p:nvPr/>
        </p:nvPicPr>
        <p:blipFill>
          <a:blip r:embed="rId7"/>
          <a:stretch/>
        </p:blipFill>
        <p:spPr>
          <a:xfrm>
            <a:off x="0" y="2819520"/>
            <a:ext cx="2305080" cy="20574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4359240" y="4608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/>
          <a:stretch/>
        </p:blipFill>
        <p:spPr>
          <a:xfrm>
            <a:off x="4359240" y="4608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0"/>
          <a:stretch/>
        </p:blipFill>
        <p:spPr>
          <a:xfrm>
            <a:off x="4359240" y="4608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flipV="1">
            <a:off x="7848720" y="1600200"/>
            <a:ext cx="83808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35812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like the _____(tiger elephant rabbit panda monkey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 at the ____ (tiger elephant  rabbit panda monkey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’s ____(big small fat thin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s ___(nose tail mouth ears eyes) is ___(big small long sh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p"/>
          <p:cNvPicPr/>
          <p:nvPr/>
        </p:nvPicPr>
        <p:blipFill>
          <a:blip r:embed="rId11"/>
          <a:stretch/>
        </p:blipFill>
        <p:spPr>
          <a:xfrm>
            <a:off x="2438280" y="2514600"/>
            <a:ext cx="1406520" cy="18288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2"/>
          <a:stretch/>
        </p:blipFill>
        <p:spPr>
          <a:xfrm>
            <a:off x="0" y="4944960"/>
            <a:ext cx="1981080" cy="1913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鸟2"/>
          <p:cNvPicPr/>
          <p:nvPr/>
        </p:nvPicPr>
        <p:blipFill>
          <a:blip r:embed="rId13"/>
          <a:stretch/>
        </p:blipFill>
        <p:spPr>
          <a:xfrm>
            <a:off x="2209680" y="1219320"/>
            <a:ext cx="1295640" cy="1172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c0c0">
              <a:alpha val="43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8" name="WordArt 5"/>
          <p:cNvSpPr txBox="1"/>
          <p:nvPr/>
        </p:nvSpPr>
        <p:spPr>
          <a:xfrm>
            <a:off x="2843280" y="1557360"/>
            <a:ext cx="31813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917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Let's go to the Z00!</a:t>
            </a:r>
            <a:endParaRPr b="1" i="1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 flipH="1" flipV="1">
            <a:off x="2666160" y="1077120"/>
            <a:ext cx="2127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2058480" y="1066680"/>
            <a:ext cx="624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ff"/>
                </a:solidFill>
                <a:latin typeface="Times New Roman"/>
              </a:rPr>
              <a:t>Thank you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ff"/>
                </a:solidFill>
                <a:latin typeface="Times New Roman"/>
              </a:rPr>
              <a:t>Good By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743200" y="2133720"/>
            <a:ext cx="4535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very bi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the king of the forest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likes to eat me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4498920" cy="6308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6308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609480" y="53352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Guess</a:t>
            </a:r>
            <a:r>
              <a:rPr b="1" lang="zh-CN" sz="2800" spc="-1" strike="noStrike">
                <a:solidFill>
                  <a:srgbClr val="cc3300"/>
                </a:solidFill>
                <a:latin typeface="Verdan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0">
            <a:hlinkClick r:id="rId4"/>
          </p:cNvPr>
          <p:cNvSpPr/>
          <p:nvPr/>
        </p:nvSpPr>
        <p:spPr>
          <a:xfrm>
            <a:off x="5715000" y="91440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8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8" y="20200"/>
                </a:lnTo>
                <a:lnTo>
                  <a:pt x="31978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8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8" h="21600">
                <a:moveTo>
                  <a:pt x="9683" y="8406"/>
                </a:moveTo>
                <a:lnTo>
                  <a:pt x="14113" y="8406"/>
                </a:lnTo>
                <a:lnTo>
                  <a:pt x="18534" y="3794"/>
                </a:lnTo>
                <a:lnTo>
                  <a:pt x="18534" y="17806"/>
                </a:lnTo>
                <a:lnTo>
                  <a:pt x="14113" y="13194"/>
                </a:lnTo>
                <a:lnTo>
                  <a:pt x="9683" y="13194"/>
                </a:lnTo>
                <a:close/>
              </a:path>
              <a:path fill="darken" w="33378" h="21600">
                <a:moveTo>
                  <a:pt x="20188" y="10800"/>
                </a:moveTo>
                <a:lnTo>
                  <a:pt x="23696" y="10800"/>
                </a:lnTo>
              </a:path>
              <a:path fill="darken" w="33378" h="21600">
                <a:moveTo>
                  <a:pt x="20188" y="8406"/>
                </a:moveTo>
                <a:lnTo>
                  <a:pt x="23696" y="5639"/>
                </a:lnTo>
              </a:path>
              <a:path fill="darken" w="33378" h="21600">
                <a:moveTo>
                  <a:pt x="20188" y="13194"/>
                </a:moveTo>
                <a:lnTo>
                  <a:pt x="23696" y="1596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" dur="1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6"/>
          <p:cNvSpPr/>
          <p:nvPr/>
        </p:nvSpPr>
        <p:spPr>
          <a:xfrm>
            <a:off x="2362320" y="5257800"/>
            <a:ext cx="396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tig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http://imgt3.bdstatic.com/it/u=720433474,2807135&amp;fm=21&amp;gp=0.jpg"/>
          <p:cNvPicPr/>
          <p:nvPr/>
        </p:nvPicPr>
        <p:blipFill>
          <a:blip r:embed="rId2"/>
          <a:stretch/>
        </p:blipFill>
        <p:spPr>
          <a:xfrm>
            <a:off x="0" y="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1" descr="http://imgt3.bdstatic.com/it/u=720433474,2807135&amp;fm=21&amp;gp=0.jpg"/>
          <p:cNvPicPr/>
          <p:nvPr/>
        </p:nvPicPr>
        <p:blipFill>
          <a:blip r:embed="rId2"/>
          <a:stretch/>
        </p:blipFill>
        <p:spPr>
          <a:xfrm>
            <a:off x="0" y="0"/>
            <a:ext cx="6323040" cy="4419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http://imgt3.bdstatic.com/it/u=720433474,2807135&amp;fm=21&amp;gp=0.jpg"/>
          <p:cNvPicPr/>
          <p:nvPr/>
        </p:nvPicPr>
        <p:blipFill>
          <a:blip r:embed="rId3"/>
          <a:stretch/>
        </p:blipFill>
        <p:spPr>
          <a:xfrm>
            <a:off x="0" y="228600"/>
            <a:ext cx="5334120" cy="4572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0" y="4572000"/>
            <a:ext cx="4952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 at the tig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’s b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s  tail is lo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http://imgt1.bdstatic.com/it/u=3089616447,2088596690&amp;fm=21&amp;gp=0.jpg"/>
          <p:cNvPicPr/>
          <p:nvPr/>
        </p:nvPicPr>
        <p:blipFill>
          <a:blip r:embed="rId4"/>
          <a:stretch/>
        </p:blipFill>
        <p:spPr>
          <a:xfrm>
            <a:off x="6248520" y="1828800"/>
            <a:ext cx="2590560" cy="2133720"/>
          </a:xfrm>
          <a:prstGeom prst="rect">
            <a:avLst/>
          </a:prstGeom>
          <a:ln w="0">
            <a:noFill/>
          </a:ln>
        </p:spPr>
      </p:pic>
      <p:sp>
        <p:nvSpPr>
          <p:cNvPr id="100" name="矩形 8"/>
          <p:cNvSpPr/>
          <p:nvPr/>
        </p:nvSpPr>
        <p:spPr>
          <a:xfrm>
            <a:off x="5029200" y="464832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 at the pi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’s sm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s  tail is sh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2514600"/>
            <a:ext cx="1295640" cy="12193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29600" y="2819520"/>
            <a:ext cx="53352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58168417ba5bf56f21a4e9eb"/>
          <p:cNvPicPr/>
          <p:nvPr/>
        </p:nvPicPr>
        <p:blipFill>
          <a:blip r:embed="rId2"/>
          <a:stretch/>
        </p:blipFill>
        <p:spPr>
          <a:xfrm>
            <a:off x="0" y="0"/>
            <a:ext cx="5562720" cy="45705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5945040" y="2666880"/>
            <a:ext cx="261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wolf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">
            <a:hlinkClick r:id="rId3"/>
          </p:cNvPr>
          <p:cNvSpPr/>
          <p:nvPr/>
        </p:nvSpPr>
        <p:spPr>
          <a:xfrm>
            <a:off x="6553080" y="579132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8406"/>
                </a:moveTo>
                <a:lnTo>
                  <a:pt x="25500" y="8406"/>
                </a:lnTo>
                <a:lnTo>
                  <a:pt x="29921" y="3794"/>
                </a:lnTo>
                <a:lnTo>
                  <a:pt x="29921" y="17806"/>
                </a:lnTo>
                <a:lnTo>
                  <a:pt x="25500" y="13194"/>
                </a:lnTo>
                <a:lnTo>
                  <a:pt x="21069" y="13194"/>
                </a:lnTo>
                <a:close/>
              </a:path>
              <a:path fill="darken" w="56152" h="21600">
                <a:moveTo>
                  <a:pt x="31575" y="10800"/>
                </a:moveTo>
                <a:lnTo>
                  <a:pt x="35082" y="10800"/>
                </a:lnTo>
              </a:path>
              <a:path fill="darken" w="56152" h="21600">
                <a:moveTo>
                  <a:pt x="31575" y="8406"/>
                </a:moveTo>
                <a:lnTo>
                  <a:pt x="35082" y="5639"/>
                </a:lnTo>
              </a:path>
              <a:path fill="darken" w="56152" h="21600">
                <a:moveTo>
                  <a:pt x="31575" y="13194"/>
                </a:moveTo>
                <a:lnTo>
                  <a:pt x="35082" y="15961"/>
                </a:lnTo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58168417ba5bf56f21a4e9eb"/>
          <p:cNvPicPr/>
          <p:nvPr/>
        </p:nvPicPr>
        <p:blipFill>
          <a:blip r:embed="rId2"/>
          <a:stretch/>
        </p:blipFill>
        <p:spPr>
          <a:xfrm>
            <a:off x="4419720" y="0"/>
            <a:ext cx="4419360" cy="407844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4191120" y="4419720"/>
            <a:ext cx="4952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 at the wol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’s b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s  ears is sh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u=1182578779,91091939&amp;fm=0&amp;gp=0"/>
          <p:cNvPicPr/>
          <p:nvPr/>
        </p:nvPicPr>
        <p:blipFill>
          <a:blip r:embed="rId3"/>
          <a:stretch/>
        </p:blipFill>
        <p:spPr>
          <a:xfrm>
            <a:off x="533520" y="457200"/>
            <a:ext cx="2563560" cy="32655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5"/>
          <p:cNvSpPr/>
          <p:nvPr/>
        </p:nvSpPr>
        <p:spPr>
          <a:xfrm>
            <a:off x="-380880" y="4343400"/>
            <a:ext cx="4952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  at the rabb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’s sm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s  ears is lo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762120"/>
            <a:ext cx="114300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0"/>
            <a:ext cx="990360" cy="838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896e8e829c8107b7f703a645"/>
          <p:cNvPicPr/>
          <p:nvPr/>
        </p:nvPicPr>
        <p:blipFill>
          <a:blip r:embed="rId2"/>
          <a:stretch/>
        </p:blipFill>
        <p:spPr>
          <a:xfrm>
            <a:off x="0" y="0"/>
            <a:ext cx="5638680" cy="42292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5867280" y="1295280"/>
            <a:ext cx="161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4495680" y="502920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be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457200" y="762120"/>
            <a:ext cx="3276720" cy="1600200"/>
          </a:xfrm>
          <a:custGeom>
            <a:avLst/>
            <a:gdLst>
              <a:gd name="textAreaLeft" fmla="*/ 0 w 3276720"/>
              <a:gd name="textAreaRight" fmla="*/ 3277080 w 3276720"/>
              <a:gd name="textAreaTop" fmla="*/ 207360 h 1600200"/>
              <a:gd name="textAreaBottom" fmla="*/ 13928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1143000" y="1219320"/>
            <a:ext cx="2666880" cy="2209680"/>
          </a:xfrm>
          <a:custGeom>
            <a:avLst/>
            <a:gdLst>
              <a:gd name="textAreaLeft" fmla="*/ 0 w 2666880"/>
              <a:gd name="textAreaRight" fmla="*/ 2666880 w 2666880"/>
              <a:gd name="textAreaTop" fmla="*/ 286200 h 2209680"/>
              <a:gd name="textAreaBottom" fmla="*/ 19234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896e8e829c8107b7f703a645"/>
          <p:cNvPicPr/>
          <p:nvPr/>
        </p:nvPicPr>
        <p:blipFill>
          <a:blip r:embed="rId2"/>
          <a:stretch/>
        </p:blipFill>
        <p:spPr>
          <a:xfrm>
            <a:off x="4038480" y="152280"/>
            <a:ext cx="5105520" cy="38293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4191120" y="4327560"/>
            <a:ext cx="4952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 at the bea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’s f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s eyes is sm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-1447920" y="4327560"/>
            <a:ext cx="632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 at the do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’s th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s eyes is b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p"/>
          <p:cNvPicPr/>
          <p:nvPr/>
        </p:nvPicPr>
        <p:blipFill>
          <a:blip r:embed="rId3"/>
          <a:stretch/>
        </p:blipFill>
        <p:spPr>
          <a:xfrm>
            <a:off x="457200" y="380880"/>
            <a:ext cx="2755800" cy="3581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600200" y="457200"/>
            <a:ext cx="7621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457200"/>
            <a:ext cx="106704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11430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0T13:33:14Z</dcterms:created>
  <dc:creator> </dc:creator>
  <dc:description> </dc:description>
  <cp:keywords/>
  <dc:language>en-US</dc:language>
  <cp:lastModifiedBy>未知用户</cp:lastModifiedBy>
  <dcterms:modified xsi:type="dcterms:W3CDTF">2014-03-19T13:21:50Z</dcterms:modified>
  <cp:revision>83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Version">
    <vt:r8>1</vt:r8>
  </property>
</Properties>
</file>