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3.jpeg" ContentType="image/jpeg"/>
  <Override PartName="/ppt/media/image24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0DF38-2C5A-45D6-A3A2-3ED0B680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6CEC-6A4B-4CB4-8F56-378095AA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8130-AE5C-4BB6-8A85-24CD2B52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0370-1042-450F-804E-BA89BDEF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3C83-0862-424C-A813-AB03EDB6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E5E8-4532-4523-84C2-D72E45A8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A203-DAB8-4A41-A88A-B4E6B99E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ECBD-083E-42B5-9F02-02DFB3CE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C03B-F65D-4598-8978-DFAC6098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3A88-FA26-478B-A3D6-F422B4BD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7BAB-D585-4E8F-A2F9-1115AEA3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71DC-A329-4255-B407-7CDAC0E7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72BA-773E-4798-9156-4CA60EF4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470E-603E-4B55-AA58-512561BA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45F8-3A86-49D8-BB83-15D4E8A2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07F7-9CF1-4268-823A-A97FF0C8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8D16-66A4-4146-B64D-E1DF45B3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F764E-2CA4-451A-A3AA-E8687B79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A3C0D-47C0-4C66-883D-FE535F7C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7CB27-05E5-43DD-ABB9-34B1DFE9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F1494-BE3F-4E05-BB4C-A212C541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6BAC6-0347-4D4C-B636-800CF907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EC180-28FB-4205-A6A4-C7BBEC59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CE393-0A3A-43B7-B77D-DA4A6E13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9E330DF-CE04-4567-B51A-9EE8E13432BE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§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§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§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150BEF5-1015-4C37-8AAF-2B0DFC08E32D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9280" y="765000"/>
            <a:ext cx="93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lesson 10  Where Do They 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45964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短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o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the far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农场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a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the zo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动物园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o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a grass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草地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i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a tre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树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o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a tre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在树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i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a river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河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i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a fores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森林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i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a hol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洞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981000"/>
            <a:ext cx="86364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628640"/>
            <a:ext cx="86364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6364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2997360"/>
            <a:ext cx="86364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3645000"/>
            <a:ext cx="86364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292640"/>
            <a:ext cx="104292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941720"/>
            <a:ext cx="97164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5661000"/>
            <a:ext cx="86364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620640"/>
            <a:ext cx="662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Where do they 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87280" y="1484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方正喵呜体"/>
              </a:rPr>
              <a:t>他们住在哪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5668920"/>
            <a:ext cx="4788000" cy="1191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In a fores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7705800" cy="764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Where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does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a  ______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ti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197000"/>
            <a:ext cx="6588000" cy="692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125360"/>
            <a:ext cx="65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do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tigers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5668920"/>
            <a:ext cx="4716360" cy="1191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On a farm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8244000" cy="825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Where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does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a  ______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宋体"/>
              </a:rPr>
              <a:t>hor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052640"/>
            <a:ext cx="7020000" cy="6919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161280" y="981000"/>
            <a:ext cx="667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do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 u="sng">
                <a:solidFill>
                  <a:srgbClr val="000099"/>
                </a:solidFill>
                <a:uFillTx/>
                <a:latin typeface="Arial"/>
                <a:ea typeface="宋体"/>
              </a:rPr>
              <a:t>horses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5668920"/>
            <a:ext cx="4067280" cy="1191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In a tre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8532720" cy="1556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Where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does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a  ______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monk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052640"/>
            <a:ext cx="7236000" cy="825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do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monkeys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5668920"/>
            <a:ext cx="5545080" cy="1191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In a fores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7308720" cy="764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Where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does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a ______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95640" y="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b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981000"/>
            <a:ext cx="5398920" cy="703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d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bears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58168417ba5bf56f21a4e9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5445000"/>
            <a:ext cx="5545080" cy="1191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In a fores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7705800" cy="1434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Where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does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a  ___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0"/>
            <a:ext cx="19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wo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052640"/>
            <a:ext cx="5867280" cy="703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d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wolves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705720" cy="1219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0"/>
            <a:ext cx="8458200" cy="825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does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a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snake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40" y="5851440"/>
            <a:ext cx="3209040" cy="1008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In a ho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268280"/>
            <a:ext cx="6659640" cy="825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do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snakes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0"/>
            <a:ext cx="8101080" cy="764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Where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does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a  ___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3280" y="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c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668920"/>
            <a:ext cx="4788000" cy="1191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On a farm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052640"/>
            <a:ext cx="5508720" cy="703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d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cows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0"/>
            <a:ext cx="7667640" cy="825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Where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does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a _____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f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668920"/>
            <a:ext cx="4284720" cy="1191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In a river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981000"/>
            <a:ext cx="6012000" cy="825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do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fish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5638680"/>
            <a:ext cx="6095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6019920"/>
            <a:ext cx="6095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6324480"/>
            <a:ext cx="6095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5334120"/>
            <a:ext cx="6095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104760" y="44280"/>
            <a:ext cx="910440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16360" y="5373720"/>
            <a:ext cx="302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5084640"/>
            <a:ext cx="30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i="1" lang="zh-CN" sz="8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272360" cy="9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结对子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练习（用所学过的单词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ere does a ____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n/On a 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68360" y="62064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方正喵呜体"/>
              </a:rPr>
              <a:t>猜一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1413000"/>
            <a:ext cx="5903640" cy="13129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I live in a hole. My body is very lo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357720"/>
            <a:ext cx="475272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I live in a river. I can swi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5013360"/>
            <a:ext cx="5616720" cy="1312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I live in a tree. I like to eat banana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012000" y="4724280"/>
            <a:ext cx="2592360" cy="2133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2452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300720" y="2492280"/>
            <a:ext cx="23986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42920" y="4941720"/>
            <a:ext cx="7921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保护环境，保护动物的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03280" y="5661000"/>
            <a:ext cx="6096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6019920"/>
            <a:ext cx="6095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6324480"/>
            <a:ext cx="6095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5334120"/>
            <a:ext cx="6095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5181480"/>
            <a:ext cx="3124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4473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71640" y="5302080"/>
            <a:ext cx="243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riv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03280" y="5661000"/>
            <a:ext cx="6096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6019920"/>
            <a:ext cx="6095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6324480"/>
            <a:ext cx="6095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5334120"/>
            <a:ext cx="6095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5181480"/>
            <a:ext cx="3124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95640" y="5300640"/>
            <a:ext cx="192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08360" y="5084640"/>
            <a:ext cx="30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i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5791320"/>
            <a:ext cx="6095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6172200"/>
            <a:ext cx="6095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6477120"/>
            <a:ext cx="6095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5486400"/>
            <a:ext cx="6095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71640" y="537372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0" i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71640" y="5445000"/>
            <a:ext cx="286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ra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001000" cy="1066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43200" y="1066680"/>
            <a:ext cx="413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宋体"/>
              </a:rPr>
              <a:t>In a riv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 does a </a:t>
            </a:r>
            <a:r>
              <a:rPr b="1" lang="zh-CN" sz="5400" spc="-1" strike="noStrike">
                <a:solidFill>
                  <a:srgbClr val="0066ff"/>
                </a:solidFill>
                <a:latin typeface="Times New Roman"/>
                <a:ea typeface="宋体"/>
              </a:rPr>
              <a:t>panda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liv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1523880"/>
            <a:ext cx="3124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0666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In a fores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920" y="117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 does a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bird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 liv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3124080"/>
            <a:ext cx="2743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7920" y="3276720"/>
            <a:ext cx="312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In a tre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260360" y="1989000"/>
            <a:ext cx="309564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1" lang="zh-CN" sz="4400" spc="-1" strike="noStrike">
                <a:solidFill>
                  <a:srgbClr val="990099"/>
                </a:solidFill>
                <a:latin typeface="Arial"/>
              </a:rPr>
              <a:t> a tree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on</a:t>
            </a:r>
            <a:r>
              <a:rPr b="1" lang="zh-CN" sz="4400" spc="-1" strike="noStrike">
                <a:solidFill>
                  <a:srgbClr val="990099"/>
                </a:solidFill>
                <a:latin typeface="Arial"/>
              </a:rPr>
              <a:t> a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in a tre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树上。是指本身不属于树的东西藏在树里面了。比如人或者动物爬到了树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on a tre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树上。是指树上本来上就有的东西，比如果实，花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句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re are many apples on a tr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6:23:49Z</dcterms:created>
  <dc:creator/>
  <dc:description/>
  <dc:language>en-US</dc:language>
  <cp:lastModifiedBy>acer1</cp:lastModifiedBy>
  <dcterms:modified xsi:type="dcterms:W3CDTF">2015-09-22T07:09:53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55</vt:lpwstr>
  </property>
  <property fmtid="{D5CDD505-2E9C-101B-9397-08002B2CF9AE}" pid="3" name="Version">
    <vt:r8>1</vt:r8>
  </property>
</Properties>
</file>