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C3F-0069-4071-A965-23EE9236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6EF-93C4-4F98-9C23-F99824AE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D89-25F9-4B7F-8C11-7793EEF8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728-6915-4B92-9F9B-3835EB08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450-9DE5-47F7-B247-A6D7B56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68F-8AEA-430A-A92A-5CD7B562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B51-4AAF-4275-B41B-7CCF6470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94C-E53A-43A2-B931-E3F9DFC5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92D-EB5E-4E93-A2EA-D34700F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EFF-B73D-410C-8594-D58A0E4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A40-DE3D-45F3-9EB1-579609E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2B5-CB28-4075-964C-CB65423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3F6CCF2-A3A2-4C52-ABB3-295A6B0CE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518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sson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reakfast, lunch and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-6120" r="30304" b="0"/>
          <a:stretch/>
        </p:blipFill>
        <p:spPr>
          <a:xfrm>
            <a:off x="7740720" y="5157720"/>
            <a:ext cx="1460520" cy="156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6458" t="20000" r="22743" b="13715"/>
          <a:stretch/>
        </p:blipFill>
        <p:spPr>
          <a:xfrm>
            <a:off x="108000" y="4437000"/>
            <a:ext cx="2027160" cy="221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179360" y="0"/>
            <a:ext cx="6610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New wo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349360"/>
            <a:ext cx="5321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252440" y="2708280"/>
            <a:ext cx="5313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ev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2205000"/>
            <a:ext cx="439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197000"/>
            <a:ext cx="352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33 6E-005 C -0.0552 -0.00285 -0.05121 -0.01193 -0.04951 -0.01739 C -0.04782 -0.02285 -0.04786 -0.02722 -0.04617 -0.03268 C -0.04448 -0.03814 -0.0416 -0.04504 -0.03934 -0.05014 C -0.03709 -0.05524 -0.03547 -0.05853 -0.03267 -0.06326 C -0.02985 -0.06801 -0.02533 -0.07382 -0.0225 -0.07855 C -0.01967 -0.0833 -0.01736 -0.08733 -0.01568 -0.09169 C -0.01398 -0.09605 -0.01345 -0.10073 -0.01233 -0.10473 C -0.01122 -0.10873 -0.01069 -0.11171 -0.00899 -0.11571 C -0.00729 -0.11971 -0.0033 -0.12403 -0.00217 -0.12875 C -0.00103 -0.13347 -0.00217 -0.1393 -0.00217 -0.14404 C -0.00217 -0.14878 -0.00217 -0.15318 -0.00217 -0.15718 C -0.00217 -0.16118 -0.00328 -0.16405 -0.00217 -0.16805 C -0.00105 -0.17207 0.00341 -0.17719 0.00452 -0.18119 C 0.00564 -0.18519 0.00452 -0.18844 0.00452 -0.19208 C 0.00452 -0.19571 0.00452 -0.19896 0.00452 -0.20296 C 0.00452 -0.20697 0.00452 -0.21209 0.00452 -0.21609 C 0.00452 -0.22009 0.00452 -0.22297 0.00452 -0.22697 C 0.00452 -0.23098 0.00507 -0.23611 0.00452 -0.24011 C 0.00396 -0.24411 0.00173 -0.24518 0.00118 -0.251 C 0.00062 -0.25682 5.99999999999999E-005 -0.26772 0.00118 -0.27501 C 0.00229 -0.2823 0.00505 -0.2878 0.00786 -0.2947 C 0.01067 -0.30162 0.01577 -0.30884 0.01802 -0.31648 C 0.02028 -0.32411 0.02081 -0.33358 0.02136 -0.34049 C 0.02193 -0.3474 0.02079 -0.35211 0.02136 -0.35794 C 0.02195 -0.36377 0.02427 -0.37002 0.02485 -0.37548 C 0.02543 -0.38094 0.02429 -0.38523 0.02485 -0.39069 C 0.02541 -0.39615 0.0265 -0.4024 0.02819 -0.40823 C 0.02988 -0.41406 0.03332 -0.41985 0.03502 -0.42567 C 0.03671 -0.43149 0.0378 -0.43804 0.03835 -0.44313 C 0.03892 -0.44822 0.03835 -0.4519 0.03835 -0.45626 C 0.03835 -0.46062 0.03835 -0.46458 0.03835 -0.4693 C 0.03835 -0.47402 0.0378 -0.47985 0.03835 -0.48459 C 0.03892 -0.48933 0.04115 -0.49337 0.0417 -0.49773 C 0.04226 -0.50209 0.0417 -0.50641 0.0417 -0.51077 C 0.0417 -0.51513 0.04001 -0.51989 0.0417 -0.52389 C 0.0434 -0.52791 0.05017 -0.53114 0.05186 -0.53478 C 0.05356 -0.53842 0.05131 -0.54212 0.05186 -0.54576 C 0.05243 -0.54939 0.05465 -0.55302 0.05521 -0.55664 C 0.05577 -0.56027 0.05577 -0.56352 0.05521 -0.56752 C 0.05465 -0.57153 0.05298 -0.57666 0.05186 -0.58066 C 0.05075 -0.58466 0.05133 -0.58789 0.04852 -0.59155 C 0.04572 -0.59519 0.03841 -0.59888 0.03502 -0.60252 C 0.03162 -0.60616 0.02988 -0.60977 0.02819 -0.61339 C 0.0265 -0.61703 0.02541 -0.62246 0.02485 -0.62428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E-005 1E-005 C -0.00361 -0.01949 -0.01727 -0.09471 -0.02157 -0.11697 C -0.02586 -0.13925 -0.0244 -0.12762 -0.02582 -0.1336 C -0.02726 -0.13955 -0.02909 -0.14719 -0.03017 -0.15276 C -0.03125 -0.15833 -0.03194 -0.16186 -0.0323 -0.16701 C -0.03266 -0.17218 -0.0323 -0.17855 -0.0323 -0.18373 C -0.0323 -0.18891 -0.0323 -0.19291 -0.0323 -0.19808 C -0.0323 -0.20326 -0.03266 -0.20925 -0.0323 -0.2148 C -0.03194 -0.22036 -0.03052 -0.22665 -0.03017 -0.23141 C -0.02981 -0.23618 -0.03017 -0.23862 -0.03017 -0.24341 C -0.03017 -0.24819 -0.03017 -0.25455 -0.03017 -0.26012 C -0.03017 -0.26569 -0.03052 -0.27048 -0.03017 -0.27683 C -0.02981 -0.28319 -0.02911 -0.2927 -0.02804 -0.29826 C -0.02696 -0.30381 -0.02477 -0.3054 -0.0237 -0.31016 C -0.02261 -0.31493 -0.02049 -0.3217 -0.02157 -0.32687 C -0.02265 -0.33205 -0.02801 -0.33605 -0.03017 -0.34123 C -0.03232 -0.34641 -0.03308 -0.35198 -0.03451 -0.35794 C -0.03595 -0.36391 -0.03806 -0.36986 -0.03877 -0.37701 C -0.03948 -0.38417 -0.03877 -0.39374 -0.03877 -0.40091 C -0.03877 -0.40806 -0.03877 -0.41323 -0.03877 -0.41998 C -0.03877 -0.42673 -0.03804 -0.43385 -0.03877 -0.44141 C -0.03949 -0.44897 -0.04168 -0.45815 -0.04311 -0.4653 C -0.04455 -0.47247 -0.0463 -0.47762 -0.04736 -0.48437 C -0.04844 -0.49112 -0.04915 -0.49903 -0.0495 -0.5058 C -0.04985 -0.51258 -0.04985 -0.5186 -0.0495 -0.52498 C -0.04915 -0.53135 -0.04665 -0.5373 -0.04736 -0.54405 C -0.04809 -0.5508 -0.05169 -0.55912 -0.05384 -0.56548 C -0.056 -0.57184 -0.05888 -0.57662 -0.06031 -0.5822 C -0.06175 -0.58777 -0.06173 -0.59414 -0.06245 -0.59891 C -0.06316 -0.60367 -0.06422 -0.60642 -0.06457 -0.6108 C -0.06493 -0.61517 -0.06457 -0.62078 -0.06457 -0.62516 C -0.06457 -0.62953 -0.06349 -0.63307 -0.06457 -0.63705 C -0.06564 -0.64103 -0.06818 -0.64506 -0.07104 -0.64905 C -0.07391 -0.65303 -0.07818 -0.65698 -0.08177 -0.66095 C -0.08536 -0.66491 -0.08864 -0.66846 -0.09259 -0.67284 C -0.09653 -0.67721 -0.1015 -0.68282 -0.10545 -0.6872 C -0.10939 -0.69157 -0.11268 -0.69631 -0.11626 -0.69909 C -0.11985 -0.70188 -0.12341 -0.70232 -0.12699 -0.70391 C -0.13057 -0.70549 -0.13377 -0.70784 -0.13772 -0.70863 C -0.14166 -0.70941 -0.14672 -0.70821 -0.15066 -0.70863 C -0.15461 -0.70903 -0.1578 -0.71028 -0.16139 -0.71109 C -0.16499 -0.71188 -0.16789 -0.71266 -0.17222 -0.71345 C -0.17653 -0.71423 -0.18226 -0.71541 -0.18729 -0.71579 C -0.19231 -0.7162 -0.19806 -0.71579 -0.20236 -0.71579 C -0.20665 -0.71579 -0.20879 -0.71541 -0.21309 -0.71579 C -0.21738 -0.7162 -0.22313 -0.71736 -0.22816 -0.71816 C -0.23318 -0.71896 -0.23893 -0.72021 -0.24324 -0.72061 C -0.24754 -0.72103 -0.25002 -0.72061 -0.25396 -0.72061 C -0.2579 -0.72061 -0.26261 -0.72023 -0.2669 -0.72061 C -0.2712 -0.72102 -0.27546 -0.72178 -0.27977 -0.72298 C -0.28407 -0.72417 -0.28839 -0.72581 -0.2927 -0.72779 C -0.29703 -0.72978 -0.30135 -0.7321 -0.30565 -0.73488 C -0.30995 -0.73764 -0.31421 -0.74163 -0.31851 -0.74441 C -0.32281 -0.7472 -0.32751 -0.7492 -0.33145 -0.75159 C -0.3354 -0.75397 -0.33861 -0.75677 -0.34218 -0.75877 C -0.34577 -0.76077 -0.34932 -0.7616 -0.35291 -0.76359 C -0.3565 -0.76556 -0.36014 -0.76907 -0.36373 -0.77065 C -0.36732 -0.77225 -0.37016 -0.77192 -0.37446 -0.77311 C -0.37875 -0.77431 -0.38523 -0.77704 -0.38954 -0.77784 C -0.39383 -0.77863 -0.39632 -0.77703 -0.40026 -0.77784 C -0.4042 -0.77864 -0.40926 -0.78107 -0.4132 -0.78265 C -0.41715 -0.78424 -0.42215 -0.78659 -0.42393 -0.78738 E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4 -0.00189 -0.0034 -0.00754 -0.00507 -0.01129 C -0.00675 -0.01504 -0.0084 -0.01876 -0.01007 -0.0225 C -0.01175 -0.02624 -0.01345 -0.02958 -0.01514 -0.03371 C -0.01683 -0.03782 -0.01852 -0.0431 -0.02021 -0.04722 C -0.0219 -0.05135 -0.02275 -0.0543 -0.02528 -0.05843 C -0.0278 -0.06254 -0.03226 -0.06819 -0.03534 -0.07194 C -0.03844 -0.07569 -0.04128 -0.07718 -0.04382 -0.08093 C -0.04635 -0.08468 -0.04803 -0.09069 -0.05055 -0.09444 C -0.05308 -0.09819 -0.05586 -0.10005 -0.05896 -0.10343 C -0.06205 -0.10679 -0.06601 -0.112 -0.06909 -0.11462 C -0.07219 -0.11725 -0.07469 -0.11691 -0.0775 -0.11916 C -0.08031 -0.12141 -0.08315 -0.12478 -0.08597 -0.12815 C -0.08878 -0.13151 -0.09017 -0.13598 -0.09437 -0.13935 C -0.09858 -0.14272 -0.10676 -0.14608 -0.11125 -0.14833 C -0.11574 -0.15058 -0.11823 -0.15137 -0.12132 -0.15287 C -0.1244 -0.15436 -0.12698 -0.15582 -0.12979 -0.15732 C -0.1326 -0.1588 -0.13539 -0.15998 -0.1382 -0.16184 C -0.141 -0.16372 -0.14378 -0.16628 -0.14659 -0.16851 C -0.1494 -0.17075 -0.15226 -0.17303 -0.15507 -0.17528 C -0.15788 -0.17753 -0.16038 -0.18054 -0.16347 -0.18204 C -0.16656 -0.18352 -0.17024 -0.1835 -0.17361 -0.18426 C -0.17698 -0.18501 -0.18059 -0.18582 -0.18367 -0.18657 C -0.18677 -0.18733 -0.19018 -0.18616 -0.19215 -0.18879 C -0.19412 -0.19141 -0.19381 -0.19633 -0.19549 -0.20232 C -0.19716 -0.2083 -0.19968 -0.218 -0.20222 -0.22472 C -0.20476 -0.23144 -0.2076 -0.23707 -0.21069 -0.24268 C -0.21378 -0.2483 -0.21768 -0.25241 -0.22076 -0.25843 C -0.22384 -0.26443 -0.22663 -0.27269 -0.22916 -0.2787 C -0.23169 -0.2847 -0.23372 -0.28845 -0.23597 -0.29444 C -0.23823 -0.30043 -0.23961 -0.30901 -0.2427 -0.31462 C -0.2458 -0.32025 -0.25142 -0.32327 -0.25451 -0.32815 C -0.2576 -0.33302 -0.25873 -0.33902 -0.26125 -0.34388 C -0.26377 -0.34874 -0.26685 -0.35358 -0.26965 -0.35731 C -0.27245 -0.36105 -0.27524 -0.36291 -0.27805 -0.36629 C -0.28086 -0.36967 -0.28343 -0.37384 -0.28653 -0.37759 C -0.28961 -0.38134 -0.29294 -0.38505 -0.29659 -0.38879 C -0.30024 -0.39252 -0.30475 -0.39551 -0.3084 -0.39999 C -0.31206 -0.40448 -0.31544 -0.41162 -0.31854 -0.41573 C -0.32163 -0.41985 -0.32414 -0.42209 -0.32694 -0.42472 C -0.32974 -0.42734 -0.33168 -0.42998 -0.33534 -0.43148 C -0.33899 -0.43297 -0.34383 -0.43294 -0.34888 -0.4337 C -0.35394 -0.43445 -0.36092 -0.43526 -0.36569 -0.43601 C -0.37045 -0.43677 -0.37384 -0.43749 -0.37749 -0.43823 C -0.38115 -0.43898 -0.3837 -0.43972 -0.38763 -0.44045 C -0.39157 -0.4412 -0.39746 -0.44231 -0.40111 -0.44267 C -0.40475 -0.44305 -0.40669 -0.4423 -0.4095 -0.44267 C -0.41232 -0.44306 -0.41489 -0.4446 -0.41798 -0.44499 C -0.42107 -0.44538 -0.4244 -0.44388 -0.42805 -0.44499 C -0.43169 -0.4461 -0.43647 -0.44903 -0.43986 -0.45166 C -0.44323 -0.45428 -0.44496 -0.4581 -0.44833 -0.46073 C -0.45169 -0.46335 -0.45642 -0.46516 -0.46007 -0.4674 C -0.46371 -0.46963 -0.46654 -0.47227 -0.4702 -0.47416 C -0.47386 -0.47605 -0.47808 -0.4772 -0.482 -0.4787 C -0.48594 -0.48019 -0.49017 -0.48127 -0.49382 -0.48315 C -0.49746 -0.48501 -0.50079 -0.48802 -0.50388 -0.4899 C -0.50697 -0.49178 -0.50926 -0.49294 -0.51236 -0.49444 C -0.51544 -0.49594 -0.51905 -0.49777 -0.52242 -0.49888 C -0.52579 -0.49999 -0.52863 -0.49998 -0.53256 -0.5011 C -0.53649 -0.50223 -0.54125 -0.50452 -0.54603 -0.50565 C -0.55081 -0.50677 -0.5573 -0.50749 -0.56124 -0.50787 C -0.56518 -0.50823 -0.56685 -0.50787 -0.56965 -0.50787 C -0.57245 -0.50787 -0.57523 -0.50749 -0.57804 -0.50787 C -0.58086 -0.50823 -0.5823 -0.50933 -0.58652 -0.51009 C -0.59073 -0.51084 -0.59912 -0.51165 -0.60332 -0.51239 C -0.60753 -0.51316 -0.60898 -0.51426 -0.61179 -0.51462 C -0.61461 -0.51499 -0.61711 -0.51462 -0.6202 -0.51462 C -0.62329 -0.51462 -0.62725 -0.51426 -0.63033 -0.51462 C -0.63343 -0.51499 -0.63594 -0.51648 -0.63874 -0.51684 C -0.64154 -0.51721 -0.64405 -0.51684 -0.64715 -0.51684 C -0.65023 -0.51684 -0.65419 -0.51684 -0.65728 -0.51684 C -0.66038 -0.51684 -0.66231 -0.51646 -0.66569 -0.51684 C -0.66905 -0.51723 -0.67355 -0.51766 -0.67749 -0.51916 C -0.68143 -0.52066 -0.68508 -0.52359 -0.68929 -0.52583 C -0.69351 -0.52806 -0.69883 -0.53033 -0.70277 -0.53259 C -0.7067 -0.53484 -0.70981 -0.53671 -0.71291 -0.53934 C -0.716 -0.54196 -0.71794 -0.54608 -0.72131 -0.54833 C -0.72468 -0.55057 -0.72918 -0.55137 -0.73311 -0.55287 C -0.73705 -0.55435 -0.74155 -0.55581 -0.74492 -0.55731 C -0.74829 -0.5588 -0.75051 -0.56071 -0.75332 -0.56184 C -0.75613 -0.56296 -0.75898 -0.56332 -0.76179 -0.56406 C -0.7646 -0.56481 -0.76739 -0.56555 -0.7702 -0.56628 C -0.773 -0.56703 -0.77551 -0.56851 -0.7786 -0.56851 C -0.78169 -0.56851 -0.78564 -0.56778 -0.78874 -0.56628 C -0.79183 -0.5648 -0.79433 -0.56216 -0.79714 -0.55953 C -0.79996 -0.55691 -0.8028 -0.55316 -0.80561 -0.55055 C -0.80843 -0.54794 -0.81093 -0.54574 -0.81402 -0.54388 C -0.8171 -0.54202 -0.82079 -0.54085 -0.82415 -0.53934 C -0.82752 -0.53783 -0.83113 -0.53667 -0.83423 -0.53481 C -0.83731 -0.53294 -0.83988 -0.52963 -0.8427 -0.52814 C -0.84551 -0.52664 -0.8497 -0.52621 -0.8511 -0.52583 E">
                                      <p:cBhvr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69 -0.0015 -0.00705 -0.00599 -0.01014 -0.00899 C -0.01323 -0.01197 -0.01573 -0.01496 -0.01854 -0.01796 C -0.02135 -0.02097 -0.02504 -0.02365 -0.02701 -0.02704 C -0.02898 -0.03042 -0.02979 -0.03337 -0.03034 -0.03824 C -0.03091 -0.0431 -0.03034 -0.05058 -0.03034 -0.05621 C -0.03034 -0.06182 -0.03091 -0.06669 -0.03034 -0.07194 C -0.02979 -0.07719 -0.02813 -0.08244 -0.02701 -0.08768 C -0.0259 -0.09293 -0.02446 -0.09857 -0.02361 -0.10343 C -0.02277 -0.10829 -0.02279 -0.11273 -0.02195 -0.11685 C -0.0211 -0.12097 -0.02023 -0.12403 -0.01854 -0.12815 C -0.01685 -0.13226 -0.01293 -0.13746 -0.0118 -0.14157 C -0.01069 -0.14569 -0.0118 -0.14912 -0.0118 -0.15287 C -0.0118 -0.15662 -0.01236 -0.16033 -0.0118 -0.16407 C -0.01125 -0.1678 -0.00959 -0.17153 -0.00847 -0.17528 C -0.00735 -0.17903 -0.00479 -0.18282 -0.00507 -0.18657 C -0.00534 -0.19032 -0.00874 -0.19365 -0.01014 -0.19777 C -0.01154 -0.2019 -0.01207 -0.20491 -0.01347 -0.21129 C -0.01487 -0.21766 -0.01742 -0.22966 -0.01854 -0.23601 C -0.01967 -0.24237 -0.02049 -0.24532 -0.02021 -0.24944 C -0.01993 -0.25357 -0.01855 -0.25698 -0.01687 -0.26073 C -0.0152 -0.26448 -0.01267 -0.26858 -0.01014 -0.27194 C -0.00761 -0.2753 -0.00455 -0.27755 -0.00174 -0.28093 C 0.00107 -0.28429 0.00448 -0.28801 0.00674 -0.29212 C 0.00899 -0.29625 0.00956 -0.30152 0.0118 -0.30565 C 0.01405 -0.30976 0.01684 -0.31086 0.02021 -0.31684 C 0.02357 -0.32283 0.02893 -0.33483 0.03201 -0.34156 C 0.0351 -0.34831 0.0365 -0.35244 0.03875 -0.35731 C 0.041 -0.36219 0.04324 -0.36634 0.04549 -0.37083 C 0.04773 -0.37531 0.04998 -0.38013 0.05222 -0.38426 C 0.05447 -0.38837 0.05614 -0.3918 0.05896 -0.39555 C 0.06177 -0.3993 0.06601 -0.40413 0.06909 -0.40676 C 0.07219 -0.40938 0.07469 -0.4098 0.0775 -0.41129 C 0.08031 -0.41279 0.0826 -0.41462 0.08597 -0.41573 C 0.08934 -0.41684 0.09406 -0.41647 0.09771 -0.41795 C 0.10135 -0.41945 0.10447 -0.42247 0.10784 -0.42472 C 0.11123 -0.42697 0.11489 -0.42998 0.11799 -0.43148 C 0.12107 -0.43297 0.12441 -0.43108 0.12638 -0.4337 C 0.12835 -0.43633 0.12866 -0.44309 0.12979 -0.44722 C 0.13091 -0.45134 0.13173 -0.4543 0.13312 -0.45842 C 0.13452 -0.46253 0.13707 -0.46781 0.1382 -0.47194 C 0.13931 -0.47606 0.13986 -0.47865 0.13986 -0.48315 C 0.13986 -0.48763 0.13847 -0.49363 0.1382 -0.49888 C 0.13791 -0.50413 0.1382 -0.50938 0.1382 -0.51462 C 0.1382 -0.51987 0.1382 -0.52549 0.1382 -0.53037 C 0.1382 -0.53524 0.1382 -0.53976 0.1382 -0.54388 C 0.1382 -0.54801 0.13763 -0.55023 0.1382 -0.55509 C 0.13875 -0.55995 0.139 -0.5663 0.14153 -0.57305 C 0.14405 -0.5798 0.14967 -0.58917 0.15333 -0.59555 C 0.15699 -0.60192 0.15926 -0.60567 0.16347 -0.61128 C 0.16768 -0.61691 0.17439 -0.62439 0.17861 -0.62925 C 0.18282 -0.63412 0.18537 -0.63709 0.18875 -0.64045 C 0.19212 -0.64382 0.19552 -0.64681 0.19888 -0.64943 C 0.20226 -0.65206 0.20391 -0.65245 0.20896 -0.6562 C 0.214 -0.65995 0.22354 -0.66818 0.22916 -0.67193 C 0.23479 -0.67568 0.23905 -0.67607 0.2427 -0.6787 C 0.24636 -0.68132 0.24831 -0.68543 0.25111 -0.68767 C 0.25391 -0.68991 0.25669 -0.69175 0.25951 -0.69211 C 0.26232 -0.69249 0.26489 -0.691 0.26799 -0.68989 C 0.27107 -0.68878 0.27496 -0.68657 0.27805 -0.68545 C 0.28114 -0.68432 0.28511 -0.68352 0.28653 -0.68314 E">
                                      <p:cBhvr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t’s ____o’clo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248520" y="1752480"/>
            <a:ext cx="2133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clo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t’s ____o’clo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6720" y="1627200"/>
            <a:ext cx="6048360" cy="47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014 -0.01874 0.01476 0.01481 -0.00677 -0.01087 C -0.00955 -0.01433 -0.03577 -0.03724 -0.03837 -0.03839 C -0.05452 -0.04533 -0.04687 -0.04117 -0.06162 -0.05111 C -0.06839 -0.02683 -0.07587 0.00093 -0.08768 0.02197 C -0.09114 0.03446 -0.0941 0.0488 -0.10261 0.05667 C -0.10347 0.06036 -0.10537 0.0636 -0.10537 0.06753 C -0.10537 0.06983 -0.10382 0.06337 -0.10261 0.06199 C -0.09705 0.0555 -0.0908 0.04972 -0.08489 0.04371 C -0.06459 0.02336 -0.03281 -0.000240000000000001 -0.01354 -0.01272 C 0.04392 -0.04972 0.10173 -0.08673 0.15903 -0.12419 C 0.1842 -0.14061 0.20781 -0.16073 0.23298 -0.17691 C 0.24635 -0.19519 0.23854 -0.18108 0.23576 -0.17344 C 0.23507 -0.17159 0.23298 -0.1679 0.23437 -0.1679 C 0.23593 -0.1679 0.23576 -0.17183 0.23698 -0.17344 C 0.23958 -0.17691 0.24236 -0.17993 0.24531 -0.18247 C 0.27135 -0.20537 0.29774 -0.23173 0.32726 -0.24444 C 0.3302 -0.24698 0.33297 -0.24954 0.33576 -0.25184 C 0.33749 -0.25323 0.33976 -0.2574 0.34113 -0.25555 C 0.34339 -0.2523 0.34201 -0.24698 0.34253 -0.24259 C 0.33766 -0.21323 0.33437 -0.18316 0.3316 -0.15333 C 0.33212 -0.12951 0.33141 -0.10569 0.33297 -0.0821 C 0.33351 -0.07308 0.33802 -0.07007 0.34253 -0.06568 C 0.35382 -0.0548 0.3677 -0.04394 0.38089 -0.03839 C 0.38628 -0.03307 0.38992 -0.02751 0.396 -0.02382 C 0.3979 -0.01596 0.40035 -0.01042 0.40415 -0.00369 C 0.41527 0.0703 0.40346 0.04555 0.41111 0.19333 C 0.41127 0.19773 0.41544 0.19958 0.41787 0.20258 C 0.42777 0.21462 0.44374 0.2234 0.45624 0.22987 C 0.46249 0.23312 0.47412 0.24259 0.47412 0.24259 C 0.47812 0.26133 0.47464 0.27058 0.48367 0.28654 C 0.48837 0.30434 0.48367 0.3233 0.48089 0.34112 C 0.48141 0.35083 0.47986 0.36123 0.48228 0.37048 C 0.48281 0.3728 0.49547 0.38944 0.49877 0.39223 C 0.50242 0.40241 0.50763 0.41141 0.49999 0.42159 C 0.49861 0.42344 0.49635 0.42391 0.49462 0.42506 C 0.48645 0.43616 0.4816 0.44449 0.46995 0.44703 C 0.442 0.47201 0.40503 0.47085 0.37273 0.47433 C 0.3618 0.47548 0.35068 0.47687 0.33976 0.47802 C 0.33437 0.47871 0.32326 0.47987 0.32326 0.47987 C 0.31891 0.48103 0.3144 0.48358 0.30971 0.48358 C 0.29964 0.48358 0.28922 0.48265 0.27951 0.47987 C 0.27568 0.47871 0.275 0.47131 0.27274 0.46716 C 0.2644 0.4519 0.26111 0.43616 0.25486 0.41974 C 0.24826 0.3809 0.25087 0.39801 0.24669 0.36863 C 0.24305 0.3122 0.22778 0.25716 0.20972 0.20629 C 0.20781 0.20073 0.20382 0.1968 0.20138 0.19148 C 0.19443 0.17646 0.19357 0.17322 0.18089 0.16975 C 0.16371 0.17091 0.15104 0.16998 0.13698 0.18247 C 0.12412 0.179 0.12587 0.17183 0.12344 0.15703 C 0.11875 0.10198 0.12222 0.03492 0.09045 -0.0074 C 0.08125 -0.00601 0.06892 -0.00971 0.06302 0 C 0.06214 0.00162 0.06232 0.00393 0.06162 0.00556 C 0.05763 0.01503 0.05173 0.02937 0.04392 0.03283 C 0.03437 0.02012 0.04635 0.03537 0.0316 0.02012 C 0.03003 0.0185 0.02916 0.01596 0.02743 0.01457 C 0.02222 0.01018 0.01406 0.00949 0.00972 0.00369 E">
                                      <p:cBhvr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46 -0.03793 0.03906 -0.04232 0.06441 -0.05667 C 0.06684 -0.05805 0.06892 -0.06082 0.07135 -0.06199 C 0.07569 -0.06405 0.08056 -0.06383 0.08507 -0.06568 C 0.08785 -0.06683 0.09323 -0.06937 0.09323 -0.06937 C 0.10868 -0.06244 0.09323 -0.07124 0.09861 -0.02197 C 0.09931 -0.01574 0.10763 -0.01733 0.11233 -0.01642 C 0.14912 -0.02035 0.18351 -0.02751 0.22065 -0.02914 C 0.30746 -0.04579 0.39166 -0.06568 0.4795 -0.07124 C 0.50051 -0.07054 0.52152 -0.07192 0.54252 -0.06937 C 0.54548 -0.06892 0.5394 -0.06244 0.53697 -0.06036 C 0.5302 -0.04787 0.52117 -0.04208 0.51233 -0.03283 C 0.51093 -0.02983 0.51007 -0.02636 0.50833 -0.02382 C 0.50728 -0.02219 0.50502 -0.02197 0.50416 -0.02012 C 0.5026 -0.01687 0.50138 -0.00925 0.50138 -0.00925 C 0.50277 0.00117 0.50242 0.01226 0.50555 0.02197 C 0.50728 0.02751 0.51145 0.03099 0.5151 0.03469 C 0.52968 0.04926 0.54496 0.06036 0.56041 0.07285 C 0.56285 0.07979 0.5644 0.08557 0.56579 0.09297 C 0.56405 0.13598 0.56023 0.17737 0.5644 0.22086 C 0.56492 0.22594 0.56926 0.22919 0.57135 0.23358 C 0.57725 0.24561 0.58107 0.25925 0.58627 0.27197 C 0.58818 0.28168 0.59027 0.29116 0.59183 0.30111 C 0.59236 0.33811 0.592 0.37534 0.59322 0.41234 C 0.59339 0.41812 0.59739 0.42876 0.59739 0.42876 C 0.59687 0.44333 0.59756 0.45813 0.596 0.47248 C 0.5941 0.49028 0.55676 0.52844 0.5493 0.53653 C 0.53837 0.54833 0.52898 0.55064 0.51648 0.55827 C 0.48367 0.57839 0.44964 0.60499 0.41371 0.61307 C 0.39513 0.62141 0.37431 0.62834 0.35486 0.63135 C 0.34443 0.63298 0.32326 0.63505 0.32326 0.63505 C 0.27846 0.64616 0.26041 0.63389 0.22464 0.60753 C 0.20589 0.59366 0.18714 0.57978 0.16858 0.56567 C 0.16406 0.5622 0.15903 0.56057 0.15486 0.55642 C 0.13368 0.53491 0.11458 0.51041 0.09323 0.48912 C 0.08785 0.47826 0.08142 0.46994 0.07535 0.45976 C 0.07187 0.43733 0.07448 0.41466 0.07674 0.39223 C 0.07951 0.3647 0.08212 0.33187 0.09045 0.30643 C 0.10417 0.26457 0.11719 0.21947 0.12464 0.17507 C 0.12864 0.11193 0.12708 0.14593 0.12882 0.07285 C 0.12847 0.05874 0.13888 0.00486 0.12065 -0.01087 C 0.09184 -0.00994 0.07726 -0.00762 0.05208 -0.01087 C 0.03958 -0.01249 0.02639 -0.01826 0.01372 -0.01826 E">
                                      <p:cBhvr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16 0.00556 -0.01093 0.01574 -0.0177 0.02358 C -0.02012 0.0266 -0.02361 0.02799 -0.02586 0.03099 C -0.04512 0.05667 -0.05694 0.08348 -0.06701 0.11679 C -0.06753 0.12048 -0.06839 0.12396 -0.06839 0.12766 C -0.06839 0.15587 -0.05572 0.16119 -0.03819 0.16605 C -0.02204 0.17691 -0.00625 0.18825 0.00973 0.19889 C 0.01077 0.20398 0.01355 0.20837 0.01372 0.21346 C 0.01441 0.24351 0.01268 0.25462 0.00973 0.28076 C 0.00886 0.30944 0.00712 0.3284 0.00973 0.35591 C 0.01181 0.37742 0.03021 0.38459 0.04254 0.39037 C 0.05538 0.39638 0.06754 0.40355 0.08091 0.4068 C 0.08178 0.40865 0.08369 0.41004 0.08369 0.41234 C 0.08369 0.41929 0.08056 0.42576 0.07952 0.43247 C 0.08612 0.48451 0.12969 0.50092 0.16303 0.51271 C 0.22187 0.53352 0.18334 0.51988 0.24254 0.53098 C 0.28785 0.53955 0.33246 0.55434 0.37812 0.56012 C 0.396 0.56498 0.41371 0.56821 0.4316 0.57284 C 0.47136 0.56451 0.51423 0.56198 0.55209 0.5437 C 0.56388 0.53792 0.57326 0.52728 0.58368 0.51826 C 0.5934 0.49908 0.58229 0.47571 0.57812 0.45605 C 0.56041 0.37326 0.51024 0.31451 0.44532 0.3048 C 0.40416 0.30643 0.3967 0.30295 0.3658 0.32655 C 0.36355 0.33094 0.35886 0.33394 0.35763 0.33926 C 0.3573 0.34112 0.36041 0.33833 0.36181 0.33765 C 0.36319 0.33719 0.3644 0.33648 0.3658 0.3358 C 0.37222 0.32516 0.37934 0.31613 0.38507 0.3048 C 0.38681 0.29625 0.39184 0.28793 0.39045 0.27913 C 0.38819 0.26457 0.38681 0.24976 0.38368 0.23543 C 0.37569 0.19866 0.33976 0.18455 0.3165 0.17159 C 0.31093 0.16858 0.30572 0.16489 0.3 0.16234 C 0.29601 0.1605 0.27726 0.15241 0.27413 0.14962 C 0.2573 0.1346 0.28577 0.16073 0.2658 0.13876 C 0.26181 0.13437 0.24913 0.1258 0.24392 0.12233 C 0.22812 0.11193 0.21198 0.10176 0.19601 0.09112 C 0.17413 0.07655 0.20122 0.09505 0.17952 0.08025 C 0.17622 0.07794 0.16858 0.07655 0.16858 0.07655 C 0.1566 0.0673 0.14114 0.06082 0.12744 0.05828 C 0.11737 0.04949 0.12239 0.05204 0.11233 0.04926 C 0.10815 0.04533 0.10487 0.03932 0.1 0.03654 C 0.0908 0.03144 0.09809 0.03885 0.08768 0.03099 C 0.07622 0.02243 0.08888 0.02729 0.07535 0.02358 C 0.06893 0.0185 0.06094 0.01687 0.05487 0.01087 C 0.05174 0.00786 0.03507 -0.00856 0.03021 -0.00925 C 0.02119 -0.01087 0.01198 -0.01042 0.00278 -0.01087 C 0.00053 -0.01156 -0.00173 -0.01272 -0.00399 -0.01272 C -0.01336 -0.01272 -0.0052 -0.00117 -0.0026 0.00185 C -0.00137 0.00324 0 0.00649 0.00139 0.00556 C 0.00261 0.00462 0.00053 0.00185 0 0 Z">
                                      <p:cBhvr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149880" cy="41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372 0.0074 -0.01892 0.02336 -0.03021 0.03283 C -0.0408 0.05018 -0.04826 0.0673 -0.05763 0.0858 C -0.06146 0.10476 -0.06597 0.1228 -0.05625 0.14061 C -0.05417 0.14869 -0.04965 0.15194 -0.04392 0.15518 C -0.02917 0.16351 -0.01892 0.16766 -0.00278 0.16975 C -0.00833 0.18825 -0.01441 0.20721 -0.02205 0.22455 C -0.02396 0.23426 -0.02552 0.24398 -0.02743 0.25369 C -0.02656 0.26041 -0.02778 0.2685 -0.02465 0.27382 C -0.0224 0.27775 -0.01736 0.27612 -0.01372 0.27751 C -0.000869999999999999 0.28283 0.01458 0.28977 0.02604 0.29926 C 0.02361 0.32979 0.02083 0.34273 0.02604 0.37419 C 0.02674 0.37788 0.02934 0.38066 0.03142 0.3832 C 0.03715 0.39037 0.04219 0.39894 0.04931 0.40333 C 0.08714 0.42645 0.12013 0.43685 0.16162 0.44888 C 0.1776 0.45351 0.19705 0.46137 0.21233 0.47085 C 0.22117 0.47641 0.23837 0.48912 0.23837 0.48912 C 0.24114 0.49398 0.24601 0.49769 0.24653 0.50369 C 0.24721 0.51155 0.23593 0.53399 0.23281 0.54023 C 0.23419 0.54092 0.23559 0.54208 0.23698 0.54208 C 0.28766 0.54462 0.33837 0.54533 0.38906 0.54763 C 0.39757 0.5511 0.38801 0.55249 0.39287 0.56035 C 0.39443 0.56266 0.39669 0.56405 0.39861 0.56567 C 0.41197 0.57631 0.42447 0.57723 0.43975 0.57862 C 0.49877 0.57677 0.55346 0.57492 0.61093 0.56937 C 0.61249 0.56405 0.61301 0.55805 0.61492 0.55295 C 0.61596 0.55017 0.61805 0.54833 0.61909 0.54578 C 0.62377 0.53469 0.62742 0.52381 0.6328 0.51294 C 0.63627 0.49444 0.64374 0.47433 0.64652 0.45628 C 0.65034 0.43154 0.65572 0.40772 0.66023 0.3832 C 0.66145 0.37673 0.66127 0.36955 0.66301 0.36331 C 0.66457 0.35799 0.66786 0.35383 0.66978 0.34851 C 0.6736 0.33765 0.67881 0.31659 0.68211 0.3048 C 0.68436 0.29648 0.68766 0.27937 0.68766 0.27937 C 0.68975 0.25948 0.68992 0.24561 0.68905 0.22455 C 0.6861 0.22709 0.68436 0.23358 0.68072 0.23358 C 0.67916 0.23358 0.68245 0.22987 0.6835 0.22826 C 0.68523 0.22501 0.68714 0.22201 0.68905 0.21901 C 0.69339 0.21276 0.69895 0.20605 0.70398 0.20073 C 0.71978 0.18408 0.73713 0.16304 0.74374 0.13691 C 0.73801 0.05274 0.66266 0.10939 0.59305 0.10222 C 0.5816 0.10105 0.5703 0.09992 0.55867 0.09875 C 0.54044 0.09389 0.52239 0.0888 0.50398 0.08394 C 0.4927 0.07771 0.48315 0.06568 0.47117 0.06221 C 0.44358 0.05387 0.41736 0.03955 0.38906 0.03469 C 0.37812 0.03006 0.36874 0.02406 0.35729 0.02197 C 0.29166 0.02358 0.30712 0.01989 0.27395 0.02751 C 0.24878 0.02683 0.22361 0.02751 0.19861 0.02567 C 0.19184 0.02521 0.18576 0.02174 0.17934 0.02012 C 0.14809 0.01294 0.11632 0.00879 0.08489 0.00369 C 0.05677 -0.00093 0.0283 0.00117 0 0 Z">
                                      <p:cBhvr>
                                        <p:cTn id="11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601 -0.01267 0.01294 -0.01787 0.01989 C -0.02465 0.02892 -0.02865 0.037 -0.03698 0.04371 C -0.04375 0.05504 -0.0507 0.06105 -0.06024 0.06753 C -0.07361 0.06568 -0.075 0.06544 -0.08489 0.05643 C -0.08767 0.05389 -0.09323 0.04926 -0.09323 0.04926 C -0.10295 0.02844 -0.09931 0.02567 -0.10138 -0.00925 C -0.11372 0.0155 -0.13437 0.02081 -0.15347 0.03099 C -0.15712 0.02983 -0.16372 0.03215 -0.1644 0.02729 C -0.16823 -0.000920000000000001 -0.15989 -0.03515 -0.15747 -0.06383 C -0.15625 -0.11332 -0.15486 -0.13066 -0.15747 -0.18062 C -0.15763 -0.18247 -0.15815 -0.17691 -0.15885 -0.1753 C -0.16007 -0.17253 -0.16528 -0.1679 -0.16302 -0.1679 C -0.16146 -0.1679 -0.14462 -0.19265 -0.14254 -0.19541 C -0.13906 -0.20005 -0.13646 -0.20583 -0.13281 -0.20998 C -0.11927 -0.22572 -0.10174 -0.23334 -0.08767 -0.24815 C -0.08004 -0.25623 -0.07309 -0.26526 -0.0658 -0.27382 C -0.06094 -0.27959 -0.0566 -0.28608 -0.05208 -0.29208 C -0.0507 -0.29394 -0.04687 -0.29948 -0.04792 -0.29741 C -0.04879 -0.29555 -0.05226 -0.29232 -0.0507 -0.29208 C -0.03195 -0.29069 -0.0132 -0.29718 0.00555 -0.29926 C 0.02969 -0.3018 0.05399 -0.30295 0.07812 -0.3048 C 0.09601 -0.30619 0.1316 -0.31036 0.1316 -0.31036 C 0.1394 -0.30966 0.14739 -0.31129 0.15486 -0.30851 C 0.15781 -0.30734 0.14757 -0.29741 0.15069 -0.29741 C 0.1776 -0.29672 0.20468 -0.29994 0.2316 -0.30111 C 0.30364 -0.30041 0.37587 -0.30156 0.44791 -0.29926 C 0.45867 -0.2988 0.44426 -0.29069 0.44114 -0.28654 C 0.43749 -0.28168 0.43489 -0.27544 0.4316 -0.27012 C 0.42361 -0.25648 0.41562 -0.24976 0.41233 -0.23173 C 0.41736 -0.22201 0.42551 -0.21808 0.43281 -0.21183 C 0.43697 -0.20814 0.44652 -0.20444 0.44652 -0.20444 C 0.45173 -0.18386 0.44825 -0.16858 0.45068 -0.1443 C 0.45208 -0.13019 0.467 -0.12072 0.47395 -0.11147 C 0.48471 -0.09712 0.50068 -0.06637 0.5151 -0.05667 C 0.52464 -0.03561 0.5151 -0.04694 0.52187 -0.01826 C 0.52256 -0.01526 0.52568 -0.01481 0.52742 -0.01294 C 0.5316 -0.00808 0.53559 -0.00301 0.53975 0.00185 C 0.54339 0.00601 0.54669 0.01087 0.55068 0.01457 C 0.55502 0.0185 0.5644 0.02544 0.5644 0.02544 C 0.56804 0.03168 0.57204 0.03724 0.57535 0.04371 C 0.57898 0.06753 0.58367 0.10014 0.56162 0.10754 C 0.4762 0.105 0.39253 0.10337 0.30815 0.08742 C 0.29601 0.07955 0.28193 0.07678 0.26858 0.07469 C 0.25555 0.06314 0.23541 0.05828 0.22049 0.05296 C 0.19964 0.04555 0.18055 0.04069 0.15885 0.03817 C 0.12795 0.03076 0.09792 0.03353 0.0658 0.03283 C 0.05417 0.03122 0.05069 0.03283 0.04392 0.02174 C 0.0408 0.01687 0.04115 0.01826 0.04115 0.01457 E">
                                      <p:cBhvr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59 0.02544 -0.00191 0.03307 0.00955 0.04742 C 0.01337 0.05204 0.01562 0.0599 0.02049 0.06199 C 0.03368 0.0673 0.0467 0.07447 0.06025 0.0784 C 0.08004 0.08394 0.10035 0.08626 0.12049 0.08926 C 0.12291 0.11193 0.1257 0.105 0.13837 0.11494 C 0.1408 0.11679 0.14236 0.12072 0.14513 0.12211 C 0.14861 0.12396 0.15242 0.12303 0.15608 0.12396 C 0.17483 0.12812 0.19306 0.13437 0.21233 0.13668 C 0.22101 0.13783 0.22968 0.13783 0.23837 0.13853 C 0.23888 0.14454 0.23888 0.15079 0.23976 0.1568 C 0.24166 0.16929 0.25261 0.17114 0.26025 0.17322 C 0.31544 0.17205 0.37084 0.17091 0.42604 0.16951 C 0.48801 0.16812 0.46701 0.16004 0.49027 0.16951 C 0.51371 0.16489 0.53524 0.16026 0.55886 0.15865 C 0.69027 0.13066 0.51301 0.16721 0.64374 0.14408 C 0.66753 0.13991 0.7151 0.12951 0.7151 0.12951 C 0.72534 0.12441 0.73488 0.11772 0.74512 0.11308 C 0.73715 0.10592 0.73228 0.11425 0.72465 0.11841 C 0.71232 0.12558 0.6993 0.12882 0.68628 0.13321 C 0.66892 0.13205 0.65138 0.13251 0.63419 0.12951 C 0.6328 0.12928 0.6328 0.12558 0.6328 0.12396 C 0.6328 0.11841 0.63367 0.11308 0.63419 0.10754 C 0.63628 0.08765 0.64096 0.07169 0.64374 0.05274 C 0.63819 0.02706 0.64444 0.04001 0.61093 0.04371 C 0.56805 0.04833 0.52499 0.04949 0.48212 0.05274 C 0.42326 0.05157 0.36423 0.05087 0.30537 0.04926 C 0.28697 0.0488 0.28871 0.04972 0.29444 0.03469 C 0.29044 0.01387 0.28629 0.00971 0.2684 0.00901 C 0.2269 0.0074 0.18525 0.00786 0.14375 0.00717 C 0.14132 -0.00508 0.1382 -0.00369 0.12864 -0.00556 C 0.10434 -0.01503 0.08004 -0.02219 0.05469 -0.02567 C 0.05052 -0.02751 0.04636 -0.02914 0.04236 -0.03099 C 0.03872 -0.03261 0.03507 -0.03492 0.03143 -0.03654 C 0.02969 -0.03724 0.02778 -0.03769 0.02604 -0.03839 C 0.02466 -0.03885 0.02205 -0.04208 0.02187 -0.04024 C 0.02049 -0.02937 0.02187 -0.01826 0.02187 -0.0074 E">
                                      <p:cBhvr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inner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supper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048360" cy="42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94 0.01989 0.00365 -0.00808 -0.00955 0.01642 C -0.01215 0.02128 -0.01302 0.02751 -0.01493 0.03283 C -0.01649 0.04278 -0.01892 0.05204 -0.02048 0.06199 C -0.01996 0.07354 -0.02205 0.0858 -0.01909 0.09667 C -0.0158 0.10869 -0.00278 0.10917 0.00417 0.10939 C 0.05903 0.11055 0.11372 0.11055 0.16858 0.11123 C 0.16198 0.12441 0.16388 0.11794 0.16162 0.12951 C 0.16215 0.13551 0.16111 0.14223 0.16302 0.14778 C 0.16459 0.15216 0.16875 0.15379 0.17136 0.15703 C 0.17952 0.16673 0.18837 0.17483 0.19861 0.18062 C 0.23437 0.20051 0.27205 0.21183 0.30971 0.2227 C 0.32101 0.23011 0.33229 0.23219 0.33976 0.2463 C 0.33785 0.25855 0.33629 0.28191 0.34254 0.29023 C 0.34444 0.29277 0.34705 0.2937 0.34931 0.29555 C 0.37395 0.3173 0.40225 0.3277 0.4316 0.33209 C 0.44513 0.33995 0.45642 0.3358 0.46858 0.34666 C 0.47725 0.34366 0.48454 0.33673 0.49322 0.33394 C 0.51249 0.32794 0.53263 0.32054 0.55209 0.31752 C 0.56128 0.31266 0.57013 0.30712 0.57951 0.30295 C 0.58419 0.29462 0.58975 0.29093 0.596 0.28469 C 0.60051 0.27498 0.60503 0.26619 0.60833 0.25555 C 0.61024 0.20907 0.60886 0.23334 0.61371 0.20814 C 0.61492 0.18408 0.61492 0.15448 0.61926 0.13136 C 0.61874 0.10939 0.62013 0.08742 0.61787 0.06568 C 0.61736 0.06129 0.61162 0.06244 0.60833 0.06199 C 0.60242 0.06105 0.59636 0.06105 0.59044 0.06012 C 0.58367 0.05919 0.56996 0.05667 0.56996 0.05667 C 0.56041 0.05296 0.55051 0.05157 0.54114 0.04742 C 0.50555 0.03144 0.47065 0.01342 0.43437 0 C 0.38923 -0.01665 0.3441 -0.0266 0.29861 -0.04024 C 0.28541 -0.03885 0.26996 -0.04462 0.25903 -0.03469 C 0.24912 -0.02567 0.26025 -0.03144 0.25069 -0.02729 C 0.24236 -0.0185 0.23611 -0.00901 0.22604 -0.00369 C 0.21181 0.01179 0.19462 0.03492 0.17674 0.04186 C 0.16945 0.0414 0.16215 0.04117 0.15486 0.04024 C 0.14827 0.03932 0.14166 0.03237 0.13577 0.02914 C 0.12761 0.02475 0.11858 0.02219 0.10972 0.02012 C 0.10122 0.01433 0.09167 0.01342 0.08229 0.01087 C 0.08004 0.01018 0.07535 0.00901 0.07535 0.00901 C 0.06823 0.00439 0.06424 0.00347 0.05625 0.00185 C 0.04271 0.00324 0.02986 0.00486 0.0165 0.0074 C 0.01459 0.00856 0.01268 0.00925 0.01094 0.01087 C 0.00937 0.01226 0.00851 0.01503 0.00695 0.01642 C 0.00486 0.01826 0.00226 0.0185 0 0.02012 C -0.00191 0.02151 -0.00347 0.02382 -0.00537 0.02544 C -0.00625 0.02612 -0.00729 0.0266 -0.00816 0.02729 E">
                                      <p:cBhvr>
                                        <p:cTn id="1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29 0.01481 -0.01441 0.0296 -0.02049 0.04555 C -0.02257 0.05111 -0.02327 0.05805 -0.02466 0.06383 C -0.02379 0.07423 -0.02396 0.08487 -0.02187 0.09482 C -0.01927 0.10754 -0.00834 0.11471 0 0.12211 C 0.01198 0.13298 0.025 0.14107 0.03698 0.15148 C 0.04757 0.16073 0.05625 0.17344 0.0658 0.18432 C 0.07048 0.19958 0.07048 0.19704 0.0658 0.2153 C 0.06493 0.21901 0.06302 0.22618 0.06302 0.22618 C 0.06388 0.23358 0.06337 0.24144 0.0658 0.24815 C 0.06666 0.25045 0.06962 0.24908 0.07135 0.25 C 0.08819 0.25925 0.07638 0.25694 0.096 0.26087 C 0.13003 0.26758 0.16423 0.26873 0.19861 0.27012 C 0.25902 0.2803 0.31909 0.29093 0.3795 0.30111 C 0.38818 0.30412 0.39705 0.31405 0.40555 0.31012 C 0.42742 0.30019 0.44842 0.28884 0.46995 0.27729 C 0.47967 0.27197 0.49096 0.27012 0.49999 0.26272 C 0.51526 0.25 0.50693 0.25623 0.52464 0.24444 C 0.53401 0.22802 0.54635 0.21623 0.55486 0.19889 C 0.55624 0.19587 0.55745 0.19265 0.55901 0.18964 C 0.56162 0.18455 0.56717 0.17507 0.56717 0.17507 C 0.56909 0.1679 0.57187 0.16212 0.57395 0.15494 C 0.57221 0.12766 0.5703 0.11701 0.57273 0.0858 C 0.57342 0.07794 0.57863 0.06753 0.58089 0.06012 C 0.58245 0.04787 0.58437 0.03817 0.58905 0.02729 C 0.59062 0.01919 0.59252 0.01226 0.59599 0.00532 C 0.60242 -0.03608 0.56006 -0.00971 0.53974 -0.0074 C 0.5229 -0.00556 0.48888 -0.00185 0.48888 -0.00185 C 0.46007 -0.00254 0.43159 -0.00185 0.40276 -0.00369 C 0.39651 -0.00417 0.3854 -0.01826 0.3795 -0.02197 C 0.35971 -0.03376 0.33177 -0.03192 0.31232 -0.03283 C 0.25625 -0.03168 0.2 -0.03076 0.14391 -0.02914 C 0.13194 -0.02868 0.12013 -0.02243 0.10833 -0.02197 C 0.08177 -0.02081 0.05537 -0.02081 0.02882 -0.02012 C 0.02083 -0.01294 0.01701 -0.00276 0.01093 0.00717 C 0.0085 0.0185 0.00694 0.02821 0.00694 0.04001 E">
                                      <p:cBhvr>
                                        <p:cTn id="1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51 -0.00069 -0.00919 -0.00162 -0.01371 -0.00185 C -0.04756 -0.00301 -0.08142 -0.00117 -0.1151 -0.00369 C -0.11874 -0.00393 -0.11839 -0.01249 -0.12064 -0.01642 C -0.12274 -0.02775 -0.12343 -0.03908 -0.12741 -0.04926 C -0.13037 -0.07308 -0.13159 -0.09667 -0.13419 -0.12048 C -0.1401 -0.11494 -0.14704 -0.11078 -0.15208 -0.10407 C -0.15485 -0.10037 -0.15781 -0.09712 -0.16024 -0.09319 C -0.16319 -0.08858 -0.16543 -0.08301 -0.16857 -0.0784 C -0.17621 -0.0673 -0.18628 -0.05782 -0.19461 -0.04742 C -0.21162 -0.02612 -0.20121 -0.03631 -0.21092 -0.02729 C -0.22689 -0.09135 -0.20814 -0.01226 -0.21787 -0.20073 C -0.21805 -0.20327 -0.22048 -0.1968 -0.22187 -0.19519 C -0.22637 -0.19009 -0.23176 -0.18662 -0.23558 -0.18062 C -0.24043 -0.17298 -0.24652 -0.16697 -0.25068 -0.15887 C -0.25156 -0.16073 -0.25363 -0.16212 -0.25346 -0.16419 C -0.25312 -0.16721 -0.25051 -0.16883 -0.2493 -0.17159 C -0.24495 -0.18201 -0.24322 -0.18987 -0.23558 -0.19704 C -0.23019 -0.2123 -0.22048 -0.22455 -0.21232 -0.23727 C -0.20728 -0.24514 -0.20277 -0.25694 -0.196 -0.26272 C -0.19548 -0.26457 -0.196 -0.26826 -0.19461 -0.26826 C -0.19287 -0.26826 -0.19217 -0.2648 -0.19183 -0.26272 C -0.19027 -0.25139 -0.19217 -0.2389 -0.18906 -0.22802 C -0.18801 -0.22455 -0.18366 -0.22572 -0.18089 -0.22455 C -0.10121 -0.22941 -0.02222 -0.23773 0.05747 -0.24098 C 0.07119 -0.24214 0.08489 -0.24444 0.09862 -0.24444 C 0.13508 -0.24444 0.1507 -0.25116 0.13143 -0.22641 C 0.12987 -0.22201 0.12761 -0.21784 0.12605 -0.21346 C 0.12483 -0.20998 0.12327 -0.20258 0.12327 -0.20258 C 0.12379 -0.19889 0.12344 -0.19496 0.12465 -0.19172 C 0.12831 -0.18084 0.14844 -0.17507 0.15209 -0.17344 C 0.19444 -0.15355 0.17049 -0.1753 0.19723 -0.1605 C 0.20678 -0.15518 0.23437 -0.14061 0.24514 -0.13136 C 0.25017 -0.12697 0.25538 -0.12373 0.25886 -0.11679 C 0.26112 -0.11216 0.26441 -0.10222 0.26441 -0.10222 C 0.26528 -0.09482 0.26407 -0.08648 0.26702 -0.08025 C 0.26876 -0.07678 0.29758 -0.0733 0.30001 -0.07308 C 0.31233 -0.07169 0.33698 -0.06937 0.33698 -0.06937 C 0.35521 -0.06175 0.37362 -0.06036 0.39166 -0.05296 C 0.39636 -0.05111 0.40087 -0.04833 0.40538 -0.04555 C 0.4106 -0.04232 0.42048 -0.03469 0.42048 -0.03469 C 0.42136 -0.03215 0.42326 -0.03006 0.42326 -0.02729 C 0.42343 -0.0185 0.42795 0.06568 0.40956 0.0821 C 0.40834 0.08696 0.40834 0.09112 0.40278 0.09112 C 0.32691 0.0918 0.25121 0.08996 0.17535 0.0895 C 0.15869 0.08858 0.13976 0.0895 0.12327 0.08394 C 0.11754 0.07886 0.11788 0.07423 0.11372 0.06753 C 0.11268 0.06592 0.11077 0.06544 0.10956 0.06383 C 0.10383 0.05619 0.09965 0.04649 0.09445 0.03839 C 0.08976 0.03099 0.09185 0.02612 0.08074 0.02358 C 0.0665 0.02012 0.07379 0.02151 0.04931 0.02012 C 0.03647 0.01943 0.02379 0.01896 0.01094 0.01826 C 0.00921 0.01156 0.00556 0.00833 0.0014 0.00369 C 0.00018 0.00231 -0.00208 0.00208 -0.00277 0 C -0.00312 -0.00117 -0.00086 0 0 0 Z">
                                      <p:cBhvr>
                                        <p:cTn id="14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  have 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reakfast  ----   go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nch ----  go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ning ----  read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00:30:47Z</dcterms:created>
  <dc:creator>dell</dc:creator>
  <dc:description/>
  <dc:language>en-US</dc:language>
  <cp:lastModifiedBy>acer1</cp:lastModifiedBy>
  <dcterms:modified xsi:type="dcterms:W3CDTF">2015-09-23T08:26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