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25A-2A19-4DD2-A278-E1DAB6E1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2A05-F31B-415D-8F44-92D8F3EC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9D05-5FE7-4E84-A7EF-B9469BE0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7F8-6C26-4E8C-B617-FA707357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30F-4E47-4B6E-A8C8-8EFDF5FE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15B-1DD7-4D35-8F4A-9CBD678D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862-BD4E-4A59-A729-5CD6D29E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124-AA82-4AA5-BD17-D2C3AD00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29E-DCD2-4199-80A2-29F116B0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3DD-0D2E-4FBA-AE6A-2AD2D71E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DDB-DE40-405B-BE9D-AA5B7784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B50-1C95-40BD-B95A-B0F9BA1B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20DE-3A09-40A3-B98F-F548D6FE2F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In th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vening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 ,I have dinner .Then I read a boo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83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mo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672000" cy="489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84720" y="1628640"/>
            <a:ext cx="4535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35280" y="0"/>
            <a:ext cx="2016000" cy="790560"/>
          </a:xfrm>
          <a:prstGeom prst="wedgeEllipseCallout">
            <a:avLst>
              <a:gd name="adj1" fmla="val -77953"/>
              <a:gd name="adj2" fmla="val 66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morning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260280"/>
            <a:ext cx="2448000" cy="865080"/>
          </a:xfrm>
          <a:prstGeom prst="wedgeEllipseCallout">
            <a:avLst>
              <a:gd name="adj1" fmla="val -28532"/>
              <a:gd name="adj2" fmla="val 151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morning, Mu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afterno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427640" cy="525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643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268280"/>
            <a:ext cx="2411280" cy="792360"/>
          </a:xfrm>
          <a:prstGeom prst="wedgeEllipseCallout">
            <a:avLst>
              <a:gd name="adj1" fmla="val 49537"/>
              <a:gd name="adj2" fmla="val 86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 afterno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64520" y="2421000"/>
            <a:ext cx="1779480" cy="792000"/>
          </a:xfrm>
          <a:prstGeom prst="wedgeEllipseCallout">
            <a:avLst>
              <a:gd name="adj1" fmla="val -36351"/>
              <a:gd name="adj2" fmla="val 88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afterno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1989000"/>
            <a:ext cx="7194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evening: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傍晚，晚上。一般指从傍晚到晚上就寝之前的这段时间，大概下午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点到晚上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点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night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夜晚、夜里。一般指从天黑到天明之前的这段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537080" cy="424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4941720"/>
            <a:ext cx="81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Good morning , Good afternoon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问候语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读时用降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Good night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是道别语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要用升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967280" cy="6154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11640" y="1125360"/>
            <a:ext cx="43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n the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orning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,I have breakfast .Then I go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In th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afternoon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 ,I have lunch .Then I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</a:rPr>
              <a:t>go to school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824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08:03:38Z</dcterms:created>
  <dc:creator>pc</dc:creator>
  <dc:description/>
  <dc:language>en-US</dc:language>
  <cp:lastModifiedBy>pc</cp:lastModifiedBy>
  <dcterms:modified xsi:type="dcterms:W3CDTF">2015-06-05T01:07:45Z</dcterms:modified>
  <cp:revision>6</cp:revision>
  <dc:subject/>
  <dc:title>幻灯片 1</dc:title>
</cp:coreProperties>
</file>