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6.gif" ContentType="image/gif"/>
  <Override PartName="/ppt/media/image5.gif" ContentType="image/gif"/>
  <Override PartName="/ppt/media/image13.jpeg" ContentType="image/jpeg"/>
  <Override PartName="/ppt/media/image4.png" ContentType="image/png"/>
  <Override PartName="/ppt/media/image3.gif" ContentType="image/gif"/>
  <Override PartName="/ppt/media/image27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0F8-4CB0-414B-A48E-19D636A9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4F9-B687-4665-8663-908FA313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092-B004-4309-9B8E-9E5E3AFD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856-6DD1-4931-8573-8B7D7A40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F7E-9E98-4630-9C1A-636E461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00B-428D-4C4B-9D16-9B184B2B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29A-C511-446B-B852-1A9D5E74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454-78B0-436B-B32C-E922D868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1D6-27C0-47E2-AC62-CD672F50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A40-584F-4DF5-8C64-709DBD12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31A-174E-49DA-A4A3-3290D936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651-286F-405D-BB67-0880F371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8496-36B0-48DA-9641-194F9B8A8D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jpeg"/><Relationship Id="rId10" Type="http://schemas.openxmlformats.org/officeDocument/2006/relationships/image" Target="../media/image8.gi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hyperlink" Target="http://image.baidu.com/i?ct=503316480&amp;z=&amp;tn=baiduimagedetail&amp;word=%B4%B0%BB%A7+&#696;%C1%BF&#892;&amp;in=29466&amp;cl=2&amp;lm=-1&amp;pn=10&amp;rn=1&amp;di=64052493570&amp;ln=637&amp;fr=&amp;fm=result&amp;fmq=1322743887156_R&amp;ic=0&amp;s=0&amp;se=1&amp;sme=0&amp;tab=&amp;width=&amp;height=&amp;face=0&amp;is=&amp;istype=2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4d7ea6fbd1869f34782e3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 txBox="1"/>
          <p:nvPr/>
        </p:nvSpPr>
        <p:spPr>
          <a:xfrm>
            <a:off x="6172200" y="3276720"/>
            <a:ext cx="609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3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43" name="图片 3" descr="lp6"/>
          <p:cNvPicPr/>
          <p:nvPr/>
        </p:nvPicPr>
        <p:blipFill>
          <a:blip r:embed="rId4"/>
          <a:stretch/>
        </p:blipFill>
        <p:spPr>
          <a:xfrm>
            <a:off x="7543800" y="4419720"/>
            <a:ext cx="1189080" cy="1692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 txBox="1"/>
          <p:nvPr/>
        </p:nvSpPr>
        <p:spPr>
          <a:xfrm rot="2293800">
            <a:off x="610920" y="3645000"/>
            <a:ext cx="523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矩形 5"/>
          <p:cNvSpPr txBox="1"/>
          <p:nvPr/>
        </p:nvSpPr>
        <p:spPr>
          <a:xfrm rot="20609400">
            <a:off x="6372000" y="4797360"/>
            <a:ext cx="5331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矩形 6"/>
          <p:cNvSpPr txBox="1"/>
          <p:nvPr/>
        </p:nvSpPr>
        <p:spPr>
          <a:xfrm>
            <a:off x="4716360" y="3716280"/>
            <a:ext cx="343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矩形 7"/>
          <p:cNvSpPr txBox="1"/>
          <p:nvPr/>
        </p:nvSpPr>
        <p:spPr>
          <a:xfrm rot="18225000">
            <a:off x="2314440" y="388584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34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6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34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矩形 8"/>
          <p:cNvSpPr txBox="1"/>
          <p:nvPr/>
        </p:nvSpPr>
        <p:spPr>
          <a:xfrm>
            <a:off x="4961160" y="4372560"/>
            <a:ext cx="47448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7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矩形 9"/>
          <p:cNvSpPr txBox="1"/>
          <p:nvPr/>
        </p:nvSpPr>
        <p:spPr>
          <a:xfrm rot="4080600">
            <a:off x="3868200" y="5788080"/>
            <a:ext cx="533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8</a:t>
            </a:r>
            <a:endParaRPr b="1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矩形 10"/>
          <p:cNvSpPr txBox="1"/>
          <p:nvPr/>
        </p:nvSpPr>
        <p:spPr>
          <a:xfrm rot="17565000">
            <a:off x="7522920" y="5964120"/>
            <a:ext cx="5889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5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1" name="矩形 11"/>
          <p:cNvSpPr txBox="1"/>
          <p:nvPr/>
        </p:nvSpPr>
        <p:spPr>
          <a:xfrm rot="5400000">
            <a:off x="1676520" y="57150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0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52" name="图片 12" descr="007"/>
          <p:cNvPicPr/>
          <p:nvPr/>
        </p:nvPicPr>
        <p:blipFill>
          <a:blip r:embed="rId7"/>
          <a:stretch/>
        </p:blipFill>
        <p:spPr>
          <a:xfrm>
            <a:off x="7020000" y="4149720"/>
            <a:ext cx="99036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1_clr"/>
          <p:cNvPicPr/>
          <p:nvPr/>
        </p:nvPicPr>
        <p:blipFill>
          <a:blip r:embed="rId8"/>
          <a:stretch/>
        </p:blipFill>
        <p:spPr>
          <a:xfrm>
            <a:off x="8229600" y="3733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019_JPG"/>
          <p:cNvPicPr/>
          <p:nvPr/>
        </p:nvPicPr>
        <p:blipFill>
          <a:blip r:embed="rId9"/>
          <a:stretch/>
        </p:blipFill>
        <p:spPr>
          <a:xfrm>
            <a:off x="3419640" y="4581360"/>
            <a:ext cx="685800" cy="5050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5" descr="19number02122"/>
          <p:cNvPicPr/>
          <p:nvPr/>
        </p:nvPicPr>
        <p:blipFill>
          <a:blip r:embed="rId10"/>
          <a:stretch/>
        </p:blipFill>
        <p:spPr>
          <a:xfrm>
            <a:off x="5867280" y="3645000"/>
            <a:ext cx="93348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6" descr=""/>
          <p:cNvPicPr/>
          <p:nvPr/>
        </p:nvPicPr>
        <p:blipFill>
          <a:blip r:embed="rId11"/>
          <a:stretch/>
        </p:blipFill>
        <p:spPr>
          <a:xfrm>
            <a:off x="10593360" y="235080"/>
            <a:ext cx="723960" cy="46656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7"/>
          <p:cNvSpPr/>
          <p:nvPr/>
        </p:nvSpPr>
        <p:spPr>
          <a:xfrm>
            <a:off x="755640" y="3284640"/>
            <a:ext cx="7920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  <a:ea typeface="新宋体"/>
              </a:rPr>
              <a:t>Lesson 19 I like fruit!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宋体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8"/>
          <p:cNvSpPr txBox="1"/>
          <p:nvPr/>
        </p:nvSpPr>
        <p:spPr>
          <a:xfrm>
            <a:off x="1116000" y="1484280"/>
            <a:ext cx="705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c99ff"/>
                  </a:solidFill>
                  <a:round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冀教版三年级英语下册课件</a:t>
            </a:r>
            <a:endParaRPr b="1" lang="en-US" sz="1800" spc="1" strike="noStrike">
              <a:ln w="12600">
                <a:solidFill>
                  <a:srgbClr val="cc99ff"/>
                </a:solidFill>
                <a:round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2011429138384765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280" y="836640"/>
            <a:ext cx="7931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 + five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32000" y="2924280"/>
            <a:ext cx="73548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if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te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2011429138384765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Seven + four 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宋体"/>
              </a:rPr>
              <a:t>elev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7920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What do you like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I like __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"/>
          <p:cNvSpPr txBox="1"/>
          <p:nvPr/>
        </p:nvSpPr>
        <p:spPr>
          <a:xfrm>
            <a:off x="395280" y="189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习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5" name="图片 4" descr="1036037699"/>
          <p:cNvPicPr/>
          <p:nvPr/>
        </p:nvPicPr>
        <p:blipFill>
          <a:blip r:embed="rId1"/>
          <a:stretch/>
        </p:blipFill>
        <p:spPr>
          <a:xfrm>
            <a:off x="179280" y="3500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5" descr="9002076_114034298130_2"/>
          <p:cNvPicPr/>
          <p:nvPr/>
        </p:nvPicPr>
        <p:blipFill>
          <a:blip r:embed="rId2"/>
          <a:stretch/>
        </p:blipFill>
        <p:spPr>
          <a:xfrm>
            <a:off x="1908000" y="3284640"/>
            <a:ext cx="1656000" cy="13096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6" descr="732473_125702847340_2"/>
          <p:cNvPicPr/>
          <p:nvPr/>
        </p:nvPicPr>
        <p:blipFill>
          <a:blip r:embed="rId3"/>
          <a:stretch/>
        </p:blipFill>
        <p:spPr>
          <a:xfrm>
            <a:off x="3851280" y="3429000"/>
            <a:ext cx="1800360" cy="1197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7" descr="4631113_174127002195_2"/>
          <p:cNvPicPr/>
          <p:nvPr/>
        </p:nvPicPr>
        <p:blipFill>
          <a:blip r:embed="rId4"/>
          <a:stretch/>
        </p:blipFill>
        <p:spPr>
          <a:xfrm>
            <a:off x="5867280" y="3284640"/>
            <a:ext cx="2233800" cy="1488960"/>
          </a:xfrm>
          <a:prstGeom prst="rect">
            <a:avLst/>
          </a:prstGeom>
          <a:ln w="0">
            <a:noFill/>
          </a:ln>
        </p:spPr>
      </p:pic>
      <p:sp>
        <p:nvSpPr>
          <p:cNvPr id="209" name="矩形 8"/>
          <p:cNvSpPr txBox="1"/>
          <p:nvPr/>
        </p:nvSpPr>
        <p:spPr>
          <a:xfrm>
            <a:off x="324000" y="46530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pple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矩形 9"/>
          <p:cNvSpPr txBox="1"/>
          <p:nvPr/>
        </p:nvSpPr>
        <p:spPr>
          <a:xfrm>
            <a:off x="4284720" y="4797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ear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1" name="矩形 10"/>
          <p:cNvSpPr txBox="1"/>
          <p:nvPr/>
        </p:nvSpPr>
        <p:spPr>
          <a:xfrm>
            <a:off x="6443640" y="49417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orange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2" name="矩形 11"/>
          <p:cNvSpPr txBox="1"/>
          <p:nvPr/>
        </p:nvSpPr>
        <p:spPr>
          <a:xfrm>
            <a:off x="2195640" y="479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anana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1"/>
          <p:cNvSpPr/>
          <p:nvPr/>
        </p:nvSpPr>
        <p:spPr>
          <a:xfrm>
            <a:off x="5508720" y="486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上八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2"/>
          <p:cNvSpPr/>
          <p:nvPr/>
        </p:nvSpPr>
        <p:spPr>
          <a:xfrm>
            <a:off x="2590920" y="1484280"/>
            <a:ext cx="4800600" cy="354492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sev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e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 txBox="1"/>
          <p:nvPr/>
        </p:nvSpPr>
        <p:spPr>
          <a:xfrm>
            <a:off x="179280" y="115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图猜成语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太阳形 1"/>
          <p:cNvSpPr/>
          <p:nvPr/>
        </p:nvSpPr>
        <p:spPr>
          <a:xfrm>
            <a:off x="900000" y="765000"/>
            <a:ext cx="7086600" cy="4267440"/>
          </a:xfrm>
          <a:prstGeom prst="sun">
            <a:avLst>
              <a:gd name="adj" fmla="val 25750"/>
            </a:avLst>
          </a:prstGeom>
          <a:solidFill>
            <a:srgbClr val="d8c3f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"/>
          <p:cNvSpPr/>
          <p:nvPr/>
        </p:nvSpPr>
        <p:spPr>
          <a:xfrm>
            <a:off x="3276720" y="23493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33"/>
                </a:solidFill>
                <a:uFillTx/>
                <a:latin typeface="Arial"/>
              </a:rPr>
              <a:t>T h r e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33"/>
                </a:solidFill>
                <a:uFillTx/>
                <a:latin typeface="Arial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"/>
          <p:cNvSpPr/>
          <p:nvPr/>
        </p:nvSpPr>
        <p:spPr>
          <a:xfrm>
            <a:off x="5867280" y="49417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长两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 txBox="1"/>
          <p:nvPr/>
        </p:nvSpPr>
        <p:spPr>
          <a:xfrm>
            <a:off x="179280" y="115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图猜成语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闪电形 1"/>
          <p:cNvSpPr/>
          <p:nvPr/>
        </p:nvSpPr>
        <p:spPr>
          <a:xfrm rot="20917800">
            <a:off x="1402920" y="549000"/>
            <a:ext cx="6782040" cy="5943600"/>
          </a:xfrm>
          <a:prstGeom prst="lightningBol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 rot="10548600">
            <a:off x="2555640" y="16974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Arial"/>
              </a:rPr>
              <a:t>Th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3"/>
          <p:cNvSpPr/>
          <p:nvPr/>
        </p:nvSpPr>
        <p:spPr>
          <a:xfrm rot="10368000">
            <a:off x="3925800" y="277884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Arial"/>
              </a:rPr>
              <a:t>f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4"/>
          <p:cNvSpPr/>
          <p:nvPr/>
        </p:nvSpPr>
        <p:spPr>
          <a:xfrm>
            <a:off x="519120" y="4875120"/>
            <a:ext cx="26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颠三倒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折角形 1"/>
          <p:cNvSpPr/>
          <p:nvPr/>
        </p:nvSpPr>
        <p:spPr>
          <a:xfrm>
            <a:off x="2195640" y="1341360"/>
            <a:ext cx="4392360" cy="3529080"/>
          </a:xfrm>
          <a:prstGeom prst="foldedCorner">
            <a:avLst>
              <a:gd name="adj" fmla="val 12500"/>
            </a:avLst>
          </a:prstGeom>
          <a:solidFill>
            <a:srgbClr val="cc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"/>
          <p:cNvSpPr/>
          <p:nvPr/>
        </p:nvSpPr>
        <p:spPr>
          <a:xfrm>
            <a:off x="2700360" y="256536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"/>
          <p:cNvSpPr/>
          <p:nvPr/>
        </p:nvSpPr>
        <p:spPr>
          <a:xfrm rot="5400000">
            <a:off x="4856760" y="254484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"/>
          <p:cNvSpPr/>
          <p:nvPr/>
        </p:nvSpPr>
        <p:spPr>
          <a:xfrm>
            <a:off x="6811200" y="501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横七竖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20116191729736945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2"/>
          <p:cNvSpPr/>
          <p:nvPr/>
        </p:nvSpPr>
        <p:spPr>
          <a:xfrm>
            <a:off x="762120" y="114300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r>
              <a:rPr b="0" lang="en-US" sz="9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"/>
          <p:cNvSpPr txBox="1"/>
          <p:nvPr/>
        </p:nvSpPr>
        <p:spPr>
          <a:xfrm>
            <a:off x="2171880" y="2971800"/>
            <a:ext cx="480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ln w="0">
                  <a:noFill/>
                </a:ln>
                <a:solidFill>
                  <a:srgbClr val="009999">
                    <a:alpha val="50000"/>
                  </a:srgbClr>
                </a:solidFill>
                <a:latin typeface="宋体"/>
              </a:rPr>
              <a:t>BYEBYE</a:t>
            </a:r>
            <a:endParaRPr b="1" lang="en-US" sz="8000" spc="-1" strike="noStrike">
              <a:ln w="0">
                <a:noFill/>
              </a:ln>
              <a:solidFill>
                <a:srgbClr val="009999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2008109154622158_2"/>
          <p:cNvPicPr/>
          <p:nvPr/>
        </p:nvPicPr>
        <p:blipFill>
          <a:blip r:embed="rId1"/>
          <a:srcRect l="0" t="68612" r="0" b="0"/>
          <a:stretch/>
        </p:blipFill>
        <p:spPr>
          <a:xfrm>
            <a:off x="539640" y="692280"/>
            <a:ext cx="1728720" cy="1083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2007113172855834_2"/>
          <p:cNvPicPr/>
          <p:nvPr/>
        </p:nvPicPr>
        <p:blipFill>
          <a:blip r:embed="rId2"/>
          <a:stretch/>
        </p:blipFill>
        <p:spPr>
          <a:xfrm rot="301200">
            <a:off x="7020000" y="450972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2007815212152465_2"/>
          <p:cNvPicPr/>
          <p:nvPr/>
        </p:nvPicPr>
        <p:blipFill>
          <a:blip r:embed="rId3"/>
          <a:srcRect l="40169" t="0" r="39417" b="70200"/>
          <a:stretch/>
        </p:blipFill>
        <p:spPr>
          <a:xfrm>
            <a:off x="3492360" y="62064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2139314_123527054583_1"/>
          <p:cNvPicPr/>
          <p:nvPr/>
        </p:nvPicPr>
        <p:blipFill>
          <a:blip r:embed="rId4"/>
          <a:srcRect l="0" t="24773" r="7248" b="24773"/>
          <a:stretch/>
        </p:blipFill>
        <p:spPr>
          <a:xfrm>
            <a:off x="1763640" y="2724120"/>
            <a:ext cx="1944720" cy="14968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20071210104555103_2"/>
          <p:cNvPicPr/>
          <p:nvPr/>
        </p:nvPicPr>
        <p:blipFill>
          <a:blip r:embed="rId5"/>
          <a:stretch/>
        </p:blipFill>
        <p:spPr>
          <a:xfrm>
            <a:off x="5148360" y="2703600"/>
            <a:ext cx="1585800" cy="1373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5264044_131331006849_2"/>
          <p:cNvPicPr/>
          <p:nvPr/>
        </p:nvPicPr>
        <p:blipFill>
          <a:blip r:embed="rId6"/>
          <a:srcRect l="3125" t="0" r="0" b="58005"/>
          <a:stretch/>
        </p:blipFill>
        <p:spPr>
          <a:xfrm>
            <a:off x="3041640" y="4776840"/>
            <a:ext cx="2825640" cy="9572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1212180_125251057943_2"/>
          <p:cNvPicPr/>
          <p:nvPr/>
        </p:nvPicPr>
        <p:blipFill>
          <a:blip r:embed="rId7"/>
          <a:srcRect l="6748" t="47015" r="3494" b="8790"/>
          <a:stretch/>
        </p:blipFill>
        <p:spPr>
          <a:xfrm>
            <a:off x="395280" y="4649760"/>
            <a:ext cx="1944720" cy="12524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8" descr="u=1732440506,1720417628&amp;fm=0&amp;gp=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48360" y="765000"/>
            <a:ext cx="1189080" cy="122400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9"/>
          <p:cNvSpPr/>
          <p:nvPr/>
        </p:nvSpPr>
        <p:spPr>
          <a:xfrm>
            <a:off x="433440" y="0"/>
            <a:ext cx="6883200" cy="5814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n you find the numbers ?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你能找到隐藏的数字吗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71640" y="2565360"/>
            <a:ext cx="1296720" cy="360"/>
            <a:chOff x="971640" y="2565360"/>
            <a:chExt cx="1296720" cy="360"/>
          </a:xfrm>
        </p:grpSpPr>
        <p:sp>
          <p:nvSpPr>
            <p:cNvPr id="69" name="直接连接符 10"/>
            <p:cNvSpPr/>
            <p:nvPr/>
          </p:nvSpPr>
          <p:spPr>
            <a:xfrm>
              <a:off x="971640" y="256536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971640" y="2565360"/>
              <a:ext cx="129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635280" y="2560680"/>
            <a:ext cx="1297080" cy="360"/>
            <a:chOff x="3635280" y="2560680"/>
            <a:chExt cx="1297080" cy="360"/>
          </a:xfrm>
        </p:grpSpPr>
        <p:sp>
          <p:nvSpPr>
            <p:cNvPr id="72" name="直接连接符 11"/>
            <p:cNvSpPr/>
            <p:nvPr/>
          </p:nvSpPr>
          <p:spPr>
            <a:xfrm>
              <a:off x="3635280" y="256068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635280" y="256068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948360" y="6405480"/>
            <a:ext cx="1297080" cy="360"/>
            <a:chOff x="6948360" y="6405480"/>
            <a:chExt cx="1297080" cy="360"/>
          </a:xfrm>
        </p:grpSpPr>
        <p:sp>
          <p:nvSpPr>
            <p:cNvPr id="75" name="直接连接符 12"/>
            <p:cNvSpPr/>
            <p:nvPr/>
          </p:nvSpPr>
          <p:spPr>
            <a:xfrm>
              <a:off x="6948360" y="640548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6948360" y="640548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54200" y="6423120"/>
            <a:ext cx="1296720" cy="360"/>
            <a:chOff x="754200" y="6423120"/>
            <a:chExt cx="1296720" cy="360"/>
          </a:xfrm>
        </p:grpSpPr>
        <p:sp>
          <p:nvSpPr>
            <p:cNvPr id="78" name="直接连接符 13"/>
            <p:cNvSpPr/>
            <p:nvPr/>
          </p:nvSpPr>
          <p:spPr>
            <a:xfrm>
              <a:off x="754200" y="642312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754200" y="6423120"/>
              <a:ext cx="129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875640" y="2563920"/>
            <a:ext cx="1296720" cy="360"/>
            <a:chOff x="6875640" y="2563920"/>
            <a:chExt cx="1296720" cy="360"/>
          </a:xfrm>
        </p:grpSpPr>
        <p:sp>
          <p:nvSpPr>
            <p:cNvPr id="81" name="直接连接符 14"/>
            <p:cNvSpPr/>
            <p:nvPr/>
          </p:nvSpPr>
          <p:spPr>
            <a:xfrm>
              <a:off x="6875640" y="256392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6875640" y="2563920"/>
              <a:ext cx="129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195640" y="4653000"/>
            <a:ext cx="1296720" cy="360"/>
            <a:chOff x="2195640" y="4653000"/>
            <a:chExt cx="1296720" cy="360"/>
          </a:xfrm>
        </p:grpSpPr>
        <p:sp>
          <p:nvSpPr>
            <p:cNvPr id="84" name="直接连接符 15"/>
            <p:cNvSpPr/>
            <p:nvPr/>
          </p:nvSpPr>
          <p:spPr>
            <a:xfrm>
              <a:off x="2195640" y="465300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195640" y="4653000"/>
              <a:ext cx="129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708360" y="6470640"/>
            <a:ext cx="1297080" cy="360"/>
            <a:chOff x="3708360" y="6470640"/>
            <a:chExt cx="1297080" cy="360"/>
          </a:xfrm>
        </p:grpSpPr>
        <p:sp>
          <p:nvSpPr>
            <p:cNvPr id="87" name="直接连接符 16"/>
            <p:cNvSpPr/>
            <p:nvPr/>
          </p:nvSpPr>
          <p:spPr>
            <a:xfrm>
              <a:off x="3708360" y="647064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3708360" y="647064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62560" y="4605480"/>
            <a:ext cx="1297080" cy="360"/>
            <a:chOff x="5362560" y="4605480"/>
            <a:chExt cx="1297080" cy="360"/>
          </a:xfrm>
        </p:grpSpPr>
        <p:sp>
          <p:nvSpPr>
            <p:cNvPr id="90" name="直接连接符 17"/>
            <p:cNvSpPr/>
            <p:nvPr/>
          </p:nvSpPr>
          <p:spPr>
            <a:xfrm>
              <a:off x="5362560" y="460548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5362560" y="460548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8"/>
          <p:cNvSpPr/>
          <p:nvPr/>
        </p:nvSpPr>
        <p:spPr>
          <a:xfrm>
            <a:off x="915840" y="1963800"/>
            <a:ext cx="11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9"/>
          <p:cNvSpPr/>
          <p:nvPr/>
        </p:nvSpPr>
        <p:spPr>
          <a:xfrm>
            <a:off x="6958080" y="5805360"/>
            <a:ext cx="11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0"/>
          <p:cNvSpPr/>
          <p:nvPr/>
        </p:nvSpPr>
        <p:spPr>
          <a:xfrm>
            <a:off x="635400" y="5823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1"/>
          <p:cNvSpPr/>
          <p:nvPr/>
        </p:nvSpPr>
        <p:spPr>
          <a:xfrm>
            <a:off x="3634560" y="1960560"/>
            <a:ext cx="11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2"/>
          <p:cNvSpPr/>
          <p:nvPr/>
        </p:nvSpPr>
        <p:spPr>
          <a:xfrm>
            <a:off x="6864840" y="1963800"/>
            <a:ext cx="12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3"/>
          <p:cNvSpPr/>
          <p:nvPr/>
        </p:nvSpPr>
        <p:spPr>
          <a:xfrm>
            <a:off x="2035080" y="4048200"/>
            <a:ext cx="156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4"/>
          <p:cNvSpPr/>
          <p:nvPr/>
        </p:nvSpPr>
        <p:spPr>
          <a:xfrm>
            <a:off x="3564720" y="589608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5"/>
          <p:cNvSpPr/>
          <p:nvPr/>
        </p:nvSpPr>
        <p:spPr>
          <a:xfrm>
            <a:off x="5503680" y="4005360"/>
            <a:ext cx="8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manypens"/>
          <p:cNvPicPr/>
          <p:nvPr/>
        </p:nvPicPr>
        <p:blipFill>
          <a:blip r:embed="rId1"/>
          <a:stretch/>
        </p:blipFill>
        <p:spPr>
          <a:xfrm>
            <a:off x="2771640" y="2781360"/>
            <a:ext cx="3816360" cy="370368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2"/>
          <p:cNvSpPr/>
          <p:nvPr/>
        </p:nvSpPr>
        <p:spPr>
          <a:xfrm>
            <a:off x="755640" y="333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n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757440" y="1413000"/>
            <a:ext cx="22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s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"/>
          <p:cNvSpPr/>
          <p:nvPr/>
        </p:nvSpPr>
        <p:spPr>
          <a:xfrm>
            <a:off x="3419640" y="1268280"/>
            <a:ext cx="4176720" cy="10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ff"/>
                </a:solidFill>
                <a:latin typeface="Arial"/>
              </a:rPr>
              <a:t>nine  pens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 txBox="1"/>
          <p:nvPr/>
        </p:nvSpPr>
        <p:spPr>
          <a:xfrm>
            <a:off x="2700360" y="33336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ear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7" name="组合 4"/>
          <p:cNvGrpSpPr/>
          <p:nvPr/>
        </p:nvGrpSpPr>
        <p:grpSpPr>
          <a:xfrm>
            <a:off x="0" y="1557360"/>
            <a:ext cx="7775640" cy="4608360"/>
            <a:chOff x="0" y="1557360"/>
            <a:chExt cx="7775640" cy="4608360"/>
          </a:xfrm>
        </p:grpSpPr>
        <p:pic>
          <p:nvPicPr>
            <p:cNvPr id="108" name="图片 5" descr="3907875_171913270111_2"/>
            <p:cNvPicPr/>
            <p:nvPr/>
          </p:nvPicPr>
          <p:blipFill>
            <a:blip r:embed="rId1"/>
            <a:stretch/>
          </p:blipFill>
          <p:spPr>
            <a:xfrm>
              <a:off x="1908000" y="1557360"/>
              <a:ext cx="5867640" cy="33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矩形 6"/>
            <p:cNvSpPr txBox="1"/>
            <p:nvPr/>
          </p:nvSpPr>
          <p:spPr>
            <a:xfrm>
              <a:off x="0" y="4365720"/>
              <a:ext cx="450072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eleven</a:t>
              </a:r>
              <a:endPara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10" name="矩形 7"/>
          <p:cNvSpPr txBox="1"/>
          <p:nvPr/>
        </p:nvSpPr>
        <p:spPr>
          <a:xfrm>
            <a:off x="5364000" y="5013360"/>
            <a:ext cx="331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ears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 txBox="1"/>
          <p:nvPr/>
        </p:nvSpPr>
        <p:spPr>
          <a:xfrm>
            <a:off x="2195640" y="33336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orange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12" name="组合 2"/>
          <p:cNvGrpSpPr/>
          <p:nvPr/>
        </p:nvGrpSpPr>
        <p:grpSpPr>
          <a:xfrm>
            <a:off x="395280" y="1630440"/>
            <a:ext cx="7416720" cy="3954240"/>
            <a:chOff x="395280" y="1630440"/>
            <a:chExt cx="7416720" cy="3954240"/>
          </a:xfrm>
        </p:grpSpPr>
        <p:grpSp>
          <p:nvGrpSpPr>
            <p:cNvPr id="113" name="组合 3"/>
            <p:cNvGrpSpPr/>
            <p:nvPr/>
          </p:nvGrpSpPr>
          <p:grpSpPr>
            <a:xfrm>
              <a:off x="826920" y="1630440"/>
              <a:ext cx="6985080" cy="1863720"/>
              <a:chOff x="826920" y="1630440"/>
              <a:chExt cx="6985080" cy="1863720"/>
            </a:xfrm>
          </p:grpSpPr>
          <p:pic>
            <p:nvPicPr>
              <p:cNvPr id="114" name="图片 4" descr="62fb7f28704a0bb32938c1f6cf303eb3"/>
              <p:cNvPicPr/>
              <p:nvPr/>
            </p:nvPicPr>
            <p:blipFill>
              <a:blip r:embed="rId1"/>
              <a:stretch/>
            </p:blipFill>
            <p:spPr>
              <a:xfrm>
                <a:off x="6514920" y="2638440"/>
                <a:ext cx="1297080" cy="85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" name="组合 5"/>
              <p:cNvGrpSpPr/>
              <p:nvPr/>
            </p:nvGrpSpPr>
            <p:grpSpPr>
              <a:xfrm>
                <a:off x="826920" y="1630440"/>
                <a:ext cx="6913080" cy="1863720"/>
                <a:chOff x="826920" y="1630440"/>
                <a:chExt cx="6913080" cy="1863720"/>
              </a:xfrm>
            </p:grpSpPr>
            <p:pic>
              <p:nvPicPr>
                <p:cNvPr id="116" name="图片 6" descr="62fb7f28704a0bb32938c1f6cf303eb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98200" y="1630440"/>
                  <a:ext cx="129636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图片 7" descr="62fb7f28704a0bb32938c1f6cf303eb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11280" y="256536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图片 8" descr="62fb7f28704a0bb32938c1f6cf303eb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26920" y="256536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图片 9" descr="62fb7f28704a0bb32938c1f6cf303eb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23640" y="249408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图片 10" descr="62fb7f28704a0bb32938c1f6cf303eb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50560" y="163044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图片 11" descr="62fb7f28704a0bb32938c1f6cf303eb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211280" y="170172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图片 12" descr="62fb7f28704a0bb32938c1f6cf303eb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058560" y="256536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图片 13" descr="62fb7f28704a0bb32938c1f6cf303eb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90560" y="263844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图片 14" descr="62fb7f28704a0bb32938c1f6cf303eb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987280" y="163044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图片 15" descr="62fb7f28704a0bb32938c1f6cf303eb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290560" y="177336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图片 16" descr="62fb7f28704a0bb32938c1f6cf303eb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443280" y="1846440"/>
                  <a:ext cx="1296720" cy="85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7" name="矩形 17"/>
            <p:cNvSpPr txBox="1"/>
            <p:nvPr/>
          </p:nvSpPr>
          <p:spPr>
            <a:xfrm>
              <a:off x="395280" y="4365720"/>
              <a:ext cx="371484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twelve</a:t>
              </a:r>
              <a:endPara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28" name="矩形 18"/>
          <p:cNvSpPr txBox="1"/>
          <p:nvPr/>
        </p:nvSpPr>
        <p:spPr>
          <a:xfrm>
            <a:off x="4643280" y="4653000"/>
            <a:ext cx="3888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oranges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 txBox="1"/>
          <p:nvPr/>
        </p:nvSpPr>
        <p:spPr>
          <a:xfrm>
            <a:off x="2484360" y="33336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pple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0" name="组合 2"/>
          <p:cNvGrpSpPr/>
          <p:nvPr/>
        </p:nvGrpSpPr>
        <p:grpSpPr>
          <a:xfrm>
            <a:off x="0" y="1700280"/>
            <a:ext cx="7812000" cy="3884400"/>
            <a:chOff x="0" y="1700280"/>
            <a:chExt cx="7812000" cy="3884400"/>
          </a:xfrm>
        </p:grpSpPr>
        <p:grpSp>
          <p:nvGrpSpPr>
            <p:cNvPr id="131" name="组合 3"/>
            <p:cNvGrpSpPr/>
            <p:nvPr/>
          </p:nvGrpSpPr>
          <p:grpSpPr>
            <a:xfrm>
              <a:off x="539640" y="1700280"/>
              <a:ext cx="7272360" cy="1907640"/>
              <a:chOff x="539640" y="1700280"/>
              <a:chExt cx="7272360" cy="1907640"/>
            </a:xfrm>
          </p:grpSpPr>
          <p:grpSp>
            <p:nvGrpSpPr>
              <p:cNvPr id="132" name="组合 4"/>
              <p:cNvGrpSpPr/>
              <p:nvPr/>
            </p:nvGrpSpPr>
            <p:grpSpPr>
              <a:xfrm>
                <a:off x="539640" y="1700280"/>
                <a:ext cx="7272360" cy="1907640"/>
                <a:chOff x="539640" y="1700280"/>
                <a:chExt cx="7272360" cy="1907640"/>
              </a:xfrm>
            </p:grpSpPr>
            <p:pic>
              <p:nvPicPr>
                <p:cNvPr id="133" name="图片 5" descr="1036037699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1280" y="170028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图片 6" descr="1036037699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63640" y="177300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图片 7" descr="103603769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9640" y="263664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图片 8" descr="1036037699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44720" y="270792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图片 9" descr="1036037699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63640" y="270792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图片 10" descr="103603769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771640" y="1844280"/>
                  <a:ext cx="100836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图片 11" descr="1036037699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24360" y="278100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图片 12" descr="1036037699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03640" y="2852640"/>
                  <a:ext cx="100836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图片 13" descr="1036037699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940360" y="278100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图片 14" descr="1036037699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708360" y="191592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图片 15" descr="1036037699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716360" y="191592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图片 16" descr="1036037699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04000" y="1989000"/>
                  <a:ext cx="10080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5" name="图片 17" descr="1036037699"/>
              <p:cNvPicPr/>
              <p:nvPr/>
            </p:nvPicPr>
            <p:blipFill>
              <a:blip r:embed="rId13"/>
              <a:stretch/>
            </p:blipFill>
            <p:spPr>
              <a:xfrm>
                <a:off x="5724360" y="191592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矩形 18"/>
            <p:cNvSpPr txBox="1"/>
            <p:nvPr/>
          </p:nvSpPr>
          <p:spPr>
            <a:xfrm>
              <a:off x="0" y="4365720"/>
              <a:ext cx="495288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thirteen</a:t>
              </a:r>
              <a:endPara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47" name="矩形 19"/>
          <p:cNvSpPr txBox="1"/>
          <p:nvPr/>
        </p:nvSpPr>
        <p:spPr>
          <a:xfrm>
            <a:off x="5364000" y="4292640"/>
            <a:ext cx="3311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pples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 txBox="1"/>
          <p:nvPr/>
        </p:nvSpPr>
        <p:spPr>
          <a:xfrm>
            <a:off x="1476360" y="260280"/>
            <a:ext cx="6095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atermelon</a:t>
            </a:r>
            <a:endParaRPr b="0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矩形 2"/>
          <p:cNvSpPr txBox="1"/>
          <p:nvPr/>
        </p:nvSpPr>
        <p:spPr>
          <a:xfrm>
            <a:off x="5724360" y="4797360"/>
            <a:ext cx="302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atermelons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50" name="组合 3"/>
          <p:cNvGrpSpPr/>
          <p:nvPr/>
        </p:nvGrpSpPr>
        <p:grpSpPr>
          <a:xfrm>
            <a:off x="324000" y="1916280"/>
            <a:ext cx="7993080" cy="3809520"/>
            <a:chOff x="324000" y="1916280"/>
            <a:chExt cx="7993080" cy="3809520"/>
          </a:xfrm>
        </p:grpSpPr>
        <p:sp>
          <p:nvSpPr>
            <p:cNvPr id="151" name="矩形 4"/>
            <p:cNvSpPr txBox="1"/>
            <p:nvPr/>
          </p:nvSpPr>
          <p:spPr>
            <a:xfrm>
              <a:off x="324000" y="4506840"/>
              <a:ext cx="495324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fourteen</a:t>
              </a:r>
              <a:endPara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52" name="组合 5"/>
            <p:cNvGrpSpPr/>
            <p:nvPr/>
          </p:nvGrpSpPr>
          <p:grpSpPr>
            <a:xfrm>
              <a:off x="1044720" y="1916280"/>
              <a:ext cx="7272360" cy="1755720"/>
              <a:chOff x="1044720" y="1916280"/>
              <a:chExt cx="7272360" cy="1755720"/>
            </a:xfrm>
          </p:grpSpPr>
          <p:pic>
            <p:nvPicPr>
              <p:cNvPr id="153" name="图片 6" descr="2007101414555737_2"/>
              <p:cNvPicPr/>
              <p:nvPr/>
            </p:nvPicPr>
            <p:blipFill>
              <a:blip r:embed="rId1"/>
              <a:stretch/>
            </p:blipFill>
            <p:spPr>
              <a:xfrm>
                <a:off x="7164720" y="2853000"/>
                <a:ext cx="1152360" cy="819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" name="组合 7"/>
              <p:cNvGrpSpPr/>
              <p:nvPr/>
            </p:nvGrpSpPr>
            <p:grpSpPr>
              <a:xfrm>
                <a:off x="1044720" y="1916280"/>
                <a:ext cx="7272360" cy="1755720"/>
                <a:chOff x="1044720" y="1916280"/>
                <a:chExt cx="7272360" cy="1755720"/>
              </a:xfrm>
            </p:grpSpPr>
            <p:pic>
              <p:nvPicPr>
                <p:cNvPr id="155" name="图片 8" descr="2007101414555737_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68720" y="1989360"/>
                  <a:ext cx="115272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图片 9" descr="2007101414555737_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44720" y="1916280"/>
                  <a:ext cx="115272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图片 10" descr="2007101414555737_2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95640" y="2853000"/>
                  <a:ext cx="115272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图片 11" descr="2007101414555737_2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440" y="1989360"/>
                  <a:ext cx="115236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图片 12" descr="2007101414555737_2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44720" y="2853000"/>
                  <a:ext cx="115272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图片 13" descr="2007101414555737_2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32360" y="2853000"/>
                  <a:ext cx="115272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图片 14" descr="2007101414555737_2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140360" y="2853000"/>
                  <a:ext cx="115272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图片 15" descr="2007101414555737_2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21440" y="2853000"/>
                  <a:ext cx="115272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图片 16" descr="2007101414555737_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085080" y="2853000"/>
                  <a:ext cx="115272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图片 17" descr="2007101414555737_2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356360" y="1989360"/>
                  <a:ext cx="115236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图片 18" descr="2007101414555737_2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293080" y="1989360"/>
                  <a:ext cx="115236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图片 19" descr="2007101414555737_2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229440" y="1916280"/>
                  <a:ext cx="115272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图片 20" descr="2007101414555737_2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164720" y="1916280"/>
                  <a:ext cx="115236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 txBox="1"/>
          <p:nvPr/>
        </p:nvSpPr>
        <p:spPr>
          <a:xfrm>
            <a:off x="2195640" y="404640"/>
            <a:ext cx="43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anana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69" name="组合 2"/>
          <p:cNvGrpSpPr/>
          <p:nvPr/>
        </p:nvGrpSpPr>
        <p:grpSpPr>
          <a:xfrm>
            <a:off x="324000" y="1989000"/>
            <a:ext cx="7489440" cy="3306960"/>
            <a:chOff x="324000" y="1989000"/>
            <a:chExt cx="7489440" cy="3306960"/>
          </a:xfrm>
        </p:grpSpPr>
        <p:grpSp>
          <p:nvGrpSpPr>
            <p:cNvPr id="170" name="组合 3"/>
            <p:cNvGrpSpPr/>
            <p:nvPr/>
          </p:nvGrpSpPr>
          <p:grpSpPr>
            <a:xfrm>
              <a:off x="900000" y="1989000"/>
              <a:ext cx="6913440" cy="1694160"/>
              <a:chOff x="900000" y="1989000"/>
              <a:chExt cx="6913440" cy="1694160"/>
            </a:xfrm>
          </p:grpSpPr>
          <p:grpSp>
            <p:nvGrpSpPr>
              <p:cNvPr id="171" name="组合 4"/>
              <p:cNvGrpSpPr/>
              <p:nvPr/>
            </p:nvGrpSpPr>
            <p:grpSpPr>
              <a:xfrm>
                <a:off x="900000" y="1989000"/>
                <a:ext cx="4680000" cy="1551240"/>
                <a:chOff x="900000" y="1989000"/>
                <a:chExt cx="4680000" cy="1551240"/>
              </a:xfrm>
            </p:grpSpPr>
            <p:pic>
              <p:nvPicPr>
                <p:cNvPr id="172" name="图片 5" descr="544302_182850152000_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00000" y="1989000"/>
                  <a:ext cx="2376360" cy="155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图片 6" descr="544302_182850152000_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03640" y="1989000"/>
                  <a:ext cx="2376360" cy="1551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4" name="图片 7" descr="544302_182850152000_2"/>
              <p:cNvPicPr/>
              <p:nvPr/>
            </p:nvPicPr>
            <p:blipFill>
              <a:blip r:embed="rId3"/>
              <a:stretch/>
            </p:blipFill>
            <p:spPr>
              <a:xfrm>
                <a:off x="5437080" y="2131920"/>
                <a:ext cx="2376360" cy="155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矩形 8"/>
            <p:cNvSpPr txBox="1"/>
            <p:nvPr/>
          </p:nvSpPr>
          <p:spPr>
            <a:xfrm>
              <a:off x="324000" y="4076640"/>
              <a:ext cx="433368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fifteen</a:t>
              </a:r>
              <a:endParaRPr b="1" lang="en-US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6" name="矩形 9"/>
          <p:cNvSpPr txBox="1"/>
          <p:nvPr/>
        </p:nvSpPr>
        <p:spPr>
          <a:xfrm>
            <a:off x="5364000" y="4149720"/>
            <a:ext cx="316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ananas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1"/>
          <p:cNvSpPr/>
          <p:nvPr/>
        </p:nvSpPr>
        <p:spPr>
          <a:xfrm>
            <a:off x="611280" y="1557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apple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n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"/>
          <p:cNvSpPr/>
          <p:nvPr/>
        </p:nvSpPr>
        <p:spPr>
          <a:xfrm>
            <a:off x="905040" y="2708280"/>
            <a:ext cx="50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see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"/>
          <p:cNvSpPr/>
          <p:nvPr/>
        </p:nvSpPr>
        <p:spPr>
          <a:xfrm>
            <a:off x="3203640" y="2349360"/>
            <a:ext cx="3168720" cy="10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ff"/>
                </a:solidFill>
                <a:latin typeface="Arial"/>
              </a:rPr>
              <a:t>thirt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4"/>
          <p:cNvGrpSpPr/>
          <p:nvPr/>
        </p:nvGrpSpPr>
        <p:grpSpPr>
          <a:xfrm>
            <a:off x="971640" y="4005360"/>
            <a:ext cx="7272360" cy="1907640"/>
            <a:chOff x="971640" y="4005360"/>
            <a:chExt cx="7272360" cy="1907640"/>
          </a:xfrm>
        </p:grpSpPr>
        <p:grpSp>
          <p:nvGrpSpPr>
            <p:cNvPr id="181" name="组合 5"/>
            <p:cNvGrpSpPr/>
            <p:nvPr/>
          </p:nvGrpSpPr>
          <p:grpSpPr>
            <a:xfrm>
              <a:off x="971640" y="4005360"/>
              <a:ext cx="7272360" cy="1907640"/>
              <a:chOff x="971640" y="4005360"/>
              <a:chExt cx="7272360" cy="1907640"/>
            </a:xfrm>
          </p:grpSpPr>
          <p:pic>
            <p:nvPicPr>
              <p:cNvPr id="182" name="图片 6" descr="1036037699"/>
              <p:cNvPicPr/>
              <p:nvPr/>
            </p:nvPicPr>
            <p:blipFill>
              <a:blip r:embed="rId1"/>
              <a:stretch/>
            </p:blipFill>
            <p:spPr>
              <a:xfrm>
                <a:off x="1043280" y="400536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图片 7" descr="1036037699"/>
              <p:cNvPicPr/>
              <p:nvPr/>
            </p:nvPicPr>
            <p:blipFill>
              <a:blip r:embed="rId2"/>
              <a:stretch/>
            </p:blipFill>
            <p:spPr>
              <a:xfrm>
                <a:off x="2195640" y="407808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图片 8" descr="1036037699"/>
              <p:cNvPicPr/>
              <p:nvPr/>
            </p:nvPicPr>
            <p:blipFill>
              <a:blip r:embed="rId3"/>
              <a:stretch/>
            </p:blipFill>
            <p:spPr>
              <a:xfrm>
                <a:off x="971640" y="494172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图片 9" descr="1036037699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501300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图片 10" descr="1036037699"/>
              <p:cNvPicPr/>
              <p:nvPr/>
            </p:nvPicPr>
            <p:blipFill>
              <a:blip r:embed="rId5"/>
              <a:stretch/>
            </p:blipFill>
            <p:spPr>
              <a:xfrm>
                <a:off x="2195640" y="501300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图片 11" descr="1036037699"/>
              <p:cNvPicPr/>
              <p:nvPr/>
            </p:nvPicPr>
            <p:blipFill>
              <a:blip r:embed="rId6"/>
              <a:stretch/>
            </p:blipFill>
            <p:spPr>
              <a:xfrm>
                <a:off x="3203640" y="4149360"/>
                <a:ext cx="100836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图片 12" descr="1036037699"/>
              <p:cNvPicPr/>
              <p:nvPr/>
            </p:nvPicPr>
            <p:blipFill>
              <a:blip r:embed="rId7"/>
              <a:stretch/>
            </p:blipFill>
            <p:spPr>
              <a:xfrm>
                <a:off x="4356360" y="508608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图片 13" descr="1036037699"/>
              <p:cNvPicPr/>
              <p:nvPr/>
            </p:nvPicPr>
            <p:blipFill>
              <a:blip r:embed="rId8"/>
              <a:stretch/>
            </p:blipFill>
            <p:spPr>
              <a:xfrm>
                <a:off x="5435640" y="5157720"/>
                <a:ext cx="100836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图片 14" descr="1036037699"/>
              <p:cNvPicPr/>
              <p:nvPr/>
            </p:nvPicPr>
            <p:blipFill>
              <a:blip r:embed="rId9"/>
              <a:stretch/>
            </p:blipFill>
            <p:spPr>
              <a:xfrm>
                <a:off x="6372360" y="508608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图片 15" descr="1036037699"/>
              <p:cNvPicPr/>
              <p:nvPr/>
            </p:nvPicPr>
            <p:blipFill>
              <a:blip r:embed="rId10"/>
              <a:stretch/>
            </p:blipFill>
            <p:spPr>
              <a:xfrm>
                <a:off x="4140360" y="422100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图片 16" descr="1036037699"/>
              <p:cNvPicPr/>
              <p:nvPr/>
            </p:nvPicPr>
            <p:blipFill>
              <a:blip r:embed="rId11"/>
              <a:stretch/>
            </p:blipFill>
            <p:spPr>
              <a:xfrm>
                <a:off x="5148360" y="422100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图片 17" descr="1036037699"/>
              <p:cNvPicPr/>
              <p:nvPr/>
            </p:nvPicPr>
            <p:blipFill>
              <a:blip r:embed="rId12"/>
              <a:stretch/>
            </p:blipFill>
            <p:spPr>
              <a:xfrm>
                <a:off x="7236000" y="4294080"/>
                <a:ext cx="1008000" cy="755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4" name="图片 18" descr="1036037699"/>
            <p:cNvPicPr/>
            <p:nvPr/>
          </p:nvPicPr>
          <p:blipFill>
            <a:blip r:embed="rId13"/>
            <a:stretch/>
          </p:blipFill>
          <p:spPr>
            <a:xfrm>
              <a:off x="6156360" y="4221000"/>
              <a:ext cx="1008000" cy="75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矩形 19"/>
          <p:cNvSpPr txBox="1"/>
          <p:nvPr/>
        </p:nvSpPr>
        <p:spPr>
          <a:xfrm>
            <a:off x="324000" y="404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01:13:28Z</dcterms:created>
  <dc:creator>Lenovo User</dc:creator>
  <dc:description/>
  <dc:language>en-US</dc:language>
  <cp:lastModifiedBy>acer1</cp:lastModifiedBy>
  <dcterms:modified xsi:type="dcterms:W3CDTF">2015-10-16T02:59:34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