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E6D-DA9D-4CA8-A27D-6BC1630A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3B0-3B33-4AA3-B1A2-C958EE00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D41-EC14-49D8-A3CF-2E3314E3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A24-20C7-4BAF-B568-9AFA8736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637-100F-4CE9-98A4-CF63EAF4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4EB-FA23-4098-9F62-0B565C3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58D-F4E2-4E50-80AA-60D0AA08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A07-AE33-41F0-9A0F-43D3DED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25D-6B2B-4CDB-9560-A17E078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9A0-09F3-4200-98B5-B9A8D6BC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BF1-0D2A-44A0-A926-A60252C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DCB-52FD-4258-A7FC-176CB15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40E3B1E8-A515-450A-B17B-7D2F1DF1A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17.jpeg"/><Relationship Id="rId20" Type="http://schemas.openxmlformats.org/officeDocument/2006/relationships/image" Target="../media/image23.jpeg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" Target="slide4.xml"/><Relationship Id="rId5" Type="http://schemas.openxmlformats.org/officeDocument/2006/relationships/image" Target="../media/image19.png"/><Relationship Id="rId6" Type="http://schemas.openxmlformats.org/officeDocument/2006/relationships/slide" Target="slide5.xml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ss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mburgers and Hot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0020020423[1]"/>
          <p:cNvPicPr/>
          <p:nvPr/>
        </p:nvPicPr>
        <p:blipFill>
          <a:blip r:embed="rId1"/>
          <a:srcRect l="0" t="7487" r="0" b="15786"/>
          <a:stretch/>
        </p:blipFill>
        <p:spPr>
          <a:xfrm>
            <a:off x="-3492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135331560885[1]"/>
          <p:cNvPicPr/>
          <p:nvPr/>
        </p:nvPicPr>
        <p:blipFill>
          <a:blip r:embed="rId2"/>
          <a:srcRect l="13102" t="0" r="13287" b="0"/>
          <a:stretch/>
        </p:blipFill>
        <p:spPr>
          <a:xfrm>
            <a:off x="-34920" y="5425920"/>
            <a:ext cx="9178920" cy="1432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686320" y="1666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what'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T019A9~1"/>
          <p:cNvPicPr/>
          <p:nvPr/>
        </p:nvPicPr>
        <p:blipFill>
          <a:blip r:embed="rId3"/>
          <a:stretch/>
        </p:blipFill>
        <p:spPr>
          <a:xfrm>
            <a:off x="914400" y="4267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T0121E~1"/>
          <p:cNvPicPr/>
          <p:nvPr/>
        </p:nvPicPr>
        <p:blipFill>
          <a:blip r:embed="rId4"/>
          <a:stretch/>
        </p:blipFill>
        <p:spPr>
          <a:xfrm>
            <a:off x="2895480" y="4267080"/>
            <a:ext cx="1752840" cy="147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01F5B~1"/>
          <p:cNvPicPr/>
          <p:nvPr/>
        </p:nvPicPr>
        <p:blipFill>
          <a:blip r:embed="rId5"/>
          <a:stretch/>
        </p:blipFill>
        <p:spPr>
          <a:xfrm>
            <a:off x="4724280" y="4267080"/>
            <a:ext cx="1752840" cy="149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300000~1"/>
          <p:cNvPicPr/>
          <p:nvPr/>
        </p:nvPicPr>
        <p:blipFill>
          <a:blip r:embed="rId6"/>
          <a:stretch/>
        </p:blipFill>
        <p:spPr>
          <a:xfrm>
            <a:off x="6553080" y="4267080"/>
            <a:ext cx="190512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2871 0.00347 -0.03149 0.00607 -0.08079 C 0.00746 -0.10648 0.01719 -0.13125 0.02274 -0.15555 C 0.02448 -0.16297 0.02482 -0.17083 0.02725 -0.17778 C 0.03055 -0.18726 0.03541 -0.19537 0.03941 -0.20416 C 0.04583 -0.21805 0.04912 -0.23402 0.05469 -0.24861 C 0.05625 -0.25255 0.05763 -0.25672 0.0592 -0.26065 C 0.06232 -0.26922 0.07274 -0.28287 0.07274 -0.28287 C 0.07951 -0.30509 0.08611 -0.31087 0.09548 -0.32731 C 0.0979 -0.33172 0.09912 -0.33704 0.10156 -0.34144 C 0.1085 -0.3537 0.11787 -0.36319 0.12587 -0.37384 C 0.13958 -0.39212 0.1526 -0.41273 0.16823 -0.42823 C 0.17725 -0.43704 0.18766 -0.44444 0.19705 -0.45255 C 0.2144 -0.46735 0.23107 -0.48241 0.25156 -0.48703 C 0.26805 -0.49769 0.28089 -0.49745 0.3 -0.49908 C 0.32378 -0.49769 0.34757 -0.49745 0.37135 -0.49491 C 0.37309 -0.49467 0.3743 -0.49212 0.37587 -0.49098 C 0.37934 -0.48866 0.38315 -0.48726 0.38645 -0.48495 C 0.40172 -0.47408 0.41718 -0.45995 0.42882 -0.44259 C 0.442 -0.42291 0.45172 -0.40092 0.46059 -0.37777 C 0.46388 -0.36898 0.47135 -0.35162 0.47135 -0.35162 C 0.47603 -0.3287 0.47273 -0.3419 0.48333 -0.31319 C 0.48662 -0.30416 0.48801 -0.29422 0.49096 -0.28495 C 0.49738 -0.20926 0.49462 -0.15023 0.47724 -0.08079 C 0.47377 -0.0669 0.45312 -0.0368 0.44547 -0.02824 C 0.40885 0.01226 0.3658 0.0398 0.31822 0.04629 C 0.30919 0.0456 0.3 0.04651 0.29096 0.04444 C 0.2887 0.04399 0.27482 0.02476 0.27274 0.02222 C 0.26684 0.01504 0.26024 0.00926 0.25468 0.00185 C 0.25156 -0.00232 0.25016 -0.00811 0.24705 -0.01226 C 0.20955 -0.0618 0.24184 -0.01135 0.22135 -0.04444 C 0.22031 -0.05069 0.21753 -0.05649 0.21665 -0.06274 C 0.21562 -0.07083 0.2158 -0.07894 0.21528 -0.08704 C 0.21649 -0.14305 0.21718 -0.20672 0.2394 -0.25672 C 0.24757 -0.30856 0.28714 -0.33843 0.31822 -0.36366 C 0.35797 -0.39606 0.39999 -0.42985 0.44547 -0.44652 C 0.47742 -0.4581 0.50988 -0.45973 0.54252 -0.46481 C 0.61023 -0.47546 0.67881 -0.4838 0.74704 -0.48703 C 0.80207 -0.48495 0.82914 -0.4956 0.86978 -0.47894 C 0.88019 -0.46412 0.86023 -0.49166 0.88036 -0.46874 C 0.89304 -0.4544 0.87099 -0.47106 0.88939 -0.45856 C 0.89043 -0.45578 0.89112 -0.45277 0.89252 -0.45047 C 0.89616 -0.44467 0.90189 -0.4412 0.90467 -0.43448 C 0.91543 -0.4088 0.9295 -0.38773 0.9439 -0.36573 C 0.95311 -0.35186 0.96127 -0.33611 0.97134 -0.32337 C 0.97289 -0.31644 0.97272 -0.31922 0.97272 -0.31527 E">
                                      <p:cBhvr>
                                        <p:cTn id="113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2 -0.0044 0.00537 -0.01274 0 -0.02037 C -0.00469 -0.04468 -0.01736 -0.06643 -0.0257 -0.08889 C -0.03125 -0.10347 -0.03386 -0.11991 -0.03785 -0.13541 C -0.04132 -0.17708 -0.04636 -0.22291 -0.03629 -0.26273 C -0.0257 -0.30486 -0.00417 -0.35508 0.01666 -0.39005 C 0.01823 -0.39537 0.01892 -0.40138 0.02118 -0.40624 C 0.02257 -0.40902 0.02534 -0.40994 0.02725 -0.41226 C 0.03246 -0.41874 0.03888 -0.42406 0.04236 -0.43241 C 0.05121 -0.45277 0.05607 -0.45301 0.06961 -0.46666 C 0.10486 -0.50184 0.06198 -0.46388 0.09236 -0.48888 C 0.10642 -0.50023 0.11909 -0.51412 0.13333 -0.52523 C 0.14305 -0.53287 0.15277 -0.53726 0.16214 -0.54559 C 0.16909 -0.55184 0.19149 -0.55601 0.2 -0.55763 C 0.21092 -0.56273 0.22222 -0.56388 0.23333 -0.56781 C 0.25607 -0.56712 0.27882 -0.56689 0.30156 -0.56573 C 0.31302 -0.56505 0.32378 -0.55926 0.33488 -0.55555 C 0.35659 -0.54837 0.37777 -0.53888 0.39842 -0.5273 C 0.41092 -0.52013 0.42221 -0.50994 0.43488 -0.50301 C 0.46492 -0.46991 0.42708 -0.50971 0.45156 -0.48888 C 0.46318 -0.47892 0.47117 -0.46412 0.48333 -0.45462 C 0.4894 -0.44467 0.49842 -0.43565 0.50294 -0.4243 C 0.50554 -0.41781 0.50693 -0.41087 0.50901 -0.40416 C 0.51007 -0.40045 0.51232 -0.39744 0.5137 -0.39398 C 0.51474 -0.39142 0.51579 -0.38866 0.51665 -0.38587 C 0.51995 -0.37499 0.5203 -0.36412 0.52429 -0.35369 C 0.53106 -0.29351 0.52603 -0.22222 0.50294 -0.16782 C 0.49565 -0.15046 0.49287 -0.13657 0.48333 -0.1213 C 0.4769 -0.11111 0.46458 -0.08333 0.4545 -0.07685 C 0.44669 -0.07176 0.44113 -0.06367 0.43333 -0.05855 C 0.42499 -0.05301 0.41787 -0.05046 0.40901 -0.04653 C 0.39547 -0.03356 0.38766 -0.03333 0.37273 -0.02639 C 0.35086 -0.01619 0.33055 0.00278 0.30763 0.0081 C 0.28488 0.01992 0.25312 0.01319 0.23037 0.01204 C 0.22222 0.00787 0.21458 0.00417 0.20607 0.00185 C 0.19479 -0.0081 0.20746 0.00369 0.19842 -0.00625 C 0.19409 -0.01111 0.18488 -0.02037 0.18488 -0.02037 C 0.16753 -0.05671 0.1592 -0.09722 0.15451 -0.13958 C 0.15295 -0.17337 0.15104 -0.20671 0.15 -0.24051 C 0.15052 -0.25601 0.15069 -0.27152 0.15156 -0.28704 C 0.15173 -0.28912 0.1526 -0.29097 0.15295 -0.29305 C 0.15363 -0.29698 0.15242 -0.30208 0.15451 -0.30508 C 0.15659 -0.30833 0.16371 -0.30926 0.16371 -0.30926 C 0.18003 -0.3067 0.19565 -0.3044 0.21214 -0.30301 C 0.22222 -0.30093 0.23229 -0.29883 0.24236 -0.29698 C 0.2493 -0.2942 0.25399 -0.28795 0.26059 -0.28494 C 0.26927 -0.27337 0.28003 -0.26505 0.2894 -0.25462 C 0.29184 -0.25184 0.29443 -0.24907 0.29705 -0.24652 C 0.3 -0.24351 0.30607 -0.23843 0.30607 -0.23843 C 0.30797 -0.23472 0.3085 -0.22986 0.31059 -0.22639 C 0.31909 -0.21157 0.32065 -0.21712 0.32725 -0.2 C 0.33193 -0.18773 0.33645 -0.17593 0.34096 -0.16366 C 0.34461 -0.15393 0.34513 -0.14166 0.34842 -0.13148 C 0.35208 -0.12014 0.35156 -0.12639 0.35451 -0.11319 C 0.3552 -0.10994 0.3552 -0.10625 0.35607 -0.10301 C 0.35885 -0.09351 0.36318 -0.0838 0.36665 -0.07476 C 0.37083 -0.06389 0.37378 -0.04883 0.38037 -0.04051 C 0.38229 -0.03218 0.38488 -0.02292 0.38488 -0.01412 E">
                                      <p:cBhvr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84 -0.01274 0.03125 -0.01435 0.04687 -0.01619 C 0.05781 -0.02199 0.06909 -0.01921 0.0802 -0.02407 C 0.08576 -0.02639 0.09687 -0.03032 0.09687 -0.03032 C 0.10503 -0.0375 0.1151 -0.03912 0.12412 -0.04444 C 0.14287 -0.05579 0.16198 -0.06921 0.18177 -0.07662 C 0.19149 -0.08542 0.20693 -0.09212 0.2151 -0.10301 C 0.22187 -0.11204 0.23037 -0.11898 0.23628 -0.12916 C 0.24964 -0.1523 0.26406 -0.19051 0.27117 -0.21805 C 0.27342 -0.23889 0.27516 -0.25994 0.27725 -0.28079 C 0.2762 -0.33309 0.27656 -0.37361 0.26059 -0.42013 C 0.25677 -0.43101 0.25312 -0.43263 0.24842 -0.44235 C 0.24305 -0.45347 0.23714 -0.46944 0.23019 -0.47869 C 0.2269 -0.48309 0.22204 -0.48519 0.21805 -0.48888 C 0.21128 -0.49513 0.20781 -0.50184 0.2 -0.50694 C 0.1842 -0.51735 0.16665 -0.52269 0.15 -0.52916 C 0.14079 -0.53287 0.13211 -0.53866 0.12274 -0.54144 C 0.09392 -0.54999 0.06267 -0.55069 0.03333 -0.55346 C -0.00816 -0.55741 -0.04948 -0.56156 -0.09098 -0.56366 C -0.10712 -0.56295 -0.12327 -0.56273 -0.1394 -0.56156 C -0.14202 -0.56132 -0.1448 -0.5611 -0.14705 -0.55948 C -0.15487 -0.55346 -0.16025 -0.54258 -0.16823 -0.53726 C -0.20642 -0.5118 -0.23437 -0.46735 -0.26059 -0.42406 C -0.26163 -0.42013 -0.26233 -0.41597 -0.26371 -0.41204 C -0.26545 -0.40717 -0.26823 -0.40301 -0.2698 -0.39791 C -0.27223 -0.39005 -0.27309 -0.38124 -0.27587 -0.37361 C -0.2769 -0.37083 -0.27778 -0.36829 -0.27882 -0.36551 C -0.28038 -0.35023 -0.28212 -0.33519 -0.28645 -0.32105 C -0.29166 -0.27801 -0.29375 -0.23541 -0.29549 -0.1919 C -0.29427 -0.15255 -0.29375 -0.08889 -0.27587 -0.05278 C -0.27413 -0.04329 -0.27065 -0.03403 -0.26666 -0.02639 C -0.26388 -0.01435 -0.26285 0.00117 -0.25608 0.01019 C -0.25452 0.01597 -0.2533 0.01806 -0.25 0.02222 E">
                                      <p:cBhvr>
                                        <p:cTn id="11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08 -0.00649 0.0198 -0.01319 0.03038 -0.01806 C 0.03647 -0.02083 0.04288 -0.02224 0.04862 -0.02617 C 0.05591 -0.03126 0.05365 -0.0301 0.06216 -0.03426 C 0.06511 -0.03567 0.07119 -0.03843 0.07119 -0.03843 C 0.08038 -0.05001 0.06459 -0.03103 0.08334 -0.04839 C 0.08577 -0.05047 0.08715 -0.05417 0.08942 -0.05649 C 0.09167 -0.0588 0.09462 -0.06019 0.09706 -0.06251 C 0.10209 -0.0676 0.10174 -0.07015 0.10608 -0.07662 C 0.11251 -0.08589 0.12032 -0.09468 0.12587 -0.1051 C 0.13663 -0.12478 0.14358 -0.14791 0.15157 -0.16968 C 0.15348 -0.18404 0.15695 -0.19769 0.15921 -0.21204 C 0.15869 -0.23148 0.15904 -0.25116 0.15764 -0.27061 C 0.15712 -0.27779 0.15383 -0.28126 0.15157 -0.2868 C 0.14497 -0.30301 0.14288 -0.31204 0.13195 -0.32316 C 0.11372 -0.37199 0.07483 -0.40092 0.04098 -0.42824 C -0.03107 -0.48612 -0.12395 -0.51505 -0.20746 -0.52316 C -0.246 -0.52199 -0.27933 -0.51852 -0.31665 -0.51505 C -0.32464 -0.51342 -0.33297 -0.51435 -0.34079 -0.51112 C -0.34461 -0.50949 -0.34756 -0.50463 -0.35137 -0.50301 C -0.3597 -0.4993 -0.36857 -0.49769 -0.37724 -0.49491 C -0.39183 -0.49028 -0.40555 -0.48171 -0.41961 -0.47477 C -0.46474 -0.45231 -0.51491 -0.43612 -0.55293 -0.39398 C -0.55918 -0.38704 -0.57203 -0.37362 -0.57568 -0.36551 C -0.58349 -0.34816 -0.59373 -0.32941 -0.6045 -0.31505 C -0.60554 -0.31227 -0.60606 -0.3095 -0.60745 -0.30694 C -0.60866 -0.30463 -0.61092 -0.30348 -0.61214 -0.30093 C -0.61457 -0.29583 -0.61613 -0.29005 -0.61804 -0.28473 C -0.62082 -0.27686 -0.62533 -0.25279 -0.62724 -0.24444 C -0.62828 -0.23333 -0.62898 -0.22269 -0.63175 -0.21204 C -0.63123 -0.19121 -0.63748 -0.16691 -0.6288 -0.14954 C -0.6137 -0.11898 -0.58627 -0.10279 -0.56352 -0.08473 C -0.5222 -0.05162 -0.47933 -0.01412 -0.43019 -0.00811 C -0.39183 0.00346 -0.35241 -0.00533 -0.31353 -0.00996 C -0.26909 -0.02107 -0.22204 -0.04237 -0.1802 -0.06458 C -0.13003 -0.09144 -0.07846 -0.11991 -0.06058 -0.19398 C -0.0611 -0.21343 -0.06076 -0.23311 -0.06214 -0.25255 C -0.06371 -0.27338 -0.07048 -0.29537 -0.07569 -0.31505 C -0.08801 -0.36158 -0.10415 -0.41598 -0.13784 -0.44237 C -0.14391 -0.45324 -0.15086 -0.46227 -0.16058 -0.46666 C -0.17412 -0.48126 -0.1901 -0.48981 -0.20746 -0.49283 C -0.21753 -0.49444 -0.23784 -0.49699 -0.23784 -0.49699 C -0.25503 -0.4963 -0.2722 -0.49723 -0.28939 -0.49491 C -0.29321 -0.49444 -0.29635 -0.49051 -0.29999 -0.4889 C -0.32116 -0.47894 -0.34165 -0.46737 -0.36214 -0.45441 C -0.38939 -0.43727 -0.41683 -0.41898 -0.44235 -0.39791 C -0.46266 -0.38102 -0.48159 -0.36134 -0.50137 -0.34329 C -0.50589 -0.33912 -0.51075 -0.33566 -0.5151 -0.33126 C -0.5262 -0.32037 -0.53731 -0.3095 -0.54842 -0.29884 C -0.55345 -0.29398 -0.55918 -0.29051 -0.56352 -0.28473 C -0.57135 -0.2743 -0.5776 -0.2618 -0.58627 -0.25255 C -0.62255 -0.21343 -0.58019 -0.26805 -0.61057 -0.23218 C -0.61961 -0.22154 -0.63349 -0.20555 -0.64078 -0.19191 C -0.64634 -0.18148 -0.64912 -0.16876 -0.65745 -0.16158 C -0.66266 -0.14468 -0.67099 -0.12916 -0.67724 -0.11297 C -0.68054 -0.10442 -0.68071 -0.09515 -0.6847 -0.0868 C -0.68957 -0.06158 -0.68783 -0.03381 -0.68783 -0.00811 E">
                                      <p:cBhvr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0020020423[1]"/>
          <p:cNvPicPr/>
          <p:nvPr/>
        </p:nvPicPr>
        <p:blipFill>
          <a:blip r:embed="rId1"/>
          <a:srcRect l="0" t="7487" r="0" b="15786"/>
          <a:stretch/>
        </p:blipFill>
        <p:spPr>
          <a:xfrm>
            <a:off x="-3492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135331560885[1]"/>
          <p:cNvPicPr/>
          <p:nvPr/>
        </p:nvPicPr>
        <p:blipFill>
          <a:blip r:embed="rId2"/>
          <a:srcRect l="13102" t="0" r="13287" b="0"/>
          <a:stretch/>
        </p:blipFill>
        <p:spPr>
          <a:xfrm>
            <a:off x="-34920" y="5425920"/>
            <a:ext cx="9178920" cy="14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86320" y="1666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what'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T019A9~1"/>
          <p:cNvPicPr/>
          <p:nvPr/>
        </p:nvPicPr>
        <p:blipFill>
          <a:blip r:embed="rId3"/>
          <a:stretch/>
        </p:blipFill>
        <p:spPr>
          <a:xfrm>
            <a:off x="914400" y="4267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T0121E~1"/>
          <p:cNvPicPr/>
          <p:nvPr/>
        </p:nvPicPr>
        <p:blipFill>
          <a:blip r:embed="rId4"/>
          <a:stretch/>
        </p:blipFill>
        <p:spPr>
          <a:xfrm>
            <a:off x="2895480" y="4267080"/>
            <a:ext cx="1752840" cy="1473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T01F5B~1"/>
          <p:cNvPicPr/>
          <p:nvPr/>
        </p:nvPicPr>
        <p:blipFill>
          <a:blip r:embed="rId5"/>
          <a:stretch/>
        </p:blipFill>
        <p:spPr>
          <a:xfrm>
            <a:off x="4724280" y="4267080"/>
            <a:ext cx="1752840" cy="149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300000~1"/>
          <p:cNvPicPr/>
          <p:nvPr/>
        </p:nvPicPr>
        <p:blipFill>
          <a:blip r:embed="rId6"/>
          <a:stretch/>
        </p:blipFill>
        <p:spPr>
          <a:xfrm>
            <a:off x="6553080" y="4267080"/>
            <a:ext cx="190512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476 -0.00694 0.02848 -0.01574 0.04393 -0.02014 C 0.04792 -0.02292 0.05174 -0.02639 0.05608 -0.02824 C 0.06198 -0.03101 0.06841 -0.03125 0.07412 -0.03426 C 0.07864 -0.03658 0.08195 -0.04167 0.08629 -0.04444 C 0.0941 -0.0493 0.10261 -0.05232 0.11059 -0.05649 C 0.12032 -0.06158 0.12882 -0.06319 0.13785 -0.07269 C 0.14045 -0.07547 0.14271 -0.07848 0.14549 -0.08079 C 0.14827 -0.08311 0.1519 -0.08403 0.15452 -0.0868 C 0.17065 -0.10301 0.18559 -0.12107 0.20157 -0.13726 C 0.21562 -0.15139 0.21372 -0.15694 0.22569 -0.17176 C 0.22934 -0.17639 0.23419 -0.17916 0.23785 -0.1838 C 0.25416 -0.20394 0.27084 -0.22801 0.28177 -0.2544 C 0.28419 -0.26041 0.29687 -0.29375 0.3 -0.30509 C 0.3052 -0.32384 0.30677 -0.34305 0.31215 -0.36158 C 0.31562 -0.39652 0.31459 -0.37986 0.31215 -0.44444 C 0.31162 -0.45856 0.30416 -0.48912 0.29687 -0.49884 C 0.29011 -0.50787 0.27916 -0.51481 0.27117 -0.52106 C 0.25625 -0.53263 0.24617 -0.53866 0.22882 -0.54537 C 0.22552 -0.54652 0.22291 -0.54999 0.21962 -0.55138 C 0.20677 -0.55671 0.19202 -0.55671 0.17882 -0.55948 C 0.09202 -0.55856 0.00851 -0.55694 -0.07725 -0.54953 C -0.09826 -0.54144 -0.12152 -0.53703 -0.14097 -0.52314 C -0.16962 -0.50255 -0.19236 -0.47269 -0.2151 -0.44235 C -0.23089 -0.4213 -0.24705 -0.40208 -0.26059 -0.37777 C -0.28714 -0.32986 -0.3012 -0.27894 -0.31214 -0.22223 C -0.31162 -0.21412 -0.31214 -0.20579 -0.31059 -0.19791 C -0.30919 -0.19051 -0.30346 -0.18843 -0.3 -0.1838 C -0.29721 -0.18009 -0.29547 -0.17523 -0.29253 -0.17176 C -0.27568 -0.15139 -0.25016 -0.14121 -0.22882 -0.13333 C -0.20208 -0.13403 -0.17516 -0.1338 -0.14842 -0.13541 C -0.13089 -0.13658 -0.10104 -0.15371 -0.0894 -0.15764 C -0.03854 -0.17523 0.00695 -0.20533 0.05295 -0.23843 C 0.08282 -0.25995 0.14636 -0.29815 0.17117 -0.33124 C 0.19114 -0.35787 0.20642 -0.38587 0.22275 -0.4162 C 0.23593 -0.48796 0.21702 -0.55092 0.1908 -0.61203 C 0.18142 -0.63356 0.16927 -0.64791 0.15295 -0.65856 C 0.14479 -0.66388 0.12726 -0.6706 0.12726 -0.6706 C 0.05625 -0.66967 -0.01162 -0.66943 -0.08177 -0.66249 C -0.09444 -0.65856 -0.10712 -0.65439 -0.11979 -0.65046 C -0.1335 -0.64606 -0.17361 -0.61828 -0.18488 -0.6081 C -0.22915 -0.56828 -0.27065 -0.52453 -0.3137 -0.48287 C -0.35607 -0.44166 -0.39809 -0.39837 -0.42587 -0.33726 C -0.45087 -0.28218 -0.4552 -0.26712 -0.47587 -0.20996 C -0.48801 -0.17639 -0.49617 -0.14121 -0.51059 -0.10903 C -0.51526 -0.07962 -0.51891 -0.04861 -0.52587 -0.02014 C -0.52863 -0.00903 -0.53212 0.00486 -0.54096 0.01018 C -0.55155 0.01643 -0.56717 0.01712 -0.57881 0.02014 C -0.60172 0.01944 -0.64634 0.02129 -0.67273 0.01226 C -0.68193 0.00901 -0.69061 0.00208 -0.69999 -0.00208 C -0.70676 -0.00533 -0.7144 -0.00649 -0.72099 -0.00996 C -0.74079 -0.01992 -0.75987 -0.03403 -0.77881 -0.04653 C -0.79616 -0.05811 -0.81405 -0.06922 -0.82724 -0.08889 C -0.83228 -0.0963 -0.83731 -0.10973 -0.83939 -0.11922 C -0.84044 -0.12385 -0.84252 -0.13333 -0.84252 -0.13333 E">
                                      <p:cBhvr>
                                        <p:cTn id="12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64 -0.00324 0.02327 -0.00694 0.0349 -0.01042 C 0.04827 -0.01921 0.06372 -0.02153 0.07744 -0.03032 C 0.08369 -0.03912 0.10087 -0.04792 0.10921 -0.05254 C 0.11685 -0.06319 0.125 -0.0648 0.13489 -0.07083 C 0.1415 -0.075 0.14513 -0.08008 0.15157 -0.08494 C 0.15886 -0.09051 0.16702 -0.09375 0.17431 -0.09907 C 0.19428 -0.11458 0.17709 -0.10323 0.19098 -0.11736 C 0.20053 -0.12754 0.21112 -0.13611 0.2198 -0.14791 C 0.23455 -0.16736 0.24983 -0.19652 0.26077 -0.22037 C 0.26285 -0.23216 0.27587 -0.25069 0.27587 -0.25069 C 0.27864 -0.27244 0.28924 -0.28773 0.2941 -0.30926 C 0.29827 -0.32777 0.30416 -0.34398 0.3092 -0.3618 C 0.31303 -0.39583 0.30798 -0.35347 0.31371 -0.39398 C 0.31545 -0.40694 0.31511 -0.42013 0.31822 -0.4324 C 0.31685 -0.45208 0.31511 -0.46735 0.30608 -0.48287 C 0.29879 -0.50902 0.29045 -0.53355 0.27743 -0.55555 C 0.27343 -0.56226 0.27084 -0.57152 0.26528 -0.57591 C 0.26267 -0.57801 0.25989 -0.57939 0.25763 -0.58194 C 0.24687 -0.59327 0.23872 -0.60716 0.22587 -0.61434 C 0.21892 -0.62638 0.21077 -0.63077 0.2 -0.63448 C 0.18681 -0.64513 0.1684 -0.64559 0.15312 -0.6486 C 0.10138 -0.64743 0.06858 -0.64582 0.02275 -0.6405 C -0.02465 -0.61712 -0.00451 -0.6273 -0.03784 -0.61017 C -0.07534 -0.59096 -0.13177 -0.54073 -0.16665 -0.5111 C -0.19738 -0.48494 -0.22742 -0.45878 -0.25589 -0.42847 C -0.27604 -0.40716 -0.28922 -0.37244 -0.30294 -0.34351 C -0.30711 -0.31736 -0.31492 -0.29815 -0.31961 -0.27291 C -0.32187 -0.26087 -0.32568 -0.23657 -0.32568 -0.23657 C -0.33107 -0.17361 -0.34201 -0.07383 -0.28019 -0.05879 C -0.26649 -0.06042 -0.25277 -0.05926 -0.23923 -0.06274 C -0.23367 -0.06412 -0.22951 -0.07083 -0.22412 -0.07292 C -0.2118 -0.07801 -0.19809 -0.07801 -0.18628 -0.08494 C -0.17361 -0.09236 -0.16162 -0.10208 -0.14842 -0.10717 C -0.14184 -0.10994 -0.13506 -0.1118 -0.12863 -0.11528 C -0.11857 -0.12083 -0.10642 -0.1324 -0.09687 -0.13958 C -0.04722 -0.17662 -0.00902 -0.22986 0.02587 -0.28888 C 0.05105 -0.33148 0.07171 -0.37777 0.08195 -0.43031 C 0.08421 -0.48426 0.0894 -0.53912 0.07882 -0.59212 C 0.07344 -0.61944 0.07778 -0.60902 0.07136 -0.62221 C 0.06528 -0.65416 0.05209 -0.66898 0.02882 -0.67684 C -0.02343 -0.67568 -0.05798 -0.68031 -0.10451 -0.66874 C -0.13576 -0.66086 -0.16162 -0.63725 -0.18472 -0.61017 C -0.20486 -0.58656 -0.22725 -0.56596 -0.24687 -0.54166 C -0.26961 -0.51319 -0.30016 -0.45184 -0.31059 -0.41434 C -0.31492 -0.39861 -0.31961 -0.38333 -0.32412 -0.36781 C -0.32742 -0.3567 -0.32672 -0.34537 -0.33177 -0.33565 C -0.33488 -0.31504 -0.33628 -0.29351 -0.33784 -0.27291 C -0.33732 -0.24837 -0.34027 -0.19119 -0.32725 -0.16365 C -0.32482 -0.14537 -0.31979 -0.12962 -0.31354 -0.11319 C -0.31023 -0.10462 -0.30988 -0.09629 -0.30451 -0.08912 C -0.3012 -0.07823 -0.29687 -0.07037 -0.29236 -0.06065 C -0.28922 -0.05417 -0.2887 -0.04883 -0.28471 -0.04258 C -0.2835 -0.04074 -0.28141 -0.04028 -0.28019 -0.03842 C -0.2729 -0.02869 -0.26769 -0.01712 -0.25745 -0.0125 C -0.24912 -0.00115 -0.24079 -0.00115 -0.23019 0.00394 C -0.22812 0.00672 -0.2262 0.00926 -0.22412 0.01204 E">
                                      <p:cBhvr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5926 0.00468 -0.11921 0.02725 -0.17176 C 0.0335 -0.20139 0.04982 -0.22616 0.06353 -0.25045 C 0.11718 -0.34537 0.1953 -0.38008 0.28176 -0.39005 C 0.32326 -0.38773 0.35277 -0.38726 0.39062 -0.37777 C 0.41491 -0.36458 0.438 -0.35277 0.4618 -0.33749 C 0.46735 -0.33402 0.47203 -0.32777 0.47708 -0.32337 C 0.48349 -0.31829 0.49026 -0.31619 0.49529 -0.30902 C 0.51318 -0.28309 0.52516 -0.25416 0.53175 -0.22014 C 0.53488 -0.18426 0.5354 -0.18565 0.53175 -0.13125 C 0.52985 -0.10208 0.51439 -0.07383 0.50293 -0.05046 C 0.49912 -0.04258 0.49668 -0.03357 0.49235 -0.02639 C 0.4854 -0.01482 0.46474 0.00256 0.45745 0.00994 C 0.39409 0.07337 0.31648 0.08264 0.24079 0.10093 C 0.19235 0.09883 0.14374 0.09792 0.0953 0.09492 C 0.07326 0.09351 0.01961 0.07337 0.00589 0.04653 C -0.00956 0.01667 -0.00261 0.02847 -0.01372 0.00994 C -0.02067 -0.01458 -0.02761 -0.03935 -0.03334 -0.06458 C -0.03786 -0.11204 -0.03663 -0.09329 -0.03334 -0.1838 C -0.0323 -0.21273 -0.01424 -0.25763 -0.00608 -0.28494 C 0.00815 -0.33287 0.02881 -0.37638 0.05902 -0.41019 C 0.0802 -0.43402 0.12204 -0.46597 0.14999 -0.47083 C 0.16405 -0.47337 0.19235 -0.47476 0.19235 -0.47476 C 0.2453 -0.47337 0.29842 -0.4743 0.35137 -0.47083 C 0.39894 -0.46758 0.4453 -0.44976 0.49235 -0.44051 C 0.50641 -0.43263 0.49963 -0.43749 0.51196 -0.42638 C 0.51352 -0.42499 0.51665 -0.42222 0.51665 -0.42222 C 0.52151 -0.41342 0.52099 -0.40948 0.52412 -0.39999 C 0.52863 -0.38633 0.52812 -0.3942 0.53175 -0.38194 C 0.5413 -0.34883 0.53211 -0.37499 0.53922 -0.35555 C 0.54165 -0.32383 0.54616 -0.29258 0.54842 -0.26065 C 0.54703 -0.23773 0.54807 -0.21412 0.54391 -0.1919 C 0.54321 -0.18843 0.54148 -0.18541 0.54078 -0.18194 C 0.53887 -0.17315 0.53766 -0.16434 0.53627 -0.15555 C 0.53401 -0.1419 0.53314 -0.12708 0.52724 -0.11528 C 0.52568 -0.10532 0.52342 -0.09398 0.51804 -0.0868 C 0.51526 -0.075 0.51422 -0.05949 0.50745 -0.05046 C 0.50467 -0.04005 0.50293 -0.03008 0.49687 -0.02222 C 0.49461 -0.01921 0.492 -0.01644 0.48922 -0.01412 C 0.48784 -0.01296 0.4861 -0.01343 0.4847 -0.01226 C 0.48418 -0.01181 0.4847 -0.01087 0.4847 -0.01019 E">
                                      <p:cBhvr>
                                        <p:cTn id="1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466 -0.01274 0.04567 -0.03518 0.06824 -0.05255 C 0.09237 -0.07105 0.11562 -0.08796 0.13941 -0.10694 C 0.14306 -0.10994 0.14549 -0.11528 0.14862 -0.11921 C 0.16215 -0.13565 0.17291 -0.14698 0.18334 -0.16758 C 0.20851 -0.21712 0.23334 -0.26829 0.23803 -0.32916 C 0.23699 -0.3442 0.23577 -0.37592 0.23038 -0.39374 C 0.22883 -0.3993 0.22501 -0.40301 0.22275 -0.40809 C 0.22084 -0.41249 0.22032 -0.41781 0.21824 -0.42222 C 0.21424 -0.43079 0.20921 -0.43819 0.20469 -0.4463 C 0.20243 -0.45023 0.19549 -0.4544 0.19549 -0.4544 C 0.18837 -0.46898 0.17379 -0.47291 0.16215 -0.47869 C 0.14081 -0.48934 0.1198 -0.49652 0.09706 -0.49883 C 0.07935 -0.49815 0.06163 -0.49906 0.04393 -0.49698 C 0.03612 -0.49605 0.029 -0.49027 0.02136 -0.48888 C -0.06439 -0.44815 -0.14062 -0.38148 -0.21058 -0.30486 C -0.23576 -0.2773 -0.25762 -0.24514 -0.28176 -0.21597 C -0.31248 -0.17893 -0.28037 -0.2169 -0.30451 -0.17962 C -0.31006 -0.17105 -0.32273 -0.15555 -0.32273 -0.15555 C -0.32534 -0.14861 -0.32708 -0.14166 -0.33019 -0.13518 C -0.33245 -0.1213 -0.33523 -0.1081 -0.33939 -0.09492 C -0.34062 -0.07244 -0.34564 -0.04605 -0.34079 -0.02407 C -0.33905 -0.01619 -0.33176 -0.01204 -0.32725 -0.0081 C -0.31196 0.00486 -0.29512 0.01204 -0.27725 0.01619 C -0.26717 0.01458 -0.25034 0.01367 -0.23939 0.0081 C -0.20293 -0.01065 -0.17568 -0.04399 -0.14999 -0.08264 C -0.14409 -0.09167 -0.1368 -0.11018 -0.13333 -0.12105 C -0.12899 -0.13518 -0.12116 -0.16366 -0.12116 -0.16366 C -0.11926 -0.18796 -0.11613 -0.20948 -0.1151 -0.23426 C -0.11613 -0.2463 -0.11649 -0.25855 -0.11805 -0.27059 C -0.1203 -0.28912 -0.13419 -0.32198 -0.14079 -0.33333 C -0.15121 -0.35116 -0.15988 -0.37083 -0.17116 -0.38773 C -0.18298 -0.40531 -0.19774 -0.42244 -0.21197 -0.43633 C -0.23072 -0.4544 -0.24963 -0.47569 -0.27274 -0.48263 C -0.29999 -0.48194 -0.32829 -0.48888 -0.35451 -0.47869 C -0.39635 -0.46249 -0.44131 -0.43633 -0.47412 -0.39791 C -0.49062 -0.37869 -0.48958 -0.37801 -0.50137 -0.35347 C -0.50607 -0.34374 -0.50762 -0.33309 -0.51352 -0.32523 C -0.51458 -0.31712 -0.51474 -0.3088 -0.51665 -0.30093 C -0.52012 -0.28726 -0.52498 -0.2743 -0.52724 -0.26041 C -0.53088 -0.23819 -0.53297 -0.21619 -0.5347 -0.19375 C -0.53366 -0.17291 -0.53366 -0.15208 -0.53175 -0.13125 C -0.53123 -0.125 -0.5262 -0.12083 -0.52412 -0.11505 C -0.51856 -0.09976 -0.51092 -0.08472 -0.50137 -0.07268 C -0.49912 -0.06296 -0.49477 -0.0588 -0.48939 -0.05255 C -0.48262 -0.04468 -0.47881 -0.03633 -0.47273 -0.02824 C -0.46995 -0.02454 -0.46526 -0.02268 -0.46196 -0.02014 C -0.45276 -0.01319 -0.46266 -0.01806 -0.44998 -0.01204 C -0.44703 -0.01065 -0.44078 -0.0081 -0.44078 -0.0081 C -0.42586 0.00556 -0.4479 -0.01367 -0.43019 -0.00185 C -0.42793 -0.00046 -0.42637 0.00278 -0.42412 0.00417 C -0.41683 0.00857 -0.40571 0.00532 -0.40137 0.01619 E">
                                      <p:cBhvr>
                                        <p:cTn id="13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T01F5B~1"/>
          <p:cNvPicPr/>
          <p:nvPr/>
        </p:nvPicPr>
        <p:blipFill>
          <a:blip r:embed="rId1"/>
          <a:stretch/>
        </p:blipFill>
        <p:spPr>
          <a:xfrm>
            <a:off x="4724280" y="1447920"/>
            <a:ext cx="175284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300000~1"/>
          <p:cNvPicPr/>
          <p:nvPr/>
        </p:nvPicPr>
        <p:blipFill>
          <a:blip r:embed="rId2"/>
          <a:stretch/>
        </p:blipFill>
        <p:spPr>
          <a:xfrm>
            <a:off x="6781680" y="1447920"/>
            <a:ext cx="1905120" cy="1490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4114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onut         ice cream        hot  dog       hamburger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4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tch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809880"/>
            <a:ext cx="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971800"/>
            <a:ext cx="1600200" cy="9144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2895480"/>
            <a:ext cx="3733560" cy="121932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18960" y="3048120"/>
            <a:ext cx="3886200" cy="10666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320" y="2666880"/>
            <a:ext cx="1676520" cy="137160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1353960" cy="15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29000" y="228600"/>
            <a:ext cx="5715000" cy="1828800"/>
          </a:xfrm>
          <a:custGeom>
            <a:avLst/>
            <a:gdLst/>
            <a:ahLst/>
            <a:rect l="l" t="t" r="r" b="b"/>
            <a:pathLst>
              <a:path w="8999" h="2879">
                <a:moveTo>
                  <a:pt x="0" y="0"/>
                </a:moveTo>
                <a:lnTo>
                  <a:pt x="8519" y="0"/>
                </a:lnTo>
                <a:lnTo>
                  <a:pt x="8999" y="2879"/>
                </a:lnTo>
                <a:lnTo>
                  <a:pt x="0" y="2879"/>
                </a:lnTo>
                <a:lnTo>
                  <a:pt x="0" y="0"/>
                </a:lnTo>
                <a:close/>
              </a:path>
            </a:pathLst>
          </a:custGeom>
          <a:solidFill>
            <a:srgbClr val="c8bf08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049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like ____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don’t like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 favourite food is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T01A98~1"/>
          <p:cNvPicPr/>
          <p:nvPr/>
        </p:nvPicPr>
        <p:blipFill>
          <a:blip r:embed="rId1"/>
          <a:stretch/>
        </p:blipFill>
        <p:spPr>
          <a:xfrm>
            <a:off x="304920" y="27432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T01B3E~1"/>
          <p:cNvPicPr/>
          <p:nvPr/>
        </p:nvPicPr>
        <p:blipFill>
          <a:blip r:embed="rId2"/>
          <a:srcRect l="7368" t="11580" r="9618" b="6957"/>
          <a:stretch/>
        </p:blipFill>
        <p:spPr>
          <a:xfrm>
            <a:off x="380880" y="0"/>
            <a:ext cx="121932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T01578~1"/>
          <p:cNvPicPr/>
          <p:nvPr/>
        </p:nvPicPr>
        <p:blipFill>
          <a:blip r:embed="rId3"/>
          <a:srcRect l="12098" t="2811" r="14673" b="15696"/>
          <a:stretch/>
        </p:blipFill>
        <p:spPr>
          <a:xfrm>
            <a:off x="4038480" y="213372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T013BB~1"/>
          <p:cNvPicPr/>
          <p:nvPr/>
        </p:nvPicPr>
        <p:blipFill>
          <a:blip r:embed="rId4"/>
          <a:srcRect l="7420" t="14961" r="21336" b="0"/>
          <a:stretch/>
        </p:blipFill>
        <p:spPr>
          <a:xfrm rot="153000">
            <a:off x="329760" y="4219560"/>
            <a:ext cx="1341360" cy="120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0177B~1"/>
          <p:cNvPicPr/>
          <p:nvPr/>
        </p:nvPicPr>
        <p:blipFill>
          <a:blip r:embed="rId5"/>
          <a:stretch/>
        </p:blipFill>
        <p:spPr>
          <a:xfrm>
            <a:off x="457200" y="5486400"/>
            <a:ext cx="1461960" cy="84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http://imgt3.bdstatic.com/it/u=1094310707,91612048&amp;fm=21&amp;gp=0.jpg"/>
          <p:cNvPicPr/>
          <p:nvPr/>
        </p:nvPicPr>
        <p:blipFill>
          <a:blip r:embed="rId6"/>
          <a:stretch/>
        </p:blipFill>
        <p:spPr>
          <a:xfrm>
            <a:off x="1600200" y="380880"/>
            <a:ext cx="1523880" cy="1035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http://imgt0.bdstatic.com/it/u=3649221395,4256862449&amp;fm=23&amp;gp=0.jpg"/>
          <p:cNvPicPr/>
          <p:nvPr/>
        </p:nvPicPr>
        <p:blipFill>
          <a:blip r:embed="rId7"/>
          <a:stretch/>
        </p:blipFill>
        <p:spPr>
          <a:xfrm>
            <a:off x="1905120" y="1676520"/>
            <a:ext cx="1366560" cy="9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http://t12.baidu.com/it/u=2760462983,2631529104&amp;fm=59"/>
          <p:cNvPicPr/>
          <p:nvPr/>
        </p:nvPicPr>
        <p:blipFill>
          <a:blip r:embed="rId8"/>
          <a:stretch/>
        </p:blipFill>
        <p:spPr>
          <a:xfrm>
            <a:off x="228600" y="1676520"/>
            <a:ext cx="1530360" cy="1079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http://imgt5.bdstatic.com/it/u=3706361019,1990455054&amp;fm=90&amp;gp=0.jpg"/>
          <p:cNvPicPr/>
          <p:nvPr/>
        </p:nvPicPr>
        <p:blipFill>
          <a:blip r:embed="rId9"/>
          <a:srcRect l="0" t="0" r="0" b="5943"/>
          <a:stretch/>
        </p:blipFill>
        <p:spPr>
          <a:xfrm>
            <a:off x="3733920" y="518148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C:\Users\Administrator\Downloads\contents\database\u3\data\05pic\small\018.jpg"/>
          <p:cNvPicPr/>
          <p:nvPr/>
        </p:nvPicPr>
        <p:blipFill>
          <a:blip r:embed="rId10"/>
          <a:srcRect l="8296" t="15814" r="3190" b="20931"/>
          <a:stretch/>
        </p:blipFill>
        <p:spPr>
          <a:xfrm>
            <a:off x="7315200" y="5181480"/>
            <a:ext cx="1508040" cy="943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http://imgt1.bdstatic.com/it/u=3960592367,2599311900&amp;fm=21&amp;gp=0.jpg"/>
          <p:cNvPicPr/>
          <p:nvPr/>
        </p:nvPicPr>
        <p:blipFill>
          <a:blip r:embed="rId11"/>
          <a:srcRect l="0" t="0" r="12264" b="3779"/>
          <a:stretch/>
        </p:blipFill>
        <p:spPr>
          <a:xfrm>
            <a:off x="7467480" y="2362320"/>
            <a:ext cx="1427400" cy="110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T0149D~1"/>
          <p:cNvPicPr/>
          <p:nvPr/>
        </p:nvPicPr>
        <p:blipFill>
          <a:blip r:embed="rId12"/>
          <a:srcRect l="6897" t="0" r="3317" b="0"/>
          <a:stretch/>
        </p:blipFill>
        <p:spPr>
          <a:xfrm>
            <a:off x="57150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201092~1"/>
          <p:cNvPicPr/>
          <p:nvPr/>
        </p:nvPicPr>
        <p:blipFill>
          <a:blip r:embed="rId13"/>
          <a:srcRect l="4635" t="6479" r="14729" b="6597"/>
          <a:stretch/>
        </p:blipFill>
        <p:spPr>
          <a:xfrm>
            <a:off x="1981080" y="2743200"/>
            <a:ext cx="1067040" cy="130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T01F24~1"/>
          <p:cNvPicPr/>
          <p:nvPr/>
        </p:nvPicPr>
        <p:blipFill>
          <a:blip r:embed="rId14"/>
          <a:stretch/>
        </p:blipFill>
        <p:spPr>
          <a:xfrm>
            <a:off x="4419720" y="3657600"/>
            <a:ext cx="714240" cy="1162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T01742~1"/>
          <p:cNvPicPr/>
          <p:nvPr/>
        </p:nvPicPr>
        <p:blipFill>
          <a:blip r:embed="rId15"/>
          <a:srcRect l="6162" t="9165" r="9460" b="11214"/>
          <a:stretch/>
        </p:blipFill>
        <p:spPr>
          <a:xfrm>
            <a:off x="2133720" y="5410080"/>
            <a:ext cx="1295280" cy="819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T011A0~1"/>
          <p:cNvPicPr/>
          <p:nvPr/>
        </p:nvPicPr>
        <p:blipFill>
          <a:blip r:embed="rId16"/>
          <a:srcRect l="37490" t="0" r="37385" b="0"/>
          <a:stretch/>
        </p:blipFill>
        <p:spPr>
          <a:xfrm>
            <a:off x="3352680" y="2819520"/>
            <a:ext cx="609840" cy="2165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T0121E~1"/>
          <p:cNvPicPr/>
          <p:nvPr/>
        </p:nvPicPr>
        <p:blipFill>
          <a:blip r:embed="rId17"/>
          <a:stretch/>
        </p:blipFill>
        <p:spPr>
          <a:xfrm>
            <a:off x="5638680" y="3809880"/>
            <a:ext cx="137160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T01F5B~1"/>
          <p:cNvPicPr/>
          <p:nvPr/>
        </p:nvPicPr>
        <p:blipFill>
          <a:blip r:embed="rId18"/>
          <a:stretch/>
        </p:blipFill>
        <p:spPr>
          <a:xfrm>
            <a:off x="1905120" y="4038480"/>
            <a:ext cx="1304640" cy="1111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300000~1"/>
          <p:cNvPicPr/>
          <p:nvPr/>
        </p:nvPicPr>
        <p:blipFill>
          <a:blip r:embed="rId19"/>
          <a:stretch/>
        </p:blipFill>
        <p:spPr>
          <a:xfrm>
            <a:off x="7315200" y="3657600"/>
            <a:ext cx="1612800" cy="1262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T019A9~1"/>
          <p:cNvPicPr/>
          <p:nvPr/>
        </p:nvPicPr>
        <p:blipFill>
          <a:blip r:embed="rId20"/>
          <a:stretch/>
        </p:blipFill>
        <p:spPr>
          <a:xfrm>
            <a:off x="5867280" y="5105520"/>
            <a:ext cx="129564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71520" y="743040"/>
            <a:ext cx="9917280" cy="100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http://imgt2.bdstatic.com/it/u=3946725704,3075817540&amp;fm=21&amp;gp=0.jpg"/>
          <p:cNvPicPr/>
          <p:nvPr/>
        </p:nvPicPr>
        <p:blipFill>
          <a:blip r:embed="rId2"/>
          <a:stretch/>
        </p:blipFill>
        <p:spPr>
          <a:xfrm>
            <a:off x="3048120" y="2438280"/>
            <a:ext cx="2971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533520"/>
            <a:ext cx="7772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ill in the bl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课文填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Look, Danny.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My favourit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u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Th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95280" y="1981080"/>
            <a:ext cx="648000" cy="4191120"/>
            <a:chOff x="1295280" y="1981080"/>
            <a:chExt cx="648000" cy="4191120"/>
          </a:xfrm>
        </p:grpSpPr>
        <p:pic>
          <p:nvPicPr>
            <p:cNvPr id="156" name="" descr="C:\Users\Administrator\Downloads\contents\database\u1\data\05pic\022.jpg"/>
            <p:cNvPicPr/>
            <p:nvPr/>
          </p:nvPicPr>
          <p:blipFill>
            <a:blip r:embed="rId1"/>
            <a:srcRect l="65002" t="28889" r="25002" b="56668"/>
            <a:stretch/>
          </p:blipFill>
          <p:spPr>
            <a:xfrm rot="156000">
              <a:off x="1308240" y="2754000"/>
              <a:ext cx="5461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C:\Users\Administrator\Downloads\contents\database\u1\data\05pic\010.jpg"/>
            <p:cNvPicPr/>
            <p:nvPr/>
          </p:nvPicPr>
          <p:blipFill>
            <a:blip r:embed="rId2"/>
            <a:srcRect l="8331" t="3335" r="68346" b="56669"/>
            <a:stretch/>
          </p:blipFill>
          <p:spPr>
            <a:xfrm>
              <a:off x="1295280" y="1981080"/>
              <a:ext cx="533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C:\Users\Administrator\Downloads\contents\database\u1\data\05pic\010.jpg"/>
            <p:cNvPicPr/>
            <p:nvPr/>
          </p:nvPicPr>
          <p:blipFill>
            <a:blip r:embed="rId3"/>
            <a:srcRect l="8331" t="3335" r="68346" b="56669"/>
            <a:stretch/>
          </p:blipFill>
          <p:spPr>
            <a:xfrm>
              <a:off x="1371600" y="4038480"/>
              <a:ext cx="5335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C:\Users\Administrator\Downloads\contents\database\u1\data\05pic\022.jpg"/>
            <p:cNvPicPr/>
            <p:nvPr/>
          </p:nvPicPr>
          <p:blipFill>
            <a:blip r:embed="rId4"/>
            <a:srcRect l="65002" t="28889" r="25002" b="56668"/>
            <a:stretch/>
          </p:blipFill>
          <p:spPr>
            <a:xfrm rot="156000">
              <a:off x="1383840" y="4735080"/>
              <a:ext cx="5461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C:\Users\Administrator\Downloads\contents\database\u1\data\05pic\010.jpg"/>
            <p:cNvPicPr/>
            <p:nvPr/>
          </p:nvPicPr>
          <p:blipFill>
            <a:blip r:embed="rId5"/>
            <a:srcRect l="8331" t="3335" r="68346" b="56669"/>
            <a:stretch/>
          </p:blipFill>
          <p:spPr>
            <a:xfrm>
              <a:off x="1371600" y="5486400"/>
              <a:ext cx="5335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6019920" y="1905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on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2767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ay I have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2578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ou are welco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480" y="1066680"/>
            <a:ext cx="7925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Let’s practice.(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练一练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A: May I have_______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B: Sure. Here you a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A: Than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</a:rPr>
              <a:t>B:You are 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4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1752480" cy="195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rcRect l="8493" t="0" r="14984" b="0"/>
          <a:stretch/>
        </p:blipFill>
        <p:spPr>
          <a:xfrm>
            <a:off x="4876920" y="1371600"/>
            <a:ext cx="1523880" cy="1522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62120" y="1371600"/>
            <a:ext cx="1676160" cy="1569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4920" y="5335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Listen and match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一听，连一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300000~1"/>
          <p:cNvPicPr/>
          <p:nvPr/>
        </p:nvPicPr>
        <p:blipFill>
          <a:blip r:embed="rId5"/>
          <a:stretch/>
        </p:blipFill>
        <p:spPr>
          <a:xfrm>
            <a:off x="685800" y="4098960"/>
            <a:ext cx="1905120" cy="1488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28800" y="3048120"/>
            <a:ext cx="1523880" cy="10666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2971800"/>
            <a:ext cx="1447560" cy="114300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80720" y="3048120"/>
            <a:ext cx="3581640" cy="10666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3048120"/>
            <a:ext cx="0" cy="99036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7162920" y="4114800"/>
            <a:ext cx="1420560" cy="163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876920" y="4114800"/>
            <a:ext cx="2057400" cy="1644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971800" y="4191120"/>
            <a:ext cx="1752480" cy="13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http://imgt5.bdstatic.com/it/u=2795819795,3413945806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66680" y="99072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</a:pP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Draw your favourite food and introduce(</a:t>
            </a: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介绍</a:t>
            </a: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)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</a:pPr>
            <a:r>
              <a:rPr b="0" lang="zh-CN" sz="4000" spc="-1" strike="noStrike">
                <a:solidFill>
                  <a:srgbClr val="002060"/>
                </a:solidFill>
                <a:latin typeface="Arial"/>
              </a:rPr>
              <a:t>Make up a dialogue with your part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29000" y="2666880"/>
            <a:ext cx="182880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2819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4920" y="1676520"/>
            <a:ext cx="2971800" cy="2819160"/>
            <a:chOff x="304920" y="1676520"/>
            <a:chExt cx="2971800" cy="2819160"/>
          </a:xfrm>
        </p:grpSpPr>
        <p:sp>
          <p:nvSpPr>
            <p:cNvPr id="46" name=""/>
            <p:cNvSpPr/>
            <p:nvPr/>
          </p:nvSpPr>
          <p:spPr>
            <a:xfrm>
              <a:off x="304920" y="1676520"/>
              <a:ext cx="2971800" cy="2819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T01A98~1"/>
            <p:cNvPicPr/>
            <p:nvPr/>
          </p:nvPicPr>
          <p:blipFill>
            <a:blip r:embed="rId1"/>
            <a:stretch/>
          </p:blipFill>
          <p:spPr>
            <a:xfrm>
              <a:off x="457200" y="2666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T01B3E~1"/>
            <p:cNvPicPr/>
            <p:nvPr/>
          </p:nvPicPr>
          <p:blipFill>
            <a:blip r:embed="rId2"/>
            <a:srcRect l="7368" t="11580" r="9618" b="6957"/>
            <a:stretch/>
          </p:blipFill>
          <p:spPr>
            <a:xfrm>
              <a:off x="1447920" y="1828800"/>
              <a:ext cx="77940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T01578~1"/>
            <p:cNvPicPr/>
            <p:nvPr/>
          </p:nvPicPr>
          <p:blipFill>
            <a:blip r:embed="rId3"/>
            <a:srcRect l="12098" t="2811" r="14673" b="15696"/>
            <a:stretch/>
          </p:blipFill>
          <p:spPr>
            <a:xfrm>
              <a:off x="2362320" y="2514600"/>
              <a:ext cx="874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T013BB~1"/>
            <p:cNvPicPr/>
            <p:nvPr/>
          </p:nvPicPr>
          <p:blipFill>
            <a:blip r:embed="rId4"/>
            <a:srcRect l="7420" t="14961" r="21336" b="0"/>
            <a:stretch/>
          </p:blipFill>
          <p:spPr>
            <a:xfrm rot="153000">
              <a:off x="1387440" y="2914200"/>
              <a:ext cx="83988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T0177B~1"/>
            <p:cNvPicPr/>
            <p:nvPr/>
          </p:nvPicPr>
          <p:blipFill>
            <a:blip r:embed="rId5"/>
            <a:stretch/>
          </p:blipFill>
          <p:spPr>
            <a:xfrm>
              <a:off x="1295280" y="3733920"/>
              <a:ext cx="106704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819520" y="0"/>
            <a:ext cx="2971800" cy="2819520"/>
            <a:chOff x="2819520" y="0"/>
            <a:chExt cx="2971800" cy="2819520"/>
          </a:xfrm>
        </p:grpSpPr>
        <p:sp>
          <p:nvSpPr>
            <p:cNvPr id="53" name=""/>
            <p:cNvSpPr/>
            <p:nvPr/>
          </p:nvSpPr>
          <p:spPr>
            <a:xfrm>
              <a:off x="2819520" y="0"/>
              <a:ext cx="2971800" cy="2819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http://imgt3.bdstatic.com/it/u=1094310707,91612048&amp;fm=21&amp;gp=0.jpg"/>
            <p:cNvPicPr/>
            <p:nvPr/>
          </p:nvPicPr>
          <p:blipFill>
            <a:blip r:embed="rId6"/>
            <a:stretch/>
          </p:blipFill>
          <p:spPr>
            <a:xfrm>
              <a:off x="3048120" y="457200"/>
              <a:ext cx="121428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http://imgt0.bdstatic.com/it/u=3649221395,4256862449&amp;fm=23&amp;gp=0.jpg"/>
            <p:cNvPicPr/>
            <p:nvPr/>
          </p:nvPicPr>
          <p:blipFill>
            <a:blip r:embed="rId7"/>
            <a:stretch/>
          </p:blipFill>
          <p:spPr>
            <a:xfrm>
              <a:off x="4343400" y="457200"/>
              <a:ext cx="11430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http://t12.baidu.com/it/u=2760462983,2631529104&amp;fm=59"/>
            <p:cNvPicPr/>
            <p:nvPr/>
          </p:nvPicPr>
          <p:blipFill>
            <a:blip r:embed="rId8"/>
            <a:stretch/>
          </p:blipFill>
          <p:spPr>
            <a:xfrm>
              <a:off x="3124080" y="1523880"/>
              <a:ext cx="10987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http://imgt5.bdstatic.com/it/u=3706361019,1990455054&amp;fm=90&amp;gp=0.jpg"/>
            <p:cNvPicPr/>
            <p:nvPr/>
          </p:nvPicPr>
          <p:blipFill>
            <a:blip r:embed="rId9"/>
            <a:srcRect l="0" t="0" r="0" b="5943"/>
            <a:stretch/>
          </p:blipFill>
          <p:spPr>
            <a:xfrm>
              <a:off x="4419720" y="1447920"/>
              <a:ext cx="1087200" cy="84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5562720" y="1752480"/>
            <a:ext cx="2971800" cy="2819520"/>
            <a:chOff x="5562720" y="1752480"/>
            <a:chExt cx="2971800" cy="2819520"/>
          </a:xfrm>
        </p:grpSpPr>
        <p:sp>
          <p:nvSpPr>
            <p:cNvPr id="59" name=""/>
            <p:cNvSpPr/>
            <p:nvPr/>
          </p:nvSpPr>
          <p:spPr>
            <a:xfrm>
              <a:off x="5562720" y="1752480"/>
              <a:ext cx="2971800" cy="2819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C:\Users\Administrator\Downloads\contents\database\u3\data\05pic\small\018.jpg"/>
            <p:cNvPicPr/>
            <p:nvPr/>
          </p:nvPicPr>
          <p:blipFill>
            <a:blip r:embed="rId10"/>
            <a:srcRect l="8296" t="15814" r="3190" b="20931"/>
            <a:stretch/>
          </p:blipFill>
          <p:spPr>
            <a:xfrm>
              <a:off x="6400800" y="3429000"/>
              <a:ext cx="150804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http://imgt1.bdstatic.com/it/u=3960592367,2599311900&amp;fm=21&amp;gp=0.jpg"/>
            <p:cNvPicPr/>
            <p:nvPr/>
          </p:nvPicPr>
          <p:blipFill>
            <a:blip r:embed="rId11"/>
            <a:srcRect l="0" t="0" r="12264" b="3779"/>
            <a:stretch/>
          </p:blipFill>
          <p:spPr>
            <a:xfrm>
              <a:off x="7010280" y="2286000"/>
              <a:ext cx="14274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T0149D~1"/>
            <p:cNvPicPr/>
            <p:nvPr/>
          </p:nvPicPr>
          <p:blipFill>
            <a:blip r:embed="rId12"/>
            <a:srcRect l="6897" t="0" r="3317" b="0"/>
            <a:stretch/>
          </p:blipFill>
          <p:spPr>
            <a:xfrm>
              <a:off x="5791320" y="2286000"/>
              <a:ext cx="114300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2895480" y="4038480"/>
            <a:ext cx="2971800" cy="2819520"/>
            <a:chOff x="2895480" y="4038480"/>
            <a:chExt cx="2971800" cy="2819520"/>
          </a:xfrm>
        </p:grpSpPr>
        <p:sp>
          <p:nvSpPr>
            <p:cNvPr id="64" name=""/>
            <p:cNvSpPr/>
            <p:nvPr/>
          </p:nvSpPr>
          <p:spPr>
            <a:xfrm>
              <a:off x="2895480" y="4038480"/>
              <a:ext cx="2971800" cy="2819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201092~1"/>
            <p:cNvPicPr/>
            <p:nvPr/>
          </p:nvPicPr>
          <p:blipFill>
            <a:blip r:embed="rId13"/>
            <a:srcRect l="4635" t="6479" r="14729" b="6597"/>
            <a:stretch/>
          </p:blipFill>
          <p:spPr>
            <a:xfrm>
              <a:off x="3124080" y="4952880"/>
              <a:ext cx="792360" cy="13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T01F24~1"/>
            <p:cNvPicPr/>
            <p:nvPr/>
          </p:nvPicPr>
          <p:blipFill>
            <a:blip r:embed="rId14"/>
            <a:stretch/>
          </p:blipFill>
          <p:spPr>
            <a:xfrm>
              <a:off x="4876920" y="5105520"/>
              <a:ext cx="7142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T01742~1"/>
            <p:cNvPicPr/>
            <p:nvPr/>
          </p:nvPicPr>
          <p:blipFill>
            <a:blip r:embed="rId15"/>
            <a:srcRect l="6162" t="9165" r="9460" b="11214"/>
            <a:stretch/>
          </p:blipFill>
          <p:spPr>
            <a:xfrm>
              <a:off x="3809880" y="4267080"/>
              <a:ext cx="114300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T011A0~1"/>
            <p:cNvPicPr/>
            <p:nvPr/>
          </p:nvPicPr>
          <p:blipFill>
            <a:blip r:embed="rId16"/>
            <a:srcRect l="37490" t="0" r="37385" b="0"/>
            <a:stretch/>
          </p:blipFill>
          <p:spPr>
            <a:xfrm>
              <a:off x="4114800" y="5257800"/>
              <a:ext cx="530280" cy="13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066680" y="114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dr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724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m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Chines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27432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Western f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00200" y="457200"/>
            <a:ext cx="6553080" cy="5676840"/>
            <a:chOff x="1600200" y="457200"/>
            <a:chExt cx="6553080" cy="5676840"/>
          </a:xfrm>
        </p:grpSpPr>
        <p:pic>
          <p:nvPicPr>
            <p:cNvPr id="75" name="" descr="300000~1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752480" y="3809880"/>
              <a:ext cx="297180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5715000" y="3733920"/>
              <a:ext cx="223344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1600200" y="457200"/>
              <a:ext cx="3048120" cy="24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410080" y="488880"/>
              <a:ext cx="2743200" cy="216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4724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y      n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u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e      teach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12408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a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ur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8000" spc="-1" strike="noStrike">
                <a:solidFill>
                  <a:srgbClr val="a50021"/>
                </a:solidFill>
                <a:latin typeface="Arial"/>
              </a:rPr>
              <a:t>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19520" y="426960"/>
            <a:ext cx="3429000" cy="27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8120" y="426708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43200" y="914400"/>
            <a:ext cx="358128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300000~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685800"/>
            <a:ext cx="3429000" cy="268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41911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191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114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Arial"/>
              </a:rPr>
              <a:t>hot d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267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               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14600" y="38862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ce cr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25800" y="457200"/>
            <a:ext cx="2917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0020020423[1]"/>
          <p:cNvPicPr/>
          <p:nvPr/>
        </p:nvPicPr>
        <p:blipFill>
          <a:blip r:embed="rId1"/>
          <a:srcRect l="0" t="7487" r="0" b="15786"/>
          <a:stretch/>
        </p:blipFill>
        <p:spPr>
          <a:xfrm>
            <a:off x="-3492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135331560885[1]"/>
          <p:cNvPicPr/>
          <p:nvPr/>
        </p:nvPicPr>
        <p:blipFill>
          <a:blip r:embed="rId2"/>
          <a:srcRect l="13102" t="0" r="13287" b="0"/>
          <a:stretch/>
        </p:blipFill>
        <p:spPr>
          <a:xfrm>
            <a:off x="-34920" y="5425920"/>
            <a:ext cx="9178920" cy="1432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86320" y="1666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what'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T019A9~1"/>
          <p:cNvPicPr/>
          <p:nvPr/>
        </p:nvPicPr>
        <p:blipFill>
          <a:blip r:embed="rId3"/>
          <a:stretch/>
        </p:blipFill>
        <p:spPr>
          <a:xfrm>
            <a:off x="914400" y="4267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T0121E~1"/>
          <p:cNvPicPr/>
          <p:nvPr/>
        </p:nvPicPr>
        <p:blipFill>
          <a:blip r:embed="rId4"/>
          <a:stretch/>
        </p:blipFill>
        <p:spPr>
          <a:xfrm>
            <a:off x="2895480" y="4267080"/>
            <a:ext cx="1752840" cy="147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T01F5B~1"/>
          <p:cNvPicPr/>
          <p:nvPr/>
        </p:nvPicPr>
        <p:blipFill>
          <a:blip r:embed="rId5"/>
          <a:stretch/>
        </p:blipFill>
        <p:spPr>
          <a:xfrm>
            <a:off x="4724280" y="4267080"/>
            <a:ext cx="1752840" cy="1492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300000~1"/>
          <p:cNvPicPr/>
          <p:nvPr/>
        </p:nvPicPr>
        <p:blipFill>
          <a:blip r:embed="rId6"/>
          <a:stretch/>
        </p:blipFill>
        <p:spPr>
          <a:xfrm>
            <a:off x="6553080" y="4267080"/>
            <a:ext cx="190512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51 -0.00301 -0.01719 -0.00486 -0.02569 -0.00811 C -0.03507 -0.01158 -0.04184 -0.01806 -0.05156 -0.02037 C -0.05503 -0.02269 -0.0592 -0.02315 -0.06214 -0.02639 C -0.07638 -0.04167 -0.0842 -0.06436 -0.1 -0.07686 C -0.1026 -0.08148 -0.1066 -0.08542 -0.10763 -0.09098 C -0.10955 -0.10186 -0.10763 -0.09723 -0.11354 -0.1051 C -0.11545 -0.11273 -0.11944 -0.11805 -0.12274 -0.12523 C -0.12726 -0.14884 -0.12101 -0.11968 -0.12726 -0.13936 C -0.12969 -0.14698 -0.12969 -0.15579 -0.13177 -0.16366 C -0.13472 -0.18634 -0.13646 -0.2493 -0.11962 -0.27083 C -0.11614 -0.2963 -0.09792 -0.33079 -0.08177 -0.34561 C -0.07882 -0.35694 -0.08263 -0.34745 -0.07569 -0.3537 C -0.06979 -0.35902 -0.06927 -0.36666 -0.06214 -0.36967 C -0.05763 -0.37592 -0.05451 -0.37916 -0.04844 -0.38194 C -0.04601 -0.38473 -0.04375 -0.38797 -0.04097 -0.39005 C -0.03924 -0.39144 -0.03662 -0.39051 -0.0349 -0.3919 C -0.03299 -0.39329 -0.03212 -0.39652 -0.03021 -0.39815 C -0.02014 -0.40672 -0.00537 -0.41134 0.00608 -0.41412 C 0.02412 -0.42894 0.04757 -0.43587 0.06823 -0.44051 C 0.09964 -0.45509 0.13681 -0.45047 0.16979 -0.45255 C 0.19097 -0.45185 0.21233 -0.45323 0.23315 -0.45047 C 0.24028 -0.44953 0.25589 -0.43658 0.26214 -0.43241 C 0.28419 -0.4169 0.30226 -0.40138 0.32117 -0.37986 C 0.32778 -0.37245 0.33455 -0.36805 0.34096 -0.35973 C 0.34826 -0.33981 0.33854 -0.36319 0.34983 -0.34561 C 0.35156 -0.34329 0.3519 -0.34005 0.35312 -0.33749 C 0.35624 -0.33124 0.36007 -0.32523 0.36371 -0.31922 C 0.36787 -0.3118 0.37031 -0.30277 0.37431 -0.29491 C 0.38141 -0.28009 0.38766 -0.26458 0.39548 -0.25047 C 0.39739 -0.24051 0.40208 -0.22962 0.40763 -0.22223 C 0.40937 -0.21458 0.41285 -0.20948 0.4151 -0.20208 C 0.41962 -0.1868 0.42205 -0.17107 0.42568 -0.15555 C 0.42535 -0.13819 0.42986 -0.08635 0.4151 -0.06667 C 0.41423 -0.0625 0.40903 -0.04976 0.40763 -0.04653 C 0.40589 -0.04283 0.4019 -0.04121 0.39999 -0.03843 C 0.39809 -0.03611 0.39721 -0.03264 0.39548 -0.03033 C 0.39322 -0.02756 0.38697 -0.02385 0.38489 -0.02224 C 0.36354 -0.00579 0.33818 0.00115 0.31371 0.00393 C 0.2941 0.00926 0.27412 0.00833 0.25451 0.00994 C 0.24044 0.01111 0.21214 0.01412 0.21214 0.01412 C 0.1816 0.02453 0.13004 0.01712 0.1 0.01619 C 0.09375 0.01412 0.08802 0.01157 0.08177 0.00994 C 0.07483 0.00393 0.06927 -0.00139 0.06214 -0.00601 C 0.04287 -0.03218 0.02778 -0.06158 0.01372 -0.09305 C 0.01042 -0.10069 0.00868 -0.10718 0.00608 -0.11528 C 0.00434 -0.12083 0 -0.13148 0 -0.13148 C -0.0026 -0.14723 -0.00625 -0.15694 -0.01059 -0.17176 C -0.01198 -0.18726 -0.01302 -0.19398 -0.01667 -0.20811 C -0.02222 -0.25232 -0.02135 -0.29583 -0.00156 -0.33148 C 0.00365 -0.35138 0.01215 -0.36712 0.02118 -0.3838 C 0.03263 -0.40509 0.0375 -0.42592 0.05763 -0.43634 C 0.07101 -0.4544 0.05521 -0.43541 0.07274 -0.4486 C 0.08681 -0.45926 0.0658 -0.45138 0.08489 -0.45672 C 0.09219 -0.46388 0.09792 -0.46598 0.10608 -0.47083 C 0.11129 -0.47384 0.11614 -0.47755 0.12118 -0.48078 C 0.12344 -0.48241 0.12638 -0.48194 0.12882 -0.48287 C 0.14375 -0.48866 0.15955 -0.49444 0.17431 -0.50116 C 0.22379 -0.50023 0.27812 -0.50485 0.32882 -0.49491 C 0.33976 -0.49027 0.32535 -0.49583 0.34705 -0.49098 C 0.3526 -0.48958 0.35798 -0.48473 0.36371 -0.48287 C 0.3691 -0.47569 0.37516 -0.47037 0.38177 -0.46481 C 0.38471 -0.46226 0.38645 -0.45741 0.3894 -0.45462 C 0.39148 -0.45255 0.39322 -0.45047 0.39548 -0.4486 C 0.39739 -0.44698 0.39964 -0.4463 0.40156 -0.44444 C 0.40989 -0.43634 0.41754 -0.42662 0.42568 -0.41829 C 0.42846 -0.41527 0.43229 -0.41366 0.43489 -0.41019 C 0.43593 -0.4088 0.43681 -0.40717 0.43785 -0.40601 C 0.43975 -0.40394 0.44218 -0.40231 0.44374 -0.39999 C 0.44565 -0.39769 0.44652 -0.39422 0.44843 -0.3919 C 0.45156 -0.38797 0.45572 -0.38587 0.45902 -0.38194 C 0.46787 -0.3713 0.47516 -0.35856 0.48489 -0.34954 C 0.48714 -0.34098 0.492 -0.33726 0.49548 -0.3294 C 0.50208 -0.31436 0.50608 -0.29561 0.5151 -0.28287 C 0.51858 -0.26944 0.52464 -0.25462 0.53037 -0.24259 C 0.53089 -0.23912 0.53089 -0.23565 0.53176 -0.23241 C 0.53246 -0.23009 0.53437 -0.2287 0.53489 -0.22639 C 0.54079 -0.20371 0.53246 -0.22223 0.5394 -0.20811 C 0.54166 -0.19652 0.54462 -0.18541 0.54704 -0.17384 C 0.54878 -0.16573 0.54843 -0.15948 0.55312 -0.15371 C 0.5545 -0.14561 0.55555 -0.14028 0.55902 -0.13333 C 0.56249 -0.11528 0.56614 -0.09746 0.56822 -0.07894 C 0.57013 -0.01968 0.56978 -0.04792 0.56978 0.00601 E"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34 -0.00186 0.00799 -0.00533 0.01233 -0.00601 C 0.02743 -0.00833 0.05782 -0.01019 0.05782 -0.01019 C 0.07101 -0.01644 0.08507 -0.01899 0.09861 -0.02431 C 0.10018 -0.025 0.10174 -0.02569 0.1033 -0.02639 C 0.10573 -0.02756 0.10815 -0.0294 0.11077 -0.03033 C 0.12065 -0.03426 0.13125 -0.03611 0.14114 -0.04051 C 0.16875 -0.05278 0.14687 -0.04583 0.16233 -0.05047 C 0.1684 -0.05462 0.17379 -0.05649 0.18056 -0.05857 C 0.19062 -0.06829 0.19358 -0.06899 0.20468 -0.07476 C 0.21146 -0.0838 0.22049 -0.0875 0.229 -0.09305 C 0.23386 -0.0963 0.25209 -0.11968 0.25782 -0.12732 C 0.25886 -0.1301 0.25919 -0.13333 0.26077 -0.13541 C 0.26492 -0.14098 0.27447 -0.14954 0.27447 -0.14954 C 0.28108 -0.16482 0.28976 -0.17708 0.29722 -0.1919 C 0.3 -0.20416 0.29669 -0.19212 0.3033 -0.20601 C 0.30625 -0.21204 0.30694 -0.21783 0.30919 -0.2243 C 0.31181 -0.23194 0.3158 -0.23889 0.3184 -0.24652 C 0.32205 -0.25741 0.32048 -0.25694 0.32291 -0.26666 C 0.32621 -0.28009 0.33108 -0.29212 0.33507 -0.30509 C 0.33645 -0.31644 0.33907 -0.32638 0.34114 -0.33749 C 0.34427 -0.39561 0.34565 -0.43519 0.32447 -0.48287 C 0.32291 -0.49098 0.32153 -0.49698 0.31684 -0.50301 C 0.3073 -0.52916 0.28507 -0.55023 0.26388 -0.55555 C 0.25434 -0.56388 0.2441 -0.56505 0.23351 -0.56967 C 0.22761 -0.57223 0.22117 -0.57777 0.21528 -0.57985 C 0.20434 -0.58356 0.19028 -0.5861 0.179 -0.58796 C 0.14827 -0.60207 0.11684 -0.59953 0.08507 -0.606 C 0.03907 -0.60532 -0.00677 -0.60532 -0.05277 -0.60416 C -0.08368 -0.60348 -0.11319 -0.59212 -0.14375 -0.58796 C -0.15746 -0.57848 -0.14045 -0.58888 -0.16336 -0.58194 C -0.16562 -0.58124 -0.16736 -0.57894 -0.16943 -0.57777 C -0.1776 -0.5736 -0.18662 -0.57037 -0.19531 -0.56782 C -0.20415 -0.55948 -0.21943 -0.55694 -0.23003 -0.55162 C -0.24982 -0.54166 -0.26823 -0.52708 -0.28922 -0.5213 C -0.296 -0.51226 -0.30363 -0.50856 -0.31197 -0.50301 C -0.32725 -0.49283 -0.34287 -0.47708 -0.35745 -0.46481 C -0.36318 -0.45995 -0.36979 -0.45741 -0.37552 -0.45255 C -0.38367 -0.4456 -0.39132 -0.43726 -0.39825 -0.42823 C -0.40086 -0.42499 -0.40398 -0.42223 -0.40589 -0.41829 C -0.40797 -0.41412 -0.41197 -0.40601 -0.41197 -0.40601 C -0.41492 -0.39329 -0.41111 -0.40648 -0.42099 -0.39005 C -0.42898 -0.37686 -0.43315 -0.35926 -0.4408 -0.34561 C -0.44236 -0.34283 -0.44409 -0.34051 -0.44531 -0.33749 C -0.44757 -0.33218 -0.45138 -0.3213 -0.45138 -0.3213 C -0.4519 -0.31851 -0.4519 -0.31573 -0.45276 -0.31319 C -0.4545 -0.30763 -0.45763 -0.30277 -0.45885 -0.29723 C -0.4618 -0.28357 -0.46301 -0.26991 -0.46648 -0.25672 C -0.46995 -0.21551 -0.47099 -0.18241 -0.45745 -0.14561 C -0.45502 -0.13889 -0.45537 -0.13311 -0.45138 -0.12732 C -0.44861 -0.11319 -0.44531 -0.0993 -0.43922 -0.08704 C -0.4354 -0.0676 -0.43141 -0.04885 -0.42551 -0.03033 C -0.4229 -0.02199 -0.42309 -0.01899 -0.41805 -0.01226 C -0.41632 -0.00533 -0.41422 -0.00117 -0.4104 0.00393 E">
                                      <p:cBhvr>
                                        <p:cTn id="9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-0.01458 C 0.01389 -0.01599 0.01719 -0.01667 0.01997 -0.01851 C 0.02118 -0.01944 0.02187 -0.02176 0.02309 -0.02269 C 0.02379 -0.02337 0.03125 -0.02617 0.03212 -0.02662 C 0.03888 -0.03587 0.04705 -0.03635 0.05486 -0.04305 C 0.06545 -0.05139 0.05625 -0.04746 0.06702 -0.05093 C 0.07066 -0.05417 0.08559 -0.06599 0.0882 -0.07107 C 0.0915 -0.07755 0.09393 -0.08079 0.09879 -0.08519 C 0.10573 -0.10348 0.11771 -0.1176 0.12465 -0.13587 C 0.13611 -0.16621 0.14132 -0.20139 0.14427 -0.23473 C 0.14375 -0.26712 0.14358 -0.2993 0.14271 -0.33172 C 0.14254 -0.33726 0.13976 -0.35138 0.1382 -0.35601 C 0.13611 -0.3618 0.13056 -0.37223 0.13056 -0.37198 C 0.129 -0.37916 0.1184 -0.39769 0.11388 -0.40255 C 0.11268 -0.40394 0.11094 -0.4037 0.10937 -0.4044 C 0.09965 -0.41735 0.0823 -0.4243 0.06858 -0.42662 C 0.0441 -0.43634 0.01806 -0.43402 -0.00729 -0.4368 C -0.02899 -0.43541 -0.05086 -0.43565 -0.07238 -0.43263 C -0.07743 -0.43194 -0.08125 -0.42592 -0.08611 -0.42476 C -0.0908 -0.42083 -0.09479 -0.41598 -0.09964 -0.41249 C -0.10659 -0.40741 -0.11423 -0.4044 -0.12083 -0.39837 C -0.13298 -0.38749 -0.12361 -0.3919 -0.13455 -0.38819 C -0.1394 -0.37986 -0.14687 -0.37476 -0.15121 -0.36598 C -0.16162 -0.34537 -0.16562 -0.32106 -0.17395 -0.2993 C -0.17552 -0.28773 -0.1769 -0.28634 -0.17238 -0.27315 C -0.16996 -0.2662 -0.16232 -0.26343 -0.15729 -0.26111 C -0.13923 -0.25323 -0.12638 -0.24954 -0.10729 -0.24698 C -0.1033 -0.24652 -0.09912 -0.24559 -0.09513 -0.24491 C -0.07586 -0.24559 -0.05659 -0.24468 -0.0375 -0.24698 C -0.02863 -0.24791 -0.01787 -0.25648 -0.00868 -0.25902 C 0.0158 -0.27547 0.02709 -0.29815 0.04427 -0.32569 C 0.04896 -0.33309 0.05643 -0.34999 0.05643 -0.34976 C 0.05886 -0.36019 0.06216 -0.36991 0.06388 -0.38033 C 0.06702 -0.42083 0.06632 -0.40184 0.06388 -0.46922 C 0.06094 -0.55184 0.00243 -0.57059 -0.04965 -0.57616 C -0.07621 -0.58495 -0.10295 -0.5838 -0.13003 -0.58634 C -0.18177 -0.58519 -0.21318 -0.58402 -0.25867 -0.57616 C -0.28177 -0.56712 -0.30607 -0.55973 -0.33003 -0.55601 C -0.33349 -0.55462 -0.33714 -0.55348 -0.34062 -0.55184 C -0.34322 -0.55069 -0.34547 -0.54908 -0.34809 -0.54791 C -0.35467 -0.54513 -0.36787 -0.53981 -0.36787 -0.53958 C -0.37967 -0.52801 -0.392 -0.51874 -0.40572 -0.51158 C -0.41092 -0.50462 -0.41632 -0.49884 -0.42238 -0.49328 C -0.42863 -0.48055 -0.43523 -0.47384 -0.44062 -0.45902 C -0.44635 -0.44328 -0.44999 -0.42616 -0.45572 -0.41041 C -0.45711 -0.3919 -0.46023 -0.37454 -0.4618 -0.35601 C -0.46092 -0.33009 -0.46249 -0.3118 -0.45728 -0.28934 C -0.45555 -0.26111 -0.45016 -0.23473 -0.442 -0.20857 C -0.44044 -0.19698 -0.43662 -0.18726 -0.43455 -0.17616 C -0.43193 -0.16297 -0.43107 -0.1493 -0.42846 -0.13587 C -0.4276 -0.1243 -0.42586 -0.11297 -0.42534 -0.10139 C -0.42361 -0.06736 -0.42412 -0.03172 -0.4118 -0.00047 E"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0417 0.00607 -0.01574 0.00746 -0.02847 C 0.00833 -0.03611 0.01041 -0.04236 0.01354 -0.04861 C 0.01666 -0.06504 0.01944 -0.08101 0.02412 -0.09698 C 0.02586 -0.11041 0.02725 -0.12037 0.03316 -0.13148 C 0.03662 -0.1456 0.04392 -0.15948 0.05 -0.17176 C 0.05503 -0.1824 0.05381 -0.19282 0.06197 -0.2 C 0.06406 -0.21065 0.06875 -0.21619 0.07412 -0.2243 C 0.0868 -0.24375 0.09722 -0.26087 0.1151 -0.27291 C 0.13141 -0.29952 0.17031 -0.31597 0.19236 -0.3294 C 0.21423 -0.34281 0.23662 -0.35416 0.25902 -0.36573 C 0.27238 -0.37267 0.28229 -0.3794 0.29687 -0.38194 C 0.31196 -0.39212 0.33003 -0.3942 0.34687 -0.39605 C 0.35849 -0.39513 0.37065 -0.39676 0.38177 -0.39212 C 0.39861 -0.38517 0.4144 -0.37662 0.43176 -0.37176 C 0.43992 -0.36642 0.44756 -0.36412 0.45589 -0.35972 C 0.46562 -0.34676 0.45172 -0.36412 0.46353 -0.35369 C 0.46978 -0.34837 0.48071 -0.32545 0.48333 -0.32129 C 0.4854 -0.31781 0.48732 -0.31458 0.48922 -0.31111 C 0.49078 -0.30855 0.49391 -0.30323 0.49391 -0.30323 C 0.49703 -0.29258 0.50086 -0.28795 0.50589 -0.27893 C 0.50867 -0.26827 0.51284 -0.25879 0.51665 -0.24861 C 0.52238 -0.23333 0.52481 -0.21619 0.52863 -0.2 C 0.52812 -0.16434 0.52863 -0.12869 0.52724 -0.09305 C 0.52708 -0.09051 0.52499 -0.08912 0.52412 -0.08703 C 0.52151 -0.08055 0.52221 -0.07615 0.51804 -0.07083 C 0.51684 -0.06551 0.517 -0.05949 0.5151 -0.05462 C 0.51422 -0.05208 0.51179 -0.05092 0.51059 -0.04861 C 0.50728 -0.04282 0.50434 -0.03657 0.50137 -0.03032 C 0.49512 -0.0169 0.48749 -0.00162 0.47568 0.00394 C 0.46596 0.01621 0.45156 0.01482 0.43922 0.01597 C 0.41075 0.02246 0.38245 0.0176 0.35451 0.01204 C 0.34842 0.00926 0.34443 0.00579 0.33784 0.00394 C 0.32083 -0.0074 0.30277 -0.01851 0.28784 -0.03449 C 0.28559 -0.0368 0.28419 -0.04051 0.28177 -0.04258 C 0.26665 -0.05578 0.28107 -0.0368 0.26805 -0.05254 C 0.25312 -0.0706 0.24322 -0.09351 0.23177 -0.11528 C 0.23055 -0.11758 0.22863 -0.11921 0.22725 -0.12129 C 0.22516 -0.12453 0.22309 -0.12801 0.22117 -0.13148 C 0.21613 -0.14097 0.21302 -0.15301 0.20746 -0.1618 C 0.20537 -0.16504 0.20208 -0.16666 0.2 -0.1699 C 0.18611 -0.19166 0.20519 -0.16226 0.19079 -0.18796 C 0.1835 -0.20091 0.175 -0.21296 0.16805 -0.22639 C 0.16597 -0.23518 0.15815 -0.25115 0.15295 -0.2567 C 0.14895 -0.26087 0.14444 -0.26388 0.14079 -0.26875 C 0.13524 -0.27615 0.13836 -0.27383 0.13177 -0.27684 C 0.12777 -0.28448 0.12412 -0.2868 0.11805 -0.29097 C 0.10868 -0.30393 0.09165 -0.31597 0.07863 -0.3192 C 0.06787 -0.32638 0.05711 -0.3273 0.04512 -0.3294 C 0.03194 -0.34119 0.01162 -0.34027 -0.0033 -0.34143 C -0.02674 -0.34605 -0.05053 -0.34722 -0.07431 -0.34952 C -0.11719 -0.34861 -0.14513 -0.34791 -0.18334 -0.34351 C -0.20815 -0.3324 -0.23629 -0.33355 -0.26215 -0.33148 C -0.27395 -0.32754 -0.28472 -0.32662 -0.29705 -0.32545 C -0.31928 -0.32105 -0.34132 -0.31666 -0.36371 -0.31319 C -0.37725 -0.30809 -0.3908 -0.30833 -0.40468 -0.30508 C -0.41874 -0.29583 -0.43489 -0.29605 -0.44999 -0.29097 C -0.45782 -0.28819 -0.46511 -0.28426 -0.47274 -0.28101 C -0.48056 -0.27754 -0.4894 -0.2773 -0.49704 -0.27291 C -0.5092 -0.26597 -0.49704 -0.27083 -0.5092 -0.26666 C -0.51788 -0.25902 -0.52935 -0.25486 -0.5394 -0.25069 C -0.54322 -0.24559 -0.54722 -0.2449 -0.55156 -0.24051 C -0.55277 -0.23934 -0.55347 -0.23773 -0.55468 -0.23657 C -0.55763 -0.23379 -0.56076 -0.23125 -0.56371 -0.22847 C -0.56545 -0.22684 -0.57084 -0.22037 -0.57274 -0.22037 E">
                                      <p:cBhvr>
                                        <p:cTn id="9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0020020423[1]"/>
          <p:cNvPicPr/>
          <p:nvPr/>
        </p:nvPicPr>
        <p:blipFill>
          <a:blip r:embed="rId1"/>
          <a:srcRect l="0" t="7487" r="0" b="15786"/>
          <a:stretch/>
        </p:blipFill>
        <p:spPr>
          <a:xfrm>
            <a:off x="-34920" y="0"/>
            <a:ext cx="9178920" cy="6859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135331560885[1]"/>
          <p:cNvPicPr/>
          <p:nvPr/>
        </p:nvPicPr>
        <p:blipFill>
          <a:blip r:embed="rId2"/>
          <a:srcRect l="13102" t="0" r="13287" b="0"/>
          <a:stretch/>
        </p:blipFill>
        <p:spPr>
          <a:xfrm>
            <a:off x="-34920" y="5425920"/>
            <a:ext cx="91789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86320" y="16668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what's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T019A9~1"/>
          <p:cNvPicPr/>
          <p:nvPr/>
        </p:nvPicPr>
        <p:blipFill>
          <a:blip r:embed="rId3"/>
          <a:stretch/>
        </p:blipFill>
        <p:spPr>
          <a:xfrm>
            <a:off x="914400" y="4267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T0121E~1"/>
          <p:cNvPicPr/>
          <p:nvPr/>
        </p:nvPicPr>
        <p:blipFill>
          <a:blip r:embed="rId4"/>
          <a:stretch/>
        </p:blipFill>
        <p:spPr>
          <a:xfrm>
            <a:off x="2895480" y="4267080"/>
            <a:ext cx="1752840" cy="147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01F5B~1"/>
          <p:cNvPicPr/>
          <p:nvPr/>
        </p:nvPicPr>
        <p:blipFill>
          <a:blip r:embed="rId5"/>
          <a:stretch/>
        </p:blipFill>
        <p:spPr>
          <a:xfrm>
            <a:off x="4724280" y="4267080"/>
            <a:ext cx="1752840" cy="1492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300000~1"/>
          <p:cNvPicPr/>
          <p:nvPr/>
        </p:nvPicPr>
        <p:blipFill>
          <a:blip r:embed="rId6"/>
          <a:stretch/>
        </p:blipFill>
        <p:spPr>
          <a:xfrm>
            <a:off x="6553080" y="4267080"/>
            <a:ext cx="190512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61 -0.00532 -0.00556 -0.01042 -0.00764 -0.01619 C -0.00903 -0.02014 -0.00937 -0.02431 -0.01077 -0.02824 C -0.0132 -0.03494 -0.01823 -0.04861 -0.01823 -0.04861 C -0.01997 -0.0618 -0.02274 -0.07476 -0.02743 -0.0868 C -0.02917 -0.10117 -0.0316 -0.11551 -0.0349 -0.12916 C -0.03888 -0.17059 -0.03993 -0.19329 -0.04097 -0.24258 C -0.03854 -0.35301 -0.04062 -0.39513 -0.01979 -0.48888 C -0.00903 -0.5368 0.00069 -0.58656 0.02257 -0.62823 C 0.04601 -0.6736 0.09323 -0.70161 0.12726 -0.72916 C 0.15208 -0.74929 0.17951 -0.76479 0.20746 -0.77568 C 0.22309 -0.77499 0.23888 -0.77568 0.25434 -0.7736 C 0.27361 -0.77104 0.29184 -0.76132 0.31041 -0.75554 C 0.34513 -0.74491 0.37986 -0.73241 0.4151 -0.72545 C 0.43124 -0.71781 0.43176 -0.71527 0.44236 -0.70092 C 0.46406 -0.67198 0.48124 -0.65555 0.49687 -0.62013 C 0.49964 -0.60555 0.50608 -0.59257 0.50902 -0.57777 C 0.51318 -0.55832 0.51804 -0.53819 0.52412 -0.5192 C 0.52568 -0.49676 0.52898 -0.47545 0.5302 -0.45255 C 0.52968 -0.43101 0.52986 -0.40948 0.52863 -0.38773 C 0.52777 -0.37291 0.52273 -0.35648 0.52117 -0.34166 C 0.51978 -0.32916 0.5203 -0.31388 0.51353 -0.30486 C 0.50016 -0.25994 0.46249 -0.2375 0.43176 -0.21829 C 0.39305 -0.19398 0.35416 -0.17476 0.31197 -0.16366 C 0.27812 -0.15462 0.2375 -0.15648 0.20451 -0.15555 C 0.06285 -0.15741 0.09964 -0.14698 0.02412 -0.17153 C -0.0257 -0.20508 -0.08489 -0.21991 -0.12882 -0.26875 C -0.14983 -0.29212 -0.16233 -0.31666 -0.18037 -0.34166 C -0.18281 -0.34976 -0.18437 -0.35648 -0.18802 -0.36366 C -0.19218 -0.3817 -0.18351 -0.39119 -0.17274 -0.39999 C -0.14964 -0.41874 -0.13507 -0.42406 -0.11077 -0.43819 C -0.08629 -0.45277 -0.06267 -0.47176 -0.03646 -0.48078 C -0.00556 -0.49166 0.02587 -0.49005 0.05729 -0.49491 C 0.10937 -0.50277 0.15955 -0.5148 0.21198 -0.51712 C 0.24983 -0.51551 0.28854 -0.52198 0.32568 -0.5111 C 0.33541 -0.50855 0.34287 -0.50277 0.35278 -0.50092 C 0.35971 -0.49491 0.36648 -0.49281 0.37412 -0.48888 C 0.39773 -0.47616 0.42221 -0.46065 0.44391 -0.44235 C 0.467 -0.42315 0.48714 -0.39906 0.51059 -0.37962 C 0.51562 -0.37545 0.51858 -0.37037 0.52412 -0.36781 C 0.52863 -0.3588 0.53575 -0.35116 0.54236 -0.34559 C 0.54721 -0.33565 0.5545 -0.32916 0.56059 -0.3213 C 0.56527 -0.31505 0.56631 -0.30763 0.56962 -0.30093 C 0.57082 -0.29861 0.57256 -0.29698 0.57412 -0.29491 C 0.57933 -0.28704 0.58141 -0.27823 0.58785 -0.27268 C 0.59131 -0.25855 0.58853 -0.26343 0.59391 -0.25648 C 0.59547 -0.24698 0.59582 -0.23843 0.59999 -0.23032 C 0.60051 -0.22755 0.60087 -0.22476 0.60138 -0.22222 C 0.60225 -0.21829 0.6045 -0.20994 0.6045 -0.20994 C 0.60624 -0.17059 0.60312 -0.1273 0.61197 -0.08889 C 0.61127 -0.05579 0.60902 -0.02315 0.60902 0.00994 E">
                                      <p:cBhvr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2 -0.03449 C -0.0467 -0.05532 -0.00243 -0.04258 -0.1 -0.04258 C -0.12882 -0.04258 -0.15747 -0.04399 -0.18628 -0.04467 C -0.21614 -0.04768 -0.2441 -0.05092 -0.27274 -0.06274 C -0.28385 -0.06712 -0.29617 -0.06944 -0.30763 -0.07292 C -0.31023 -0.07361 -0.31787 -0.07454 -0.32117 -0.07685 C -0.32604 -0.08008 -0.33003 -0.08587 -0.33489 -0.08912 C -0.34306 -0.09444 -0.35242 -0.09768 -0.36059 -0.10323 C -0.37013 -0.10972 -0.37742 -0.11666 -0.38785 -0.12129 C -0.39635 -0.13264 -0.4045 -0.14028 -0.4151 -0.14768 C -0.41962 -0.15625 -0.421 -0.15972 -0.42882 -0.16782 C -0.43281 -0.17198 -0.43785 -0.17476 -0.44096 -0.18008 C -0.44983 -0.19537 -0.46285 -0.20601 -0.47273 -0.22037 C -0.47656 -0.22616 -0.47968 -0.23264 -0.48333 -0.23866 C -0.48785 -0.24605 -0.4941 -0.25208 -0.49687 -0.26087 C -0.5019 -0.27662 -0.50902 -0.29051 -0.5151 -0.30531 C -0.51648 -0.30855 -0.51666 -0.31226 -0.51822 -0.31527 C -0.51978 -0.31851 -0.52239 -0.32037 -0.52412 -0.32337 C -0.52603 -0.32662 -0.52725 -0.33008 -0.52881 -0.33355 C -0.53228 -0.35902 -0.52742 -0.33101 -0.53333 -0.34976 C -0.53801 -0.3648 -0.54184 -0.38241 -0.54391 -0.39815 C -0.54496 -0.40624 -0.54548 -0.41434 -0.54687 -0.42244 C -0.54756 -0.42662 -0.54999 -0.43448 -0.54999 -0.43426 C -0.54947 -0.45531 -0.54964 -0.47638 -0.54843 -0.49721 C -0.54791 -0.50508 -0.5427 -0.51412 -0.54079 -0.52128 C -0.53749 -0.53355 -0.53575 -0.54676 -0.5302 -0.55787 C -0.52673 -0.57267 -0.51891 -0.58378 -0.51214 -0.59605 C -0.50798 -0.61295 -0.492 -0.62128 -0.48176 -0.63055 C -0.47864 -0.63332 -0.47447 -0.63241 -0.47117 -0.63448 C -0.45641 -0.64328 -0.44825 -0.65323 -0.43176 -0.65878 C -0.42325 -0.66618 -0.41249 -0.66874 -0.40294 -0.67291 C -0.38523 -0.68055 -0.36753 -0.68725 -0.34999 -0.69513 C -0.27552 -0.72868 -0.19669 -0.74118 -0.11823 -0.74559 C -0.08247 -0.74443 -0.05 -0.74096 -0.0151 -0.73749 C 0.01094 -0.72892 -0.01319 -0.73564 0.0349 -0.73147 C 0.05712 -0.72939 0.07934 -0.72291 0.10138 -0.71943 C 0.10556 -0.71804 0.10955 -0.71642 0.11372 -0.71527 C 0.12326 -0.71249 0.14253 -0.70716 0.14253 -0.70693 C 0.15989 -0.69536 0.17934 -0.68934 0.19843 -0.68493 C 0.20972 -0.67545 0.19513 -0.68656 0.21059 -0.67892 C 0.21858 -0.67499 0.22343 -0.66434 0.23177 -0.66086 C 0.24166 -0.64767 0.23611 -0.65462 0.25451 -0.63448 C 0.25693 -0.6317 0.26024 -0.62985 0.26214 -0.62638 C 0.26806 -0.61596 0.275 -0.60555 0.28177 -0.59605 C 0.28559 -0.58124 0.28056 -0.59791 0.28645 -0.5861 C 0.28924 -0.58078 0.29201 -0.57176 0.29391 -0.56573 C 0.29687 -0.55694 0.30087 -0.54676 0.30312 -0.53749 C 0.3052 -0.52869 0.30677 -0.52128 0.31059 -0.51341 C 0.31111 -0.50855 0.31128 -0.50369 0.31214 -0.49906 C 0.31266 -0.49628 0.31476 -0.4942 0.3151 -0.49119 C 0.31701 -0.47662 0.31684 -0.46156 0.31822 -0.44676 C 0.31701 -0.41712 0.31822 -0.3743 0.30451 -0.34768 C 0.30278 -0.34027 0.29549 -0.32754 0.29549 -0.3273 C 0.29236 -0.3148 0.29635 -0.32801 0.28785 -0.31341 C 0.27274 -0.28773 0.2901 -0.31295 0.28037 -0.29906 C 0.27726 -0.28704 0.28108 -0.29815 0.27117 -0.28494 C 0.26943 -0.28263 0.26839 -0.2794 0.26666 -0.27684 C 0.26388 -0.27268 0.26128 -0.26782 0.25763 -0.2648 C 0.25608 -0.26341 0.25451 -0.2625 0.25312 -0.26087 C 0.24565 -0.25208 0.23976 -0.2442 0.23177 -0.23657 C 0.22638 -0.23148 0.22291 -0.22545 0.21666 -0.22244 C 0.2033 -0.20462 0.21891 -0.22383 0.20156 -0.20833 C 0.19617 -0.20347 0.19427 -0.19883 0.18785 -0.19605 C 0.18385 -0.19212 0.17986 -0.18796 0.17587 -0.18402 C 0.17222 -0.18032 0.16372 -0.17591 0.16372 -0.17569 C 0.15885 -0.16666 0.14964 -0.1625 0.14253 -0.15579 C 0.12916 -0.14329 0.11337 -0.13518 0.09844 -0.12546 C 0.08837 -0.11204 0.10035 -0.12662 0.08646 -0.11528 C 0.08333 -0.11296 0.0816 -0.10948 0.07882 -0.10717 C 0.0691 -0.09883 0.05903 -0.09282 0.05 -0.0831 C 0.03941 -0.07153 0.03125 -0.05717 0.02118 -0.04467 C 0.01493 -0.0368 0.0125 -0.02454 0.00608 -0.01643 C 0.00503 -0.01226 0.00417 -0.00833 0.00295 -0.00417 C 0.0026 -0.00231 0 -0.00024 0 0 E">
                                      <p:cBhvr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823 0.00185 0.03488 0.00717 0.05295 0.00994 C 0.06962 0.01574 0.08733 0.01597 0.10451 0.01806 C 0.13628 0.01736 0.16823 0.01806 0.2 0.01619 C 0.20693 0.01574 0.21285 0.00879 0.21962 0.00601 C 0.24236 -0.00324 0.26492 -0.01644 0.28628 -0.03033 C 0.29166 -0.0375 0.30068 -0.03935 0.30745 -0.04444 C 0.32065 -0.05417 0.33559 -0.07199 0.34999 -0.07685 C 0.35398 -0.08519 0.36544 -0.09375 0.37273 -0.09698 C 0.3776 -0.10185 0.38333 -0.10371 0.38785 -0.10903 C 0.40398 -0.12801 0.42187 -0.14422 0.4394 -0.16158 C 0.44339 -0.16991 0.44861 -0.17593 0.45294 -0.1838 C 0.45763 -0.19212 0.45608 -0.19607 0.46197 -0.20416 C 0.4644 -0.21319 0.46943 -0.22107 0.47117 -0.23033 C 0.47309 -0.24027 0.47603 -0.25 0.4802 -0.25857 C 0.4816 -0.27059 0.48298 -0.27962 0.48627 -0.29098 C 0.48923 -0.31388 0.49044 -0.3368 0.49391 -0.35973 C 0.4953 -0.3838 0.49583 -0.40624 0.48785 -0.42823 C 0.48593 -0.44051 0.48193 -0.44791 0.47568 -0.45672 C 0.47187 -0.4713 0.47656 -0.45672 0.46059 -0.47684 C 0.44287 -0.49908 0.41318 -0.51666 0.3894 -0.52337 C 0.38385 -0.52801 0.37846 -0.52801 0.37273 -0.53124 C 0.34565 -0.54676 0.31354 -0.54398 0.28471 -0.54559 C 0.28437 -0.54559 0.23785 -0.54212 0.23472 -0.54144 C 0.23055 -0.54051 0.2269 -0.53703 0.22274 -0.53541 C 0.21146 -0.53124 0.20537 -0.53101 0.19391 -0.52939 C 0.17916 -0.5236 0.16458 -0.51967 0.15 -0.51319 C 0.14287 -0.50671 0.13125 -0.50301 0.12274 -0.50116 C 0.10208 -0.48565 0.12135 -0.49791 0.10295 -0.49098 C 0.09271 -0.48703 0.08455 -0.47962 0.07412 -0.47684 C 0.04878 -0.46273 0.0243 -0.44698 0 -0.43033 C -0.01042 -0.42315 -0.01945 -0.4111 -0.03037 -0.40601 C -0.0382 -0.39791 -0.04618 -0.38587 -0.05608 -0.38194 C -0.06372 -0.37176 -0.07066 -0.36481 -0.08037 -0.35973 C -0.08472 -0.3537 -0.08646 -0.34815 -0.09254 -0.34559 C -0.09931 -0.33658 -0.10712 -0.32223 -0.11528 -0.31527 C -0.12257 -0.30208 -0.12916 -0.28819 -0.13802 -0.27684 C -0.14114 -0.26366 -0.13681 -0.2787 -0.14549 -0.26273 C -0.14636 -0.26111 -0.14636 -0.25857 -0.14705 -0.25672 C -0.15087 -0.24652 -0.14861 -0.25394 -0.15312 -0.24652 C -0.15625 -0.2412 -0.16214 -0.23033 -0.16214 -0.23033 C -0.16406 -0.22291 -0.16736 -0.21736 -0.16979 -0.21019 C -0.17343 -0.1993 -0.17674 -0.18866 -0.18037 -0.17778 C -0.18872 -0.15255 -0.19323 -0.12547 -0.19861 -0.09908 C -0.20156 -0.08473 -0.20451 -0.07361 -0.20608 -0.05857 C -0.20504 -0.04212 -0.20521 -0.01899 -0.19549 -0.00601 E"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86 -0.00232 0.00868 -0.00579 0.01372 -0.00811 C 0.01997 -0.01944 0.02223 -0.03218 0.02726 -0.04444 C 0.029 -0.04862 0.03177 -0.05208 0.03334 -0.05649 C 0.03437 -0.05926 0.03525 -0.0618 0.03629 -0.06458 C 0.03855 -0.0794 0.04115 -0.0845 0.04236 -0.10093 C 0.04167 -0.13658 0.04618 -0.16991 0.03629 -0.20208 C 0.03455 -0.21458 0.02101 -0.25555 0.01372 -0.26875 C 0.0092 -0.28587 -0.00017 -0.3 -0.01059 -0.31112 C -0.01545 -0.3162 -0.01284 -0.31598 -0.01823 -0.32315 C -0.02482 -0.33194 -0.03611 -0.33704 -0.04392 -0.34351 C -0.06076 -0.35718 -0.07812 -0.36922 -0.09705 -0.37777 C -0.11059 -0.3838 -0.12534 -0.38565 -0.1394 -0.38981 C -0.15555 -0.38912 -0.17257 -0.39329 -0.18784 -0.38587 C -0.19757 -0.38124 -0.20573 -0.37269 -0.2151 -0.36759 C -0.2394 -0.35462 -0.25104 -0.34005 -0.26961 -0.31527 C -0.27794 -0.30416 -0.28003 -0.28982 -0.28784 -0.2787 C -0.28836 -0.27662 -0.28906 -0.27476 -0.2894 -0.27269 C -0.29044 -0.26737 -0.29096 -0.2618 -0.29236 -0.25648 C -0.29635 -0.24075 -0.30104 -0.2287 -0.30294 -0.21204 C -0.30225 -0.19561 -0.30434 -0.17083 -0.29391 -0.15764 C -0.2887 -0.13773 -0.27638 -0.11922 -0.26059 -0.11528 C -0.24687 -0.10301 -0.25486 -0.10926 -0.23628 -0.097 C -0.2229 -0.08797 -0.21128 -0.07617 -0.19705 -0.06875 C -0.19201 -0.06621 -0.1868 -0.06343 -0.18177 -0.06065 C -0.17604 -0.05764 -0.16371 -0.05462 -0.16371 -0.05462 C -0.14912 -0.04351 -0.15763 -0.04792 -0.14236 -0.04444 C -0.1368 -0.04329 -0.12569 -0.04051 -0.12569 -0.04051 C -0.10955 -0.04121 -0.09339 -0.04075 -0.07725 -0.04237 C -0.05816 -0.04422 -0.03767 -0.06436 -0.0243 -0.08079 C -0.0118 -0.0963 -0.00277 -0.11366 0.00903 -0.1294 C 0.02952 -0.15672 0.00052 -0.1169 0.01667 -0.14144 C 0.0191 -0.14514 0.02431 -0.15162 0.02431 -0.15162 C 0.02743 -0.16944 0.03334 -0.18565 0.03941 -0.20208 C 0.04045 -0.2095 0.04115 -0.2169 0.04236 -0.2243 C 0.04306 -0.22848 0.04549 -0.23634 0.04549 -0.23634 C 0.05226 -0.28912 0.05035 -0.38402 0.0257 -0.43634 C 0.02292 -0.44791 0.02605 -0.43749 0.01823 -0.45255 C 0.00903 -0.47037 -0.00156 -0.4912 -0.01666 -0.50092 C -0.03385 -0.5243 -0.04861 -0.52962 -0.07274 -0.53333 C -0.09635 -0.53217 -0.11839 -0.53333 -0.14097 -0.52523 C -0.15503 -0.52013 -0.17342 -0.50926 -0.18628 -0.50092 C -0.19479 -0.49537 -0.20156 -0.48703 -0.21059 -0.48287 C -0.21684 -0.47453 -0.22482 -0.47337 -0.23177 -0.46666 C -0.23732 -0.46134 -0.24027 -0.45555 -0.24705 -0.45255 C -0.25225 -0.44305 -0.25971 -0.43726 -0.2651 -0.42824 C -0.28245 -0.3993 -0.2637 -0.4287 -0.27882 -0.39999 C -0.28141 -0.39491 -0.28507 -0.39074 -0.28784 -0.38587 C -0.29132 -0.37245 -0.29982 -0.35902 -0.30607 -0.34745 C -0.31492 -0.33124 -0.32117 -0.31319 -0.33037 -0.297 C -0.33697 -0.28541 -0.34165 -0.27083 -0.34705 -0.25857 C -0.35434 -0.24144 -0.3644 -0.22476 -0.3743 -0.21019 C -0.37724 -0.20601 -0.38141 -0.20301 -0.38333 -0.19791 C -0.38784 -0.18565 -0.39617 -0.16991 -0.40607 -0.16575 C -0.40711 -0.16366 -0.40763 -0.16112 -0.40901 -0.15973 C -0.41023 -0.15833 -0.41214 -0.15857 -0.4137 -0.15764 C -0.41995 -0.15394 -0.42516 -0.14837 -0.43176 -0.14537 C -0.43853 -0.1368 -0.44861 -0.12987 -0.45763 -0.12732 C -0.46526 -0.11644 -0.47551 -0.11273 -0.48627 -0.10903 C -0.50172 -0.09375 -0.48141 -0.1118 -0.50155 -0.10093 C -0.50486 -0.09908 -0.50728 -0.09514 -0.51059 -0.09305 C -0.51458 -0.09028 -0.52117 -0.08843 -0.52568 -0.0868 C -0.54062 -0.075 -0.52516 -0.08542 -0.54547 -0.07871 C -0.5519 -0.07662 -0.55745 -0.07107 -0.5637 -0.06875 C -0.57846 -0.06319 -0.59443 -0.06412 -0.60901 -0.05857 C -0.62308 -0.05325 -0.61596 -0.05533 -0.63037 -0.05255 C -0.66579 -0.03704 -0.70398 -0.03658 -0.74096 -0.03242 C -0.75207 -0.03125 -0.76318 -0.02962 -0.77429 -0.02825 C -0.77933 -0.02756 -0.78939 -0.02639 -0.78939 -0.02639 C -0.84338 -0.02732 -0.89026 -0.02801 -0.94235 -0.03242 C -0.94756 -0.03357 -0.95362 -0.03635 -0.95901 -0.03635 E">
                                      <p:cBhvr>
                                        <p:cTn id="10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1</cp:lastModifiedBy>
  <dcterms:modified xsi:type="dcterms:W3CDTF">2015-09-24T06:28:5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