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E47F-9774-4F46-98A4-9CD670AD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83C-2C45-4255-9C17-8E19F631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80A-6738-4EEE-A099-F7C194F2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A3E-3EBF-4041-A2CD-D56E61A1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E148-8CD9-426A-BAB3-742AAC5D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4CB7-AB6A-4FF5-BF0E-9A6FDEF7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A235-75C6-4784-8241-7A4290FC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5D87-156A-4CCF-B4F8-034E1549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E1B3-0EE5-4E35-B72C-EFA6F742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44F6-5EFF-448A-860D-5DD721B0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28EE-C799-488C-97D9-3522D057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065-A665-4AF2-97E4-8AFD2ADB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BC3A-2C4B-47D5-9AB1-A0193916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9080-9501-4C11-9DC3-B0E26964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C97D-BACA-48A1-A2AF-B75C03E0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EE7E-0326-4F7D-BB13-D0B5AAF2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DEE4-E25F-4A6E-9A32-83DF5FDF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29D9-65F4-4603-ABAA-787B57AB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9D383-C65E-45B8-BCA0-B4680349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6B46D-1E51-40A0-AB50-A37C154A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ECC59-BFD6-450B-84F1-5597EE0D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582C6-0E70-45A6-97D8-483B2D23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DBC-3208-4BCE-8B33-1570FE73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89C98-7938-4627-B97D-B0E1987B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2B1E7-5999-4F94-84E5-55F7F608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72EC-28C1-4593-A874-5530B7F2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5990-21D8-494B-A37E-A40E9F6B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9EA48-8E63-46F6-88A4-D3279FBE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5F6D5-4E04-4EC6-A96D-B5E09A86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A9680-83C8-4F33-82F4-F90147C0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E2765-2294-416F-98A8-259EAE14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790D7-9A68-45D0-9C19-54C7B1FC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5489B-6ADC-4F86-B423-6B9B20D2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019-7B6C-46C6-92D1-D989BEBA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D8EEB-F7FE-4507-AB1B-3F3E1933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72442-CFC8-4392-9293-487E3874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D8B2A-F56B-4CCB-BDFF-4FCA091D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0F9E2-7BD2-439A-AF55-F4A50E6A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2260F-DD12-4C7F-97E3-E8A40039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0214-A0CA-4CE1-AC1E-36D3FF99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C3714-769D-448A-B3D3-4BD14FF6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43530-488B-48AF-B0D5-0B494454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64EEC-401C-400D-BDE6-62AEAAB9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7D80-CD8D-48D1-9FD9-B538DBB8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E4D-68F9-43B7-8EB6-9FEFE970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2C4E4-E23B-4558-9FED-DD03198F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B4977-EFEC-4F79-A3ED-2F9039A9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53BBE-03D9-433B-82D4-1B7A8F0E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9654D-7740-410E-999C-353DE9B6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A465A-739A-4ED7-8FDE-E0F555CD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D41E3-1225-4E0C-A861-74C4A3E1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B0CB3-1C7D-4B7E-BE6F-7D836D4D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0F945-2986-40FF-B49E-54314EFD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C7524-5FDA-41EB-9805-6111D10B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D043D-5FE2-4594-8ED5-B4908E5F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939C-4042-4D87-B2B6-25D6FF20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64BB0-C5B6-4049-AE41-1F823971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2E5F8-B27F-48F0-93A7-2537576B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CCBB7-2BB2-4484-B9B8-7CE8E88F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6C4EA-72B4-408D-B9F0-1F8B9075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7D849-D6C9-4750-8409-D45781CC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41916-2DB7-43B7-9776-05A87274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6B450-A970-4C46-A627-3B35E9E3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0DEF7-6583-4E87-B65D-FDC0D655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7CD11-3D1A-4159-8B8D-D096E853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02D22-BE4D-417C-9D32-442D1DC5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036-1236-4E89-9A51-68D26FA8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2080F-8DDB-4F92-A377-30CA1BAD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E11CB-521B-4933-9842-762E1AB8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AA402-D4C8-4E07-B102-E0F318C8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805FE-54B9-47E6-862D-1276EE65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6D94F-6458-47FE-81C6-3A2F226C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A5BE3-5648-4252-8E65-C745A018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1E3F9-E698-46FB-B0F0-1F8D9B38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2D663-865A-488F-89E6-B6C78C8B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DC2E0-B6D6-430C-B8EE-676522B6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712C1-AB24-42C0-86FE-957BF009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6AB-E104-494E-9211-B3C2C2A8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C2D98-CF71-43E3-B3F9-AECF3CA0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AB03E-30D7-432F-833F-D104D595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6FF99-933C-4F1A-ADBA-06B07FD6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9D521-B2C3-4AD3-B231-6F38BA11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AD492-29BA-474A-9C8B-7B9CE4D6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92D-0F68-4AC7-BE2A-C3EAC060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600200" indent="-228600">
              <a:spcBef>
                <a:spcPts val="799"/>
              </a:spcBef>
              <a:buClr>
                <a:srgbClr val="007a77"/>
              </a:buClr>
              <a:buSzPct val="90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600200" indent="-228600">
              <a:spcBef>
                <a:spcPts val="799"/>
              </a:spcBef>
              <a:buClr>
                <a:srgbClr val="007a77"/>
              </a:buClr>
              <a:buSzPct val="90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9AB0-B45C-4498-AAEF-FF373D3571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504080" indent="-214560">
              <a:spcBef>
                <a:spcPts val="799"/>
              </a:spcBef>
              <a:buClr>
                <a:srgbClr val="0033cc"/>
              </a:buClr>
              <a:buSzPct val="90000"/>
              <a:buFont typeface="Wingdings" charset="2"/>
              <a:buChar char="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504080" indent="-214560">
              <a:spcBef>
                <a:spcPts val="799"/>
              </a:spcBef>
              <a:buClr>
                <a:srgbClr val="0033cc"/>
              </a:buClr>
              <a:buSzPct val="90000"/>
              <a:buFont typeface="Wingdings" charset="2"/>
              <a:buChar char="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8D8D-B4E1-456E-ACA6-48E36376FE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3" name="矩形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84" name="图片 3" descr="3901577051443087633051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EB49-2403-41EC-AC56-38FC06DE412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64B6-A8D5-4962-BA1E-238660868E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600200" indent="-228600">
              <a:spcBef>
                <a:spcPts val="799"/>
              </a:spcBef>
              <a:buClr>
                <a:srgbClr val="007a77"/>
              </a:buClr>
              <a:buSzPct val="90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600200" indent="-228600">
              <a:spcBef>
                <a:spcPts val="799"/>
              </a:spcBef>
              <a:buClr>
                <a:srgbClr val="007a77"/>
              </a:buClr>
              <a:buSzPct val="90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4A71-BDA9-4027-A193-5515D355C9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504080" indent="-214560">
              <a:spcBef>
                <a:spcPts val="799"/>
              </a:spcBef>
              <a:buClr>
                <a:srgbClr val="0033cc"/>
              </a:buClr>
              <a:buSzPct val="90000"/>
              <a:buFont typeface="Wingdings" charset="2"/>
              <a:buChar char="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504080" indent="-214560">
              <a:spcBef>
                <a:spcPts val="799"/>
              </a:spcBef>
              <a:buClr>
                <a:srgbClr val="0033cc"/>
              </a:buClr>
              <a:buSzPct val="90000"/>
              <a:buFont typeface="Wingdings" charset="2"/>
              <a:buChar char="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F2C9-5383-44B4-AAB5-12147FA9D7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1" descr="65957074144308763305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2157-7C65-4258-BC8E-C55941BAA14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en-US" sz="8000" spc="-1" strike="noStrike">
                <a:solidFill>
                  <a:srgbClr val="00cc00"/>
                </a:solidFill>
                <a:latin typeface="Arial"/>
                <a:ea typeface="宋体"/>
              </a:rPr>
              <a:t>Lesson20</a:t>
            </a:r>
            <a:r>
              <a:rPr b="1" i="1" lang="en-US" sz="8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i="1" lang="en-US" sz="8000" spc="-1" strike="noStrike">
                <a:solidFill>
                  <a:srgbClr val="ff9900"/>
                </a:solidFill>
                <a:latin typeface="Arial"/>
                <a:ea typeface="宋体"/>
              </a:rPr>
              <a:t>Hamburgers and Hot Dogs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  <a:ea typeface="宋体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95280" y="5409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Arial"/>
                <a:ea typeface="宋体"/>
              </a:rPr>
              <a:t>ham</a:t>
            </a:r>
            <a:r>
              <a:rPr b="1" lang="en-US" sz="6600" spc="-1" strike="noStrike">
                <a:solidFill>
                  <a:srgbClr val="dc5900"/>
                </a:solidFill>
                <a:latin typeface="Arial"/>
                <a:ea typeface="宋体"/>
              </a:rPr>
              <a:t>bur</a:t>
            </a:r>
            <a:r>
              <a:rPr b="1" lang="en-US" sz="6600" spc="-1" strike="noStrike">
                <a:solidFill>
                  <a:srgbClr val="00cc00"/>
                </a:solidFill>
                <a:latin typeface="Arial"/>
                <a:ea typeface="宋体"/>
              </a:rPr>
              <a:t>ger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4" name="图片 3" descr="6959100951443087633043.jpg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5486400"/>
            <a:ext cx="85406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               </a:t>
            </a:r>
            <a:r>
              <a:rPr b="1" i="1" lang="en-US" sz="6000" spc="-1" strike="noStrike">
                <a:solidFill>
                  <a:srgbClr val="ff00ff"/>
                </a:solidFill>
                <a:latin typeface="Arial"/>
              </a:rPr>
              <a:t>hot dog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7" name="图片 3" descr="3412692271443087633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5486400"/>
            <a:ext cx="85406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      </a:t>
            </a:r>
            <a:r>
              <a:rPr b="1" i="1" lang="en-US" sz="6600" spc="-1" strike="noStrike">
                <a:solidFill>
                  <a:srgbClr val="ff00ff"/>
                </a:solidFill>
                <a:latin typeface="Arial"/>
              </a:rPr>
              <a:t>do</a:t>
            </a:r>
            <a:r>
              <a:rPr b="1" i="1" lang="en-US" sz="6600" spc="-1" strike="noStrike">
                <a:solidFill>
                  <a:srgbClr val="003399"/>
                </a:solidFill>
                <a:latin typeface="Arial"/>
              </a:rPr>
              <a:t>nu</a:t>
            </a:r>
            <a:r>
              <a:rPr b="1" i="1" lang="en-US" sz="66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0" name="图片 3" descr="6389359301443087633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304920" y="5181120"/>
            <a:ext cx="85406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                       </a:t>
            </a: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ice cream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2" name="图片 3" descr="797745841443087633021.jpg"/>
          <p:cNvPicPr/>
          <p:nvPr/>
        </p:nvPicPr>
        <p:blipFill>
          <a:blip r:embed="rId1"/>
          <a:stretch/>
        </p:blipFill>
        <p:spPr>
          <a:xfrm>
            <a:off x="0" y="0"/>
            <a:ext cx="480060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5" name="图片 3" descr="2815395901443087633098.jpg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456840"/>
            <a:ext cx="8540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i="1" lang="en-US" sz="6000" spc="-1" strike="noStrike">
                <a:solidFill>
                  <a:srgbClr val="0000cc"/>
                </a:solidFill>
                <a:latin typeface="Arial"/>
              </a:rPr>
              <a:t>What would you like?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i="1" lang="en-US" sz="6000" spc="-1" strike="noStrike">
                <a:solidFill>
                  <a:srgbClr val="0000cc"/>
                </a:solidFill>
                <a:latin typeface="Arial"/>
              </a:rPr>
              <a:t>I`d like a hamburger and some juice,please.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i="1" lang="en-US" sz="6000" spc="-1" strike="noStrike">
                <a:solidFill>
                  <a:srgbClr val="00cc00"/>
                </a:solidFill>
                <a:latin typeface="Arial"/>
              </a:rPr>
              <a:t>What do you like?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i="1" lang="en-US" sz="6000" spc="-1" strike="noStrike">
                <a:solidFill>
                  <a:srgbClr val="00cc00"/>
                </a:solidFill>
                <a:latin typeface="Arial"/>
              </a:rPr>
              <a:t>I like oranges.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May I have a hot do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May I have on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Thanks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You `re welco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14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1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3" descr="797745841443087633021.jpg"/>
          <p:cNvPicPr/>
          <p:nvPr/>
        </p:nvPicPr>
        <p:blipFill>
          <a:blip r:embed="rId1"/>
          <a:stretch/>
        </p:blipFill>
        <p:spPr>
          <a:xfrm>
            <a:off x="5715000" y="-152280"/>
            <a:ext cx="3733920" cy="449568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4" descr="3412692271443087633002.jpg"/>
          <p:cNvPicPr/>
          <p:nvPr/>
        </p:nvPicPr>
        <p:blipFill>
          <a:blip r:embed="rId2"/>
          <a:stretch/>
        </p:blipFill>
        <p:spPr>
          <a:xfrm>
            <a:off x="0" y="0"/>
            <a:ext cx="6324480" cy="377208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5" descr="6389359301443087633012.jpg"/>
          <p:cNvPicPr/>
          <p:nvPr/>
        </p:nvPicPr>
        <p:blipFill>
          <a:blip r:embed="rId3"/>
          <a:stretch/>
        </p:blipFill>
        <p:spPr>
          <a:xfrm>
            <a:off x="0" y="3505320"/>
            <a:ext cx="4724280" cy="367668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6" descr="6959100951443087633043.jpg"/>
          <p:cNvPicPr/>
          <p:nvPr/>
        </p:nvPicPr>
        <p:blipFill>
          <a:blip r:embed="rId4"/>
          <a:stretch/>
        </p:blipFill>
        <p:spPr>
          <a:xfrm>
            <a:off x="4572000" y="3276720"/>
            <a:ext cx="4267080" cy="414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01:31:59Z</dcterms:created>
  <dc:creator>Administrator</dc:creator>
  <dc:description/>
  <dc:language>en-US</dc:language>
  <cp:lastModifiedBy>acer1</cp:lastModifiedBy>
  <dcterms:modified xsi:type="dcterms:W3CDTF">2015-10-16T03:25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  <property fmtid="{D5CDD505-2E9C-101B-9397-08002B2CF9AE}" pid="3" name="Version">
    <vt:r8>1</vt:r8>
  </property>
</Properties>
</file>