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2F1-B828-48A1-8C8F-3028A10A80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BF0-4DCC-403D-94A8-6233A9FA56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6C6-FC9F-40E2-9371-70107CCA87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0EA1-29EE-4469-BD49-337E263AED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196-EFF3-48B0-ACF8-7E956A0B7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DC8-89CC-4C3F-909D-E85A031DDA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651-1AD1-42CA-9440-B589027C27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CEB-1BC1-415D-912E-575076CDDD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465-F495-422B-8079-75CB75B866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87FE-2BF2-4496-A86B-2BFB3EA789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BDC-BFC4-439F-B523-6A8CF52E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741-B0A0-48EF-A0B3-15528C9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26A8-BD83-4A08-AA32-A4C2E3B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AB31F-3842-45CE-995A-23C831AE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97EF5-F820-4887-93EE-58AC5B2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02B92-E8B1-4DF2-9E60-AF97B5E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C422-A194-4357-A0AA-771347CD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45418-66C8-4469-8DFA-377213F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F388-3FBE-4B8B-9B96-92BC7ED3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C98A1-F4E8-4D55-8887-C22B693F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7E232-FED5-4F6F-8958-A8AE289F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9A80D-FC41-4FF8-9770-4CE50C25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69F-7002-4EE4-A706-DC34E402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8C13A-D99B-4874-AC04-DAA0605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F3567-150E-48EE-9B7A-DD22718E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6704-59F5-463C-A990-C449B74B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5E409-9C4A-4E91-93AD-D200E2EB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5AAF8-ECCD-4F44-BD7C-E7B08AF6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49260-9765-4C98-84DC-508AF44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DB43B-0B5F-41A3-8E01-1C60082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3F2CE-A70F-4E71-B4F0-A79F8A2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E0B01-471C-46E5-82A2-96C1F50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FA30-574C-48A1-B355-CA5A0AB9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628-EBFB-458B-922B-E6256606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BAEF0-DE42-4115-A2C8-DEF4EE68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FB788-2B09-43DD-8B34-1CEB3426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D83A4-E45F-412C-B954-F9F1FC9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AFAB6-DB1F-47FC-9D0D-979C784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C1F7-BAAB-45A9-979F-C1D4B178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80905-793A-440D-AB29-8AB38E0B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9BB58-9BC4-4882-8E6A-9326FD4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22A76-50FE-4B87-871E-38ABA24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2718-1FB2-4DCF-98B8-00C31663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B5CA-9F04-4E6F-8B75-4E0141F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9887-BB87-4DB9-A837-8066B122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D7CED-668C-490F-B4FC-8D2836A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AE75-B487-4659-85E9-36C8ED2A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1B77-6DDC-4991-92CB-17B9EEA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5F0DC-DD49-4410-9B68-E77278B8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305E1-F62B-438C-A6C2-E857EFE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DA157-4DAE-4BEA-889A-A536FB6B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108D9-5B38-48B4-8558-7C4D928D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634F9-0DB9-4AB0-BC0E-68218B62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F3F4B-1B03-41C6-BBC2-74722109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DDBA8-6832-4D7A-8674-992614F4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1D6B-E729-453C-BB3B-3FB2B46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B629A-15AA-4F02-A1C7-010E01CD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3675B-C8E5-460A-9071-BA155E9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7D03C-2EBA-45A7-882E-C0B4EFB8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C8B93-830B-409C-8DB6-D785F6F8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E8443-F9F5-459B-81CC-CACB3F92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74E-44CB-4A51-8FCE-2E62A87C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A26-F9C8-4265-9669-9170CF23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4E79-CC20-4A25-94CD-966E736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E828-9647-4BF3-82DA-A442E88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F81D-2B7C-4363-A499-25CB931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1FD-8075-40B4-8500-A5B166E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23A-1D6F-4B76-B618-27E7FC7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071F-015A-4CD2-8914-6EFC50E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0E60-12C7-4E4F-82F3-C62C4513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D16-84B0-44E9-9030-6D5EC7D2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045E-D52F-4ABD-AA26-2BCBEC5F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0655-32BD-4462-B13C-E93D72CD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93E0-ABEB-42A7-AF14-318FA13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261B-1799-44AB-B089-23E216D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A1CA-C38C-4B98-BB57-699CC90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3E94-C1B0-4401-9D13-748DA61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E65-B911-43FA-A37A-116C71E0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4177-2E96-4967-BFB1-5A932E5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F85A-96A0-4B8D-B440-DF2F464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5B36-1BB3-45B4-96AE-85AB7B7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89F8-32D5-4ABD-90AB-9904E0E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30DE-1B97-4183-8DDB-51488DF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F716-E285-4853-8CFF-C125E910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5399-930D-47A4-8026-E8529DCD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3BF5-A353-4847-AD3F-F3593306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66DD-CFFA-4ADA-86E3-AB77ABEB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BF8D-89C6-4277-8CAD-0F4BD68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81C-CEC3-4E38-8C2E-3A7F3CDE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1FF8-FEA8-48F4-B14D-E08CFAF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E404-BC54-40B5-A56F-412B90B7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F58A-27DD-43F8-8C0D-21CA7D0D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8E70-D672-4868-87AF-9FF6CD1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609E-AF62-451A-BBA2-840B11D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A639-BD37-439F-8A17-68152D5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27C4-B79F-4448-9208-E2CA770B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A5D6-EEE6-41C4-8139-8BC3518E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42CE-5FE5-4B12-9036-B2273F9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45E7-BB60-4E42-AD4F-5430F826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0C7-B677-4912-B685-ECAC37B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0874-739B-4211-8AFA-788040D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33D1-FF6C-42EF-A2C9-F651AA6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715A-9977-4D09-B792-92267039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677E-D8C6-4984-81F3-2CA5CBA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18B1-D12C-4F9B-B2A9-7C8C346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260D-47A2-4EC7-9C77-3051A7E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CF54-4E87-4A6F-A843-515BD39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9AFD-F065-420F-92A0-9301247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5C80-4B29-49E5-A0E9-A1F0E90B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3F9F-9F19-42D0-8320-D944959C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F39-0825-4D14-A992-63FCAA5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5A93-6C0F-4AD7-9695-4B7264A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0AA6-9843-496E-8EE7-E2145F6B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0AB9-2F9F-4782-8D7E-4BF85D00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7138-BC38-418F-809A-CF00AC2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04EF7-33E6-4196-929A-77C0E968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C7BE-8631-467C-9419-400EFA57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6A362-E3C4-47E4-9CFA-252F8FE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FB9C-7ABA-4169-BDEC-17D7CEA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139A-FAA8-4098-80A0-D937C63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197A-B5CF-48AE-A65B-515892A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F7A-A267-436A-81FA-4D2C4CB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F6B0E-8E3E-48E2-BA3B-E16501D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5A66-DB60-4FC4-8E3E-698D0FCD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B549-5407-4ABC-97AC-3DBA4292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0E96F-2F0E-4861-889B-E5FAA3A5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3A1C-F243-4894-993A-E76E4341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9B9D-1937-44FA-852E-F51223C7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16437-E27C-4F32-B9D1-2A1B102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60E6-0A0E-46A9-B8B2-381031C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EAA9-7CDB-40BE-8474-5D24DE2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37B0-B69A-4D76-9251-0150335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3D0-DC7F-4B5C-9B3F-7A55D2E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C02C-05E7-4F34-A64F-8FADCD8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9023-863F-4C04-91F4-BDBF99D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C06E8-B32F-44D8-B17E-18ACD754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D14FA-2131-4B50-8320-265682C8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3B78F-3E87-43E0-B5F7-361BC9D3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4A722-0484-46AE-9C2B-94A177F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038E-706B-4865-B33B-4CD325F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B527-C133-411D-83E7-0780F9B2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4056-C139-46B3-BF06-3037F9C8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FDC13-0C9D-48FD-A90F-7994FF7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1B2-75A0-406C-812A-827EDB6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E834B-D6EB-41C6-B2A3-AC8BF4F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4908-D0A2-4E84-BC6E-73C3116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8F5C-5B35-456C-9BFB-FD68A9F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3E8E-BA3D-403B-B4F7-641BE77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E3E86-1518-4FF0-910D-F769763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7936-F053-450C-9D90-8F640A06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B313-1970-4DDC-B106-431C850E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B1055-1F90-4BDE-BBD5-35D4CB70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79972-3AA8-40AE-8AD3-96E37DF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6516-5158-4850-B276-A511EFB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cai.7cxk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85C0-A054-44ED-9919-265FC073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孔隆教育PPT模板(下)副本"/>
          <p:cNvPicPr/>
          <p:nvPr/>
        </p:nvPicPr>
        <p:blipFill>
          <a:blip r:embed="rId3"/>
          <a:srcRect l="6962" t="78985" r="0" b="0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6266880" y="6548400"/>
            <a:ext cx="24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i.7cxk.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小学课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22F-63F0-464A-A21D-CCC118BE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0F5C-FD8E-41FC-A74C-B2697C9B5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5602-0899-4578-93E2-9DDAC4A4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CEE-BFAC-442F-BB72-ED4704A3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BB3-21DD-4C98-A66D-D3FECBC7E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6FFC-05E5-4991-9C12-8D0C217A3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D0E8-4A05-4338-9DA3-4235FD3F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94EC-0CCB-4581-A48D-B5F3847BB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0FF-E8D5-42F6-934B-F3D27CDF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F378-DA46-4C8E-A66E-AF11997D6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787-BB8A-4856-8438-2E085841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Unit1   Big or smal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84360" y="4797360"/>
            <a:ext cx="4392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4" name="Picture 4" descr="u=3927874425,305602543&amp;fm=56"/>
          <p:cNvPicPr/>
          <p:nvPr/>
        </p:nvPicPr>
        <p:blipFill>
          <a:blip r:embed="rId1"/>
          <a:stretch/>
        </p:blipFill>
        <p:spPr>
          <a:xfrm>
            <a:off x="2124000" y="1052640"/>
            <a:ext cx="4753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63640" y="4581000"/>
            <a:ext cx="5832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6" name="Picture 4" descr="u=1343262538,4267678286&amp;fm=23&amp;gp=0"/>
          <p:cNvPicPr/>
          <p:nvPr/>
        </p:nvPicPr>
        <p:blipFill>
          <a:blip r:embed="rId1"/>
          <a:srcRect l="0" t="0" r="0" b="5140"/>
          <a:stretch/>
        </p:blipFill>
        <p:spPr>
          <a:xfrm>
            <a:off x="2987640" y="981000"/>
            <a:ext cx="33339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76360" y="4581360"/>
            <a:ext cx="264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8" name="Picture 4" descr="u=1564170361,1159259209&amp;fm=21&amp;gp=0"/>
          <p:cNvPicPr/>
          <p:nvPr/>
        </p:nvPicPr>
        <p:blipFill>
          <a:blip r:embed="rId1"/>
          <a:stretch/>
        </p:blipFill>
        <p:spPr>
          <a:xfrm>
            <a:off x="1547640" y="1557360"/>
            <a:ext cx="2702160" cy="28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u=1715253174,1239790311&amp;fm=21&amp;gp=0"/>
          <p:cNvPicPr/>
          <p:nvPr/>
        </p:nvPicPr>
        <p:blipFill>
          <a:blip r:embed="rId2"/>
          <a:stretch/>
        </p:blipFill>
        <p:spPr>
          <a:xfrm>
            <a:off x="4788000" y="2205000"/>
            <a:ext cx="3162240" cy="20955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4932360" y="458136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92360" y="4869000"/>
            <a:ext cx="2952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2" name="Picture 4" descr="u=1467125077,1197873673&amp;fm=23&amp;gp=0"/>
          <p:cNvPicPr/>
          <p:nvPr/>
        </p:nvPicPr>
        <p:blipFill>
          <a:blip r:embed="rId1"/>
          <a:stretch/>
        </p:blipFill>
        <p:spPr>
          <a:xfrm>
            <a:off x="5940360" y="3068640"/>
            <a:ext cx="1233720" cy="1644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u=3632364573,1220599253&amp;fm=23&amp;gp=0"/>
          <p:cNvPicPr/>
          <p:nvPr/>
        </p:nvPicPr>
        <p:blipFill>
          <a:blip r:embed="rId2"/>
          <a:stretch/>
        </p:blipFill>
        <p:spPr>
          <a:xfrm>
            <a:off x="971640" y="1125360"/>
            <a:ext cx="4392360" cy="36324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6"/>
          <p:cNvSpPr/>
          <p:nvPr/>
        </p:nvSpPr>
        <p:spPr>
          <a:xfrm>
            <a:off x="5076720" y="4869000"/>
            <a:ext cx="2952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u=2697626184,2783673139&amp;fm=23&amp;gp=0"/>
          <p:cNvPicPr/>
          <p:nvPr/>
        </p:nvPicPr>
        <p:blipFill>
          <a:blip r:embed="rId1"/>
          <a:stretch/>
        </p:blipFill>
        <p:spPr>
          <a:xfrm>
            <a:off x="1116000" y="1413000"/>
            <a:ext cx="6624720" cy="473076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5"/>
          <p:cNvSpPr/>
          <p:nvPr/>
        </p:nvSpPr>
        <p:spPr>
          <a:xfrm rot="4212600">
            <a:off x="1728000" y="1376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476360" y="54936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"/>
          <p:cNvSpPr/>
          <p:nvPr/>
        </p:nvSpPr>
        <p:spPr>
          <a:xfrm rot="7258800">
            <a:off x="4104000" y="209628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3780000" y="119700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u=3927874425,305602543&amp;fm=56"/>
          <p:cNvPicPr/>
          <p:nvPr/>
        </p:nvPicPr>
        <p:blipFill>
          <a:blip r:embed="rId1"/>
          <a:stretch/>
        </p:blipFill>
        <p:spPr>
          <a:xfrm>
            <a:off x="250920" y="333360"/>
            <a:ext cx="2232000" cy="1814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u=1343262538,4267678286&amp;fm=23&amp;gp=0"/>
          <p:cNvPicPr/>
          <p:nvPr/>
        </p:nvPicPr>
        <p:blipFill>
          <a:blip r:embed="rId2"/>
          <a:srcRect l="0" t="0" r="0" b="9104"/>
          <a:stretch/>
        </p:blipFill>
        <p:spPr>
          <a:xfrm>
            <a:off x="395280" y="2852640"/>
            <a:ext cx="2016000" cy="1505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u=1564170361,1159259209&amp;fm=21&amp;gp=0"/>
          <p:cNvPicPr/>
          <p:nvPr/>
        </p:nvPicPr>
        <p:blipFill>
          <a:blip r:embed="rId3"/>
          <a:stretch/>
        </p:blipFill>
        <p:spPr>
          <a:xfrm>
            <a:off x="2700360" y="33336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u=1715253174,1239790311&amp;fm=21&amp;gp=0"/>
          <p:cNvPicPr/>
          <p:nvPr/>
        </p:nvPicPr>
        <p:blipFill>
          <a:blip r:embed="rId4"/>
          <a:stretch/>
        </p:blipFill>
        <p:spPr>
          <a:xfrm>
            <a:off x="2627280" y="2924280"/>
            <a:ext cx="1944720" cy="1479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u=3632364573,1220599253&amp;fm=23&amp;gp=0"/>
          <p:cNvPicPr/>
          <p:nvPr/>
        </p:nvPicPr>
        <p:blipFill>
          <a:blip r:embed="rId5"/>
          <a:stretch/>
        </p:blipFill>
        <p:spPr>
          <a:xfrm>
            <a:off x="4716360" y="404640"/>
            <a:ext cx="1871640" cy="1741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u=1467125077,1197873673&amp;fm=23&amp;gp=0"/>
          <p:cNvPicPr/>
          <p:nvPr/>
        </p:nvPicPr>
        <p:blipFill>
          <a:blip r:embed="rId6"/>
          <a:stretch/>
        </p:blipFill>
        <p:spPr>
          <a:xfrm>
            <a:off x="5219640" y="3284640"/>
            <a:ext cx="1074960" cy="11286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2"/>
          <p:cNvSpPr/>
          <p:nvPr/>
        </p:nvSpPr>
        <p:spPr>
          <a:xfrm>
            <a:off x="755640" y="220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971640" y="4508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313200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3059280" y="4508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14836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148360" y="44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8" descr="u=2697626184,2783673139&amp;fm=23&amp;gp=0_副本"/>
          <p:cNvPicPr/>
          <p:nvPr/>
        </p:nvPicPr>
        <p:blipFill>
          <a:blip r:embed="rId7"/>
          <a:stretch/>
        </p:blipFill>
        <p:spPr>
          <a:xfrm>
            <a:off x="6877080" y="404640"/>
            <a:ext cx="1892160" cy="180036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9"/>
          <p:cNvSpPr/>
          <p:nvPr/>
        </p:nvSpPr>
        <p:spPr>
          <a:xfrm rot="4212600">
            <a:off x="6912360" y="2959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745164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2" descr="u=2697626184,2783673139&amp;fm=23&amp;gp=0_副本"/>
          <p:cNvPicPr/>
          <p:nvPr/>
        </p:nvPicPr>
        <p:blipFill>
          <a:blip r:embed="rId8"/>
          <a:stretch/>
        </p:blipFill>
        <p:spPr>
          <a:xfrm>
            <a:off x="6877080" y="2637000"/>
            <a:ext cx="1892160" cy="180000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4"/>
          <p:cNvSpPr/>
          <p:nvPr/>
        </p:nvSpPr>
        <p:spPr>
          <a:xfrm rot="7258800">
            <a:off x="8208000" y="2672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5"/>
          <p:cNvSpPr/>
          <p:nvPr/>
        </p:nvSpPr>
        <p:spPr>
          <a:xfrm>
            <a:off x="7380360" y="44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6"/>
          <p:cNvSpPr/>
          <p:nvPr/>
        </p:nvSpPr>
        <p:spPr>
          <a:xfrm>
            <a:off x="539640" y="49417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app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7"/>
          <p:cNvSpPr/>
          <p:nvPr/>
        </p:nvSpPr>
        <p:spPr>
          <a:xfrm>
            <a:off x="684360" y="573408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8"/>
          <p:cNvSpPr/>
          <p:nvPr/>
        </p:nvSpPr>
        <p:spPr>
          <a:xfrm>
            <a:off x="4788000" y="501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4859280" y="580536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63468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迅速说出下列单词的反义词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971640" y="22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859280" y="220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97164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g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4859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305928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804000" y="22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270036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6588000" y="292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468360" y="3573360"/>
            <a:ext cx="63468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请根据中文提示，完成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971640" y="4149720"/>
            <a:ext cx="648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I am ________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快乐的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You are ________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热的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He is ________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高的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he is ________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大的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1908000" y="4076640"/>
            <a:ext cx="14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262728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2195640" y="508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2340000" y="558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611280" y="620640"/>
            <a:ext cx="324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I am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You are 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He 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She is ____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3276720" y="105264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3276720" y="162864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0"/>
          <p:cNvSpPr/>
          <p:nvPr/>
        </p:nvSpPr>
        <p:spPr>
          <a:xfrm flipV="1">
            <a:off x="3276720" y="191592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"/>
          <p:cNvSpPr/>
          <p:nvPr/>
        </p:nvSpPr>
        <p:spPr>
          <a:xfrm flipV="1">
            <a:off x="3203640" y="191592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3851280" y="17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4211640" y="1628640"/>
            <a:ext cx="129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7"/>
          <p:cNvSpPr/>
          <p:nvPr/>
        </p:nvSpPr>
        <p:spPr>
          <a:xfrm>
            <a:off x="5580000" y="907920"/>
            <a:ext cx="792360" cy="2089440"/>
          </a:xfrm>
          <a:custGeom>
            <a:avLst/>
            <a:gdLst>
              <a:gd name="textAreaLeft" fmla="*/ 506160 w 792360"/>
              <a:gd name="textAreaRight" fmla="*/ 792720 w 79236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6372360" y="765000"/>
            <a:ext cx="194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ppy,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t,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ll,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g,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611280" y="4005360"/>
            <a:ext cx="19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/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843280" y="4508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1"/>
          <p:cNvSpPr/>
          <p:nvPr/>
        </p:nvSpPr>
        <p:spPr>
          <a:xfrm>
            <a:off x="2411280" y="4005360"/>
            <a:ext cx="432000" cy="1727280"/>
          </a:xfrm>
          <a:custGeom>
            <a:avLst/>
            <a:gdLst>
              <a:gd name="textAreaLeft" fmla="*/ 0 w 432000"/>
              <a:gd name="textAreaRight" fmla="*/ 15588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971640" y="3357720"/>
            <a:ext cx="100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003640" y="4005360"/>
            <a:ext cx="19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4"/>
          <p:cNvSpPr/>
          <p:nvPr/>
        </p:nvSpPr>
        <p:spPr>
          <a:xfrm>
            <a:off x="6588000" y="4005360"/>
            <a:ext cx="432000" cy="1727280"/>
          </a:xfrm>
          <a:custGeom>
            <a:avLst/>
            <a:gdLst>
              <a:gd name="textAreaLeft" fmla="*/ 0 w 432000"/>
              <a:gd name="textAreaRight" fmla="*/ 15588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7020000" y="4508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5148360" y="3357720"/>
            <a:ext cx="100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8"/>
          <p:cNvSpPr/>
          <p:nvPr/>
        </p:nvSpPr>
        <p:spPr>
          <a:xfrm>
            <a:off x="2484360" y="3500280"/>
            <a:ext cx="2087640" cy="360360"/>
          </a:xfrm>
          <a:prstGeom prst="rightArrow">
            <a:avLst>
              <a:gd name="adj1" fmla="val 50000"/>
              <a:gd name="adj2" fmla="val 1448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23:48Z</dcterms:created>
  <dc:creator/>
  <dc:description/>
  <dc:language>en-US</dc:language>
  <cp:lastModifiedBy/>
  <dcterms:modified xsi:type="dcterms:W3CDTF">2016-12-30T03:23:50Z</dcterms:modified>
  <cp:revision>1</cp:revision>
  <dc:subject/>
  <dc:title/>
</cp:coreProperties>
</file>