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laser.wav" ContentType="audio/x-wav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hamm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0DA3-BF86-4406-BDF3-6CFD9AAEAE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74FA-EAEC-41D9-9395-70CE8B091A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809E-7310-404D-B1AE-D1CE1DAF00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3CE-0D11-4211-BFB7-3C988A5913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5D4-B0E4-41DC-A95E-431F6EAB6A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45BF-4290-4353-815B-79139B5A70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CC7E-2C89-4A3D-BE25-D9360C728E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651-0461-494F-B2E5-FBC0A050DB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1FE4-371E-4725-B69F-7575B98179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317-5D6E-45B1-9465-78E5384B70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4A68-B000-4B86-9FCE-CA838FE1DA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250-7E80-42CC-A36D-CB16367E01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3427-3FBF-46A2-9036-75303A94BF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595F-A791-4A84-854E-3D114D84F1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382-C0F4-43C8-AC72-CB1C6DC772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012-FE52-4479-BA69-D633E35632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21C-09A7-4C4A-A780-968FE7AB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3A3-B6C2-492D-89C1-F190B10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2A0-9A88-4255-BF53-28AD150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2EE-031C-4E9E-940B-78B0A274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815-19C7-41BF-B851-6612ABF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338-A9BE-4E3A-BDC1-8F38E09D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178-5021-4021-ACFB-8226A35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871-F079-461A-B9FA-111CE9F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448-95AA-4038-91BE-1CD281AB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D55-0F55-407B-A645-21CCE24A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6E6-50A1-4B8F-B18F-5586257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AEA-2EF1-4152-BCB1-386BD5E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AEE2-0BB7-4C4C-B625-BE76AD57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1.jpeg"/><Relationship Id="rId11" Type="http://schemas.openxmlformats.org/officeDocument/2006/relationships/image" Target="../media/image10.jpeg"/><Relationship Id="rId12" Type="http://schemas.openxmlformats.org/officeDocument/2006/relationships/image" Target="../media/image13.jpeg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Unit 3      My   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505320" y="1600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我的房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图片2"/>
          <p:cNvPicPr/>
          <p:nvPr/>
        </p:nvPicPr>
        <p:blipFill>
          <a:blip r:embed="rId1"/>
          <a:srcRect l="0" t="0" r="0" b="7503"/>
          <a:stretch/>
        </p:blipFill>
        <p:spPr>
          <a:xfrm>
            <a:off x="228600" y="220968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图片1"/>
          <p:cNvPicPr/>
          <p:nvPr/>
        </p:nvPicPr>
        <p:blipFill>
          <a:blip r:embed="rId2"/>
          <a:stretch/>
        </p:blipFill>
        <p:spPr>
          <a:xfrm>
            <a:off x="4648320" y="220968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152280" y="0"/>
            <a:ext cx="586764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urtau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152280" y="152280"/>
            <a:ext cx="358164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Be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0" y="0"/>
            <a:ext cx="48769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indow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0" y="0"/>
            <a:ext cx="4495680" cy="27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hai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图片5"/>
          <p:cNvPicPr/>
          <p:nvPr/>
        </p:nvPicPr>
        <p:blipFill>
          <a:blip r:embed="rId2"/>
          <a:srcRect l="0" t="0" r="0" b="9679"/>
          <a:stretch/>
        </p:blipFill>
        <p:spPr>
          <a:xfrm>
            <a:off x="0" y="2133720"/>
            <a:ext cx="251460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图片11"/>
          <p:cNvPicPr/>
          <p:nvPr/>
        </p:nvPicPr>
        <p:blipFill>
          <a:blip r:embed="rId3"/>
          <a:stretch/>
        </p:blipFill>
        <p:spPr>
          <a:xfrm>
            <a:off x="6446880" y="3505320"/>
            <a:ext cx="269712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图片4"/>
          <p:cNvPicPr/>
          <p:nvPr/>
        </p:nvPicPr>
        <p:blipFill>
          <a:blip r:embed="rId4"/>
          <a:srcRect l="0" t="0" r="0" b="9529"/>
          <a:stretch/>
        </p:blipFill>
        <p:spPr>
          <a:xfrm>
            <a:off x="6477120" y="0"/>
            <a:ext cx="26668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图片6"/>
          <p:cNvPicPr/>
          <p:nvPr/>
        </p:nvPicPr>
        <p:blipFill>
          <a:blip r:embed="rId5"/>
          <a:srcRect l="0" t="0" r="0" b="12906"/>
          <a:stretch/>
        </p:blipFill>
        <p:spPr>
          <a:xfrm>
            <a:off x="0" y="449568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图片8"/>
          <p:cNvPicPr/>
          <p:nvPr/>
        </p:nvPicPr>
        <p:blipFill>
          <a:blip r:embed="rId6"/>
          <a:srcRect l="0" t="0" r="0" b="6064"/>
          <a:stretch/>
        </p:blipFill>
        <p:spPr>
          <a:xfrm>
            <a:off x="2514600" y="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图片7"/>
          <p:cNvPicPr/>
          <p:nvPr/>
        </p:nvPicPr>
        <p:blipFill>
          <a:blip r:embed="rId7"/>
          <a:srcRect l="0" t="6059" r="0" b="0"/>
          <a:stretch/>
        </p:blipFill>
        <p:spPr>
          <a:xfrm>
            <a:off x="4572000" y="763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图片13"/>
          <p:cNvPicPr/>
          <p:nvPr/>
        </p:nvPicPr>
        <p:blipFill>
          <a:blip r:embed="rId8"/>
          <a:stretch/>
        </p:blipFill>
        <p:spPr>
          <a:xfrm>
            <a:off x="2438280" y="2459160"/>
            <a:ext cx="2225880" cy="188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图片14"/>
          <p:cNvPicPr/>
          <p:nvPr/>
        </p:nvPicPr>
        <p:blipFill>
          <a:blip r:embed="rId9"/>
          <a:stretch/>
        </p:blipFill>
        <p:spPr>
          <a:xfrm>
            <a:off x="4648320" y="25146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图片10"/>
          <p:cNvPicPr/>
          <p:nvPr/>
        </p:nvPicPr>
        <p:blipFill>
          <a:blip r:embed="rId10"/>
          <a:stretch/>
        </p:blipFill>
        <p:spPr>
          <a:xfrm>
            <a:off x="6477120" y="160020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图片9"/>
          <p:cNvPicPr/>
          <p:nvPr/>
        </p:nvPicPr>
        <p:blipFill>
          <a:blip r:embed="rId11"/>
          <a:stretch/>
        </p:blipFill>
        <p:spPr>
          <a:xfrm>
            <a:off x="5105520" y="51814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图片12"/>
          <p:cNvPicPr/>
          <p:nvPr/>
        </p:nvPicPr>
        <p:blipFill>
          <a:blip r:embed="rId12"/>
          <a:stretch/>
        </p:blipFill>
        <p:spPr>
          <a:xfrm>
            <a:off x="2438280" y="4343400"/>
            <a:ext cx="28958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6"/>
          <p:cNvSpPr txBox="1"/>
          <p:nvPr/>
        </p:nvSpPr>
        <p:spPr>
          <a:xfrm rot="1267800">
            <a:off x="2819160" y="2286000"/>
            <a:ext cx="446868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8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ood 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8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400800" y="3048120"/>
            <a:ext cx="45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228600" y="-304920"/>
            <a:ext cx="4876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Mirro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图片4"/>
          <p:cNvPicPr/>
          <p:nvPr/>
        </p:nvPicPr>
        <p:blipFill>
          <a:blip r:embed="rId1"/>
          <a:srcRect l="0" t="0" r="0" b="77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304920" y="-228600"/>
            <a:ext cx="5181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ardrob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图片5"/>
          <p:cNvPicPr/>
          <p:nvPr/>
        </p:nvPicPr>
        <p:blipFill>
          <a:blip r:embed="rId1"/>
          <a:srcRect l="0" t="0" r="0" b="667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304920" y="152280"/>
            <a:ext cx="567684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ab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图片6"/>
          <p:cNvPicPr/>
          <p:nvPr/>
        </p:nvPicPr>
        <p:blipFill>
          <a:blip r:embed="rId1"/>
          <a:stretch/>
        </p:blipFill>
        <p:spPr>
          <a:xfrm>
            <a:off x="-228600" y="-533520"/>
            <a:ext cx="9372600" cy="739152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0" y="-533520"/>
            <a:ext cx="5257800" cy="39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ictur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图片7"/>
          <p:cNvPicPr/>
          <p:nvPr/>
        </p:nvPicPr>
        <p:blipFill>
          <a:blip r:embed="rId1"/>
          <a:srcRect l="0" t="444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304920" y="-762120"/>
            <a:ext cx="5371920" cy="508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loc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图片8"/>
          <p:cNvPicPr/>
          <p:nvPr/>
        </p:nvPicPr>
        <p:blipFill>
          <a:blip r:embed="rId1"/>
          <a:srcRect l="0" t="0" r="0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228600" y="0"/>
            <a:ext cx="4952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am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0" y="0"/>
            <a:ext cx="3276720" cy="333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V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0" y="0"/>
            <a:ext cx="4191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of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5:52:59Z</dcterms:created>
  <dc:creator/>
  <dc:description/>
  <dc:language>en-US</dc:language>
  <cp:lastModifiedBy/>
  <dcterms:modified xsi:type="dcterms:W3CDTF">2017-01-05T08:26:56Z</dcterms:modified>
  <cp:revision>1</cp:revision>
  <dc:subject/>
  <dc:title/>
</cp:coreProperties>
</file>