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EF70-58EC-49AC-9804-79D4456F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AF89-0740-456D-8F9A-BD0593A2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E852-4AA1-4A47-83D9-234F8EE7B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0247-2348-420B-91F1-6053C2630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FA4B-639A-48B8-B02C-EF611599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E6F41-6F20-4066-A82A-90EDE137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7694-5D5F-48A8-97B2-1F5CB693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ECD28-5120-41AC-B31F-48E7CFAE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17F2F-B220-49DB-9910-E0C8E8A8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B17F-7D1E-4519-A3F6-D0C307B5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002E-2239-4390-B043-D2BC4E93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9770-7FC5-4510-87FF-57A8A28F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796E-D20A-49A0-B929-6F2C6CFB4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ED0D-5153-48F6-939F-059AE0CD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F0C9-256D-44E3-9D2A-F71B591E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32CC-89FC-442D-9A22-C73A9914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CE18-6D1A-4E99-8C36-C073012D2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296C-34C2-4914-9301-51D16AD4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FCFF-CD1A-4663-A7C1-050B8A24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318-8B4C-462A-ADA3-FA1C6E145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8B26-0DEB-480E-94DD-602188AA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D2FD-2416-43E9-9557-E8574CE7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71FE-00D4-44B8-A7CC-CDA46236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D05-0261-4F0E-B0B3-EBD0C66F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CE90-DB5A-49B6-BB47-D299238437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8D56-FC2F-4AC9-9BE2-7A9A897B834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Garamond"/>
              </a:rPr>
              <a:t>Unit 6  Outdoor fun</a:t>
            </a:r>
            <a:br>
              <a:rPr sz="5000"/>
            </a:br>
            <a:r>
              <a:rPr b="1" lang="zh-CN" sz="5000" spc="-1" strike="noStrike">
                <a:solidFill>
                  <a:srgbClr val="ff0000"/>
                </a:solidFill>
                <a:latin typeface="Garamond"/>
              </a:rPr>
              <a:t>户外的乐趣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She looked up and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aw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white rabbit with a coa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unning by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e sb. doing (sth.)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看见某人正在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 by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跑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aid the rabb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then it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oo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watch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u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of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ts pocket and looked at the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id the rabbit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这只兔子说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id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过去式，放在主语前构成倒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ok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ke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 of…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掏出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I took my money out of my pocke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我从口袋里掏出了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. It surprised Alice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它让爱丽丝非常惊讶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prise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这里作为动词“使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吃惊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. She stood up and ran across the field after the rabbit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她站起来跟着兔子后面跑过了一片田野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 up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起立；站起来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 across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跑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. The useful phases in paragraph 3 – 5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un to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跑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mp down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跳下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t away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跑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it the ground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碰到地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key for any of the doors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任何门上的钥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the other side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另外一边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 through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穿过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试着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58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w try to understand the phrases above, and then complete the tanslation 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xercise of Each Lesson, pg 7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mework: 1. Copy the new words of this article in the textboo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2. Complete the self-test in pg 70 and 7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33"/>
                </a:solidFill>
                <a:latin typeface="Times New Roman"/>
              </a:rPr>
              <a:t>Grammar </a:t>
            </a:r>
            <a:br>
              <a:rPr sz="6000"/>
            </a:br>
            <a:r>
              <a:rPr b="0" lang="en-US" sz="6000" spc="-1" strike="noStrike">
                <a:solidFill>
                  <a:srgbClr val="006633"/>
                </a:solidFill>
                <a:latin typeface="Times New Roman"/>
              </a:rPr>
              <a:t>Simple past tenseⅡ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762120" y="2151000"/>
          <a:ext cx="7619760" cy="3944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51000"/>
                    <a:ext cx="76197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ic and Welcome to the uni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12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erent kinds of outdoor activiti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riding"/>
          <p:cNvPicPr/>
          <p:nvPr/>
        </p:nvPicPr>
        <p:blipFill>
          <a:blip r:embed="rId1"/>
          <a:srcRect l="0" t="0" r="0" b="6661"/>
          <a:stretch/>
        </p:blipFill>
        <p:spPr>
          <a:xfrm>
            <a:off x="685800" y="2133720"/>
            <a:ext cx="2243160" cy="2133360"/>
          </a:xfrm>
          <a:prstGeom prst="rect">
            <a:avLst/>
          </a:prstGeom>
          <a:ln w="0">
            <a:noFill/>
          </a:ln>
        </p:spPr>
      </p:pic>
      <p:sp>
        <p:nvSpPr>
          <p:cNvPr id="90" name="WordArt 6"/>
          <p:cNvSpPr txBox="1"/>
          <p:nvPr/>
        </p:nvSpPr>
        <p:spPr>
          <a:xfrm>
            <a:off x="3352680" y="2286000"/>
            <a:ext cx="1752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riding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WordArt 7"/>
          <p:cNvSpPr txBox="1"/>
          <p:nvPr/>
        </p:nvSpPr>
        <p:spPr>
          <a:xfrm>
            <a:off x="3352680" y="3429000"/>
            <a:ext cx="15242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骑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92" name="Picture 8" descr="cycling"/>
          <p:cNvPicPr/>
          <p:nvPr/>
        </p:nvPicPr>
        <p:blipFill>
          <a:blip r:embed="rId4"/>
          <a:stretch/>
        </p:blipFill>
        <p:spPr>
          <a:xfrm>
            <a:off x="5867280" y="2286000"/>
            <a:ext cx="2438640" cy="1905120"/>
          </a:xfrm>
          <a:prstGeom prst="rect">
            <a:avLst/>
          </a:prstGeom>
          <a:ln w="0">
            <a:noFill/>
          </a:ln>
        </p:spPr>
      </p:pic>
      <p:sp>
        <p:nvSpPr>
          <p:cNvPr id="93" name="WordArt 10"/>
          <p:cNvSpPr txBox="1"/>
          <p:nvPr/>
        </p:nvSpPr>
        <p:spPr>
          <a:xfrm>
            <a:off x="6019920" y="4267080"/>
            <a:ext cx="18190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cycling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WordArt 11"/>
          <p:cNvSpPr txBox="1"/>
          <p:nvPr/>
        </p:nvSpPr>
        <p:spPr>
          <a:xfrm>
            <a:off x="5867280" y="4952880"/>
            <a:ext cx="2057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骑自行车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skiing"/>
          <p:cNvPicPr/>
          <p:nvPr/>
        </p:nvPicPr>
        <p:blipFill>
          <a:blip r:embed="rId1"/>
          <a:srcRect l="0" t="0" r="0" b="3339"/>
          <a:stretch/>
        </p:blipFill>
        <p:spPr>
          <a:xfrm>
            <a:off x="380880" y="2286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diving"/>
          <p:cNvPicPr/>
          <p:nvPr/>
        </p:nvPicPr>
        <p:blipFill>
          <a:blip r:embed="rId2"/>
          <a:srcRect l="0" t="0" r="0" b="6775"/>
          <a:stretch/>
        </p:blipFill>
        <p:spPr>
          <a:xfrm>
            <a:off x="380880" y="3429000"/>
            <a:ext cx="2971800" cy="2514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aping"/>
          <p:cNvPicPr/>
          <p:nvPr/>
        </p:nvPicPr>
        <p:blipFill>
          <a:blip r:embed="rId3"/>
          <a:srcRect l="0" t="0" r="0" b="6450"/>
          <a:stretch/>
        </p:blipFill>
        <p:spPr>
          <a:xfrm>
            <a:off x="5410080" y="228600"/>
            <a:ext cx="3124440" cy="22096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hiking"/>
          <p:cNvPicPr/>
          <p:nvPr/>
        </p:nvPicPr>
        <p:blipFill>
          <a:blip r:embed="rId4"/>
          <a:srcRect l="0" t="0" r="0" b="7980"/>
          <a:stretch/>
        </p:blipFill>
        <p:spPr>
          <a:xfrm>
            <a:off x="5486400" y="3505320"/>
            <a:ext cx="3048120" cy="2361960"/>
          </a:xfrm>
          <a:prstGeom prst="rect">
            <a:avLst/>
          </a:prstGeom>
          <a:ln w="0">
            <a:noFill/>
          </a:ln>
        </p:spPr>
      </p:pic>
      <p:sp>
        <p:nvSpPr>
          <p:cNvPr id="99" name="WordArt 9"/>
          <p:cNvSpPr txBox="1"/>
          <p:nvPr/>
        </p:nvSpPr>
        <p:spPr>
          <a:xfrm>
            <a:off x="3505320" y="457200"/>
            <a:ext cx="12189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skiing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00" name="WordArt 10"/>
          <p:cNvSpPr txBox="1"/>
          <p:nvPr/>
        </p:nvSpPr>
        <p:spPr>
          <a:xfrm>
            <a:off x="3581280" y="1143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滑雪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01" name="WordArt 11"/>
          <p:cNvSpPr txBox="1"/>
          <p:nvPr/>
        </p:nvSpPr>
        <p:spPr>
          <a:xfrm>
            <a:off x="5486400" y="2666880"/>
            <a:ext cx="1523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amping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2" name="WordArt 12"/>
          <p:cNvSpPr txBox="1"/>
          <p:nvPr/>
        </p:nvSpPr>
        <p:spPr>
          <a:xfrm>
            <a:off x="7315200" y="2743200"/>
            <a:ext cx="1066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露营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WordArt 13"/>
          <p:cNvSpPr txBox="1"/>
          <p:nvPr/>
        </p:nvSpPr>
        <p:spPr>
          <a:xfrm>
            <a:off x="457200" y="2895480"/>
            <a:ext cx="14288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diving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4" name="WordArt 14"/>
          <p:cNvSpPr txBox="1"/>
          <p:nvPr/>
        </p:nvSpPr>
        <p:spPr>
          <a:xfrm>
            <a:off x="2286000" y="28954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潜水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5" name="WordArt 15"/>
          <p:cNvSpPr txBox="1"/>
          <p:nvPr/>
        </p:nvSpPr>
        <p:spPr>
          <a:xfrm>
            <a:off x="3962520" y="3581280"/>
            <a:ext cx="1428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hiking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WordArt 16"/>
          <p:cNvSpPr txBox="1"/>
          <p:nvPr/>
        </p:nvSpPr>
        <p:spPr>
          <a:xfrm>
            <a:off x="4267080" y="4343400"/>
            <a:ext cx="9144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远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Garamond"/>
              </a:rPr>
              <a:t>Go</a:t>
            </a:r>
            <a:r>
              <a:rPr b="1" lang="zh-CN" sz="3800" spc="-1" strike="noStrike">
                <a:solidFill>
                  <a:srgbClr val="0000ff"/>
                </a:solidFill>
                <a:latin typeface="Garamond"/>
              </a:rPr>
              <a:t>可以和表示运动的动名词连用，意为</a:t>
            </a:r>
            <a:r>
              <a:rPr b="1" lang="zh-CN" sz="3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800" spc="-1" strike="noStrike">
                <a:solidFill>
                  <a:srgbClr val="0000ff"/>
                </a:solidFill>
                <a:latin typeface="Garamond"/>
              </a:rPr>
              <a:t>去</a:t>
            </a: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……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 fish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去钓鱼                   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 walk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去散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 shopp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g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去购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 skat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去溜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 div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去潜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 camp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去露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 hik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去远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 cycl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去骑自行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 runn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去跑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 ski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去滑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go swimm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去游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Let</a:t>
            </a:r>
            <a:r>
              <a:rPr b="0" lang="en-US" sz="3800" spc="-1" strike="noStrike">
                <a:solidFill>
                  <a:srgbClr val="006633"/>
                </a:solidFill>
                <a:latin typeface="Arial"/>
              </a:rPr>
              <a:t>’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 see what happened to Eddie and Hobo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Vacabular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tired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劳累的；疲惫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outdoor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户外的；室外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complai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抱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tha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adv. </a:t>
            </a:r>
            <a:r>
              <a:rPr b="1" i="1" lang="zh-CN" sz="26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；那样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 so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Phases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carry sth. for sb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为某人提（拎，扛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着某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ff"/>
                </a:solidFill>
                <a:latin typeface="Arial"/>
              </a:rPr>
              <a:t>too much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太多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3. Sentence</a:t>
            </a:r>
            <a:r>
              <a:rPr b="1" i="1" lang="zh-CN" sz="2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he bag isn’t really </a:t>
            </a: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that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 heavy. </a:t>
            </a:r>
            <a:r>
              <a:rPr b="1" i="1" lang="zh-CN" sz="2600" spc="-1" strike="noStrike">
                <a:solidFill>
                  <a:srgbClr val="000000"/>
                </a:solidFill>
                <a:latin typeface="Arial"/>
              </a:rPr>
              <a:t>这个包并不是那么重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door activities  </a:t>
            </a: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户外活动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rt 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What outdoor activity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would you like to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try?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你喜欢什么样的户外运动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What do you like abou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camping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你喜欢露营的什么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what do you like about…?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固定句型，意思是“你喜欢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的什么？” 或 “你喜欢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的哪一点？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例子：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What do you like about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your schoo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你喜欢你们学校的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82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I like 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bein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utside, near beautiful lakes and hills.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我喜欢在户外，靠近美丽的湖泊和群山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本身是系动词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m, is, are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的原形，放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后表示习惯爱好时用现在分词形式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>
                <a:solidFill>
                  <a:srgbClr val="000000"/>
                </a:solidFill>
                <a:latin typeface="Arial"/>
              </a:rPr>
              <a:t>联想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side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外面；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 side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里面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;       __side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旁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4"/>
          <p:cNvSpPr txBox="1"/>
          <p:nvPr/>
        </p:nvSpPr>
        <p:spPr>
          <a:xfrm>
            <a:off x="4876920" y="3809880"/>
            <a:ext cx="457200" cy="38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16" name="WordArt 5"/>
          <p:cNvSpPr txBox="1"/>
          <p:nvPr/>
        </p:nvSpPr>
        <p:spPr>
          <a:xfrm>
            <a:off x="838080" y="4343400"/>
            <a:ext cx="457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be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Work with your teamates and try to complete these questions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What did Alice se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saw a white rabbit with a coat running b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What surprised Alic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abbit with a coat and a watc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. Where did Alice find herself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e found herself in a long, low hal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. Was it a key for any of the door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, it wasn’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. Why Alice did not go through the doo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cause she was too b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eading  </a:t>
            </a: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Down the rabbit hole</a:t>
            </a:r>
            <a:br>
              <a:rPr sz="3800"/>
            </a:br>
            <a:r>
              <a:rPr b="0" lang="en-US" sz="3800" spc="-1" strike="noStrike">
                <a:solidFill>
                  <a:srgbClr val="006633"/>
                </a:solidFill>
                <a:latin typeface="Times New Roman"/>
              </a:rPr>
              <a:t>                   </a:t>
            </a:r>
            <a:r>
              <a:rPr b="0" lang="zh-CN" sz="3800" spc="-1" strike="noStrike">
                <a:solidFill>
                  <a:srgbClr val="006633"/>
                </a:solidFill>
                <a:latin typeface="Times New Roman"/>
              </a:rPr>
              <a:t>落入兔子洞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on+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日期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星期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有形容词等定语修饰的时间（具体的某一天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a warm day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在一个温暖的日子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a rainy Monday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在一个多雨的星期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She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got tired of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hav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nothing to 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她对无所事事感到厌烦。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t tired of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意为“对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感到厌烦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+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不定代词（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thing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hing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+ to do.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意为“有（没有）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去做的事情”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eamsummit</cp:lastModifiedBy>
  <dcterms:modified xsi:type="dcterms:W3CDTF">2015-03-17T08:18:50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