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4DC-02DB-4F00-BAF5-DE707824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B99-7AA8-41AF-AAE8-9D7CA97C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B40-E9FC-4913-83D9-2082D049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19D-DBF8-4057-901E-1B259316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DBB-06A0-420A-9B8E-741A432A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B0E-DF96-4EE4-9673-B156282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088-C4E3-48CE-9328-4DE30E0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A07-F1D3-4696-87DD-ED26093C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DA1-D50A-4FBC-96D6-1A3C8F7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2B7-8948-4F00-A8EE-4AD0F15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B32-2B81-44EA-B0D9-B7D44DA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518-7BE2-41BA-86AC-6E99888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1486-44F8-4C75-B4D9-97B7493D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Unit1   Big or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Christi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360" y="4797360"/>
            <a:ext cx="4392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u=3927874425,305602543&amp;fm=56"/>
          <p:cNvPicPr/>
          <p:nvPr/>
        </p:nvPicPr>
        <p:blipFill>
          <a:blip r:embed="rId1"/>
          <a:stretch/>
        </p:blipFill>
        <p:spPr>
          <a:xfrm>
            <a:off x="2124000" y="1052640"/>
            <a:ext cx="4753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4581000"/>
            <a:ext cx="5832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u=1343262538,4267678286&amp;fm=23&amp;gp=0"/>
          <p:cNvPicPr/>
          <p:nvPr/>
        </p:nvPicPr>
        <p:blipFill>
          <a:blip r:embed="rId1"/>
          <a:srcRect l="0" t="0" r="0" b="3002"/>
          <a:stretch/>
        </p:blipFill>
        <p:spPr>
          <a:xfrm>
            <a:off x="2987640" y="981000"/>
            <a:ext cx="3333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581360"/>
            <a:ext cx="264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u=1564170361,1159259209&amp;fm=21&amp;gp=0"/>
          <p:cNvPicPr/>
          <p:nvPr/>
        </p:nvPicPr>
        <p:blipFill>
          <a:blip r:embed="rId1"/>
          <a:stretch/>
        </p:blipFill>
        <p:spPr>
          <a:xfrm>
            <a:off x="1547640" y="1557360"/>
            <a:ext cx="2702160" cy="281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=1715253174,1239790311&amp;fm=21&amp;gp=0"/>
          <p:cNvPicPr/>
          <p:nvPr/>
        </p:nvPicPr>
        <p:blipFill>
          <a:blip r:embed="rId2"/>
          <a:stretch/>
        </p:blipFill>
        <p:spPr>
          <a:xfrm>
            <a:off x="4788000" y="2205000"/>
            <a:ext cx="3162240" cy="2095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932360" y="458136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4869000"/>
            <a:ext cx="2952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=1467125077,1197873673&amp;fm=23&amp;gp=0"/>
          <p:cNvPicPr/>
          <p:nvPr/>
        </p:nvPicPr>
        <p:blipFill>
          <a:blip r:embed="rId1"/>
          <a:stretch/>
        </p:blipFill>
        <p:spPr>
          <a:xfrm>
            <a:off x="5940360" y="3068640"/>
            <a:ext cx="1233720" cy="16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=3632364573,1220599253&amp;fm=23&amp;gp=0"/>
          <p:cNvPicPr/>
          <p:nvPr/>
        </p:nvPicPr>
        <p:blipFill>
          <a:blip r:embed="rId2"/>
          <a:stretch/>
        </p:blipFill>
        <p:spPr>
          <a:xfrm>
            <a:off x="971640" y="1125360"/>
            <a:ext cx="4392360" cy="363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5076720" y="4869000"/>
            <a:ext cx="2952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u=2697626184,2783673139&amp;fm=23&amp;gp=0"/>
          <p:cNvPicPr/>
          <p:nvPr/>
        </p:nvPicPr>
        <p:blipFill>
          <a:blip r:embed="rId1"/>
          <a:stretch/>
        </p:blipFill>
        <p:spPr>
          <a:xfrm>
            <a:off x="1116000" y="1413000"/>
            <a:ext cx="6624720" cy="47307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 rot="4212600">
            <a:off x="1728000" y="1376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76360" y="54936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 rot="7258800">
            <a:off x="4104000" y="209628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780000" y="119700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u=3927874425,305602543&amp;fm=56"/>
          <p:cNvPicPr/>
          <p:nvPr/>
        </p:nvPicPr>
        <p:blipFill>
          <a:blip r:embed="rId1"/>
          <a:stretch/>
        </p:blipFill>
        <p:spPr>
          <a:xfrm>
            <a:off x="250920" y="333360"/>
            <a:ext cx="2232000" cy="18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u=1343262538,4267678286&amp;fm=23&amp;gp=0"/>
          <p:cNvPicPr/>
          <p:nvPr/>
        </p:nvPicPr>
        <p:blipFill>
          <a:blip r:embed="rId2"/>
          <a:srcRect l="0" t="0" r="0" b="4795"/>
          <a:stretch/>
        </p:blipFill>
        <p:spPr>
          <a:xfrm>
            <a:off x="395280" y="2852640"/>
            <a:ext cx="2016000" cy="157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u=1564170361,1159259209&amp;fm=21&amp;gp=0"/>
          <p:cNvPicPr/>
          <p:nvPr/>
        </p:nvPicPr>
        <p:blipFill>
          <a:blip r:embed="rId3"/>
          <a:stretch/>
        </p:blipFill>
        <p:spPr>
          <a:xfrm>
            <a:off x="2700360" y="33336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u=1715253174,1239790311&amp;fm=21&amp;gp=0"/>
          <p:cNvPicPr/>
          <p:nvPr/>
        </p:nvPicPr>
        <p:blipFill>
          <a:blip r:embed="rId4"/>
          <a:stretch/>
        </p:blipFill>
        <p:spPr>
          <a:xfrm>
            <a:off x="2627280" y="2924280"/>
            <a:ext cx="1944720" cy="14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u=3632364573,1220599253&amp;fm=23&amp;gp=0"/>
          <p:cNvPicPr/>
          <p:nvPr/>
        </p:nvPicPr>
        <p:blipFill>
          <a:blip r:embed="rId5"/>
          <a:stretch/>
        </p:blipFill>
        <p:spPr>
          <a:xfrm>
            <a:off x="4716360" y="404640"/>
            <a:ext cx="1871640" cy="174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=1467125077,1197873673&amp;fm=23&amp;gp=0"/>
          <p:cNvPicPr/>
          <p:nvPr/>
        </p:nvPicPr>
        <p:blipFill>
          <a:blip r:embed="rId6"/>
          <a:stretch/>
        </p:blipFill>
        <p:spPr>
          <a:xfrm>
            <a:off x="5219640" y="3284640"/>
            <a:ext cx="1074960" cy="1128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755640" y="220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971640" y="4508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13200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059280" y="4508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514836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5148360" y="44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u=2697626184,2783673139&amp;fm=23&amp;gp=0_副本"/>
          <p:cNvPicPr/>
          <p:nvPr/>
        </p:nvPicPr>
        <p:blipFill>
          <a:blip r:embed="rId7"/>
          <a:stretch/>
        </p:blipFill>
        <p:spPr>
          <a:xfrm>
            <a:off x="6877080" y="404640"/>
            <a:ext cx="189216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9"/>
          <p:cNvSpPr/>
          <p:nvPr/>
        </p:nvSpPr>
        <p:spPr>
          <a:xfrm rot="4212600">
            <a:off x="6912360" y="2959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745164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u=2697626184,2783673139&amp;fm=23&amp;gp=0_副本"/>
          <p:cNvPicPr/>
          <p:nvPr/>
        </p:nvPicPr>
        <p:blipFill>
          <a:blip r:embed="rId8"/>
          <a:stretch/>
        </p:blipFill>
        <p:spPr>
          <a:xfrm>
            <a:off x="6877080" y="2637000"/>
            <a:ext cx="1892160" cy="1800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4"/>
          <p:cNvSpPr/>
          <p:nvPr/>
        </p:nvSpPr>
        <p:spPr>
          <a:xfrm rot="7258800">
            <a:off x="8208000" y="2672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7380360" y="44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39640" y="49417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app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684360" y="573408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4788000" y="501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4859280" y="580536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468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迅速说出下列单词的反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71640" y="22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859280" y="220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7164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g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859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05928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04000" y="22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70036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588000" y="292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68360" y="3573360"/>
            <a:ext cx="63468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根据中文提示，完成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971640" y="4149720"/>
            <a:ext cx="648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乐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热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908000" y="4076640"/>
            <a:ext cx="14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62728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2195640" y="508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2340000" y="558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11280" y="620640"/>
            <a:ext cx="324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276720" y="105264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162864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91592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3203640" y="191592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51280" y="17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211640" y="1628640"/>
            <a:ext cx="129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5580000" y="907920"/>
            <a:ext cx="792360" cy="2089440"/>
          </a:xfrm>
          <a:custGeom>
            <a:avLst/>
            <a:gdLst>
              <a:gd name="textAreaLeft" fmla="*/ 506160 w 792360"/>
              <a:gd name="textAreaRight" fmla="*/ 792720 w 79236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372360" y="765000"/>
            <a:ext cx="194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ppy,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t,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ll,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g,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11280" y="4005360"/>
            <a:ext cx="19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/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843280" y="4508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2411280" y="4005360"/>
            <a:ext cx="432000" cy="1727280"/>
          </a:xfrm>
          <a:custGeom>
            <a:avLst/>
            <a:gdLst>
              <a:gd name="textAreaLeft" fmla="*/ 0 w 432000"/>
              <a:gd name="textAreaRight" fmla="*/ 15588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971640" y="3357720"/>
            <a:ext cx="100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5003640" y="4005360"/>
            <a:ext cx="19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6588000" y="4005360"/>
            <a:ext cx="432000" cy="1727280"/>
          </a:xfrm>
          <a:custGeom>
            <a:avLst/>
            <a:gdLst>
              <a:gd name="textAreaLeft" fmla="*/ 0 w 432000"/>
              <a:gd name="textAreaRight" fmla="*/ 15588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7020000" y="4508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5148360" y="3357720"/>
            <a:ext cx="100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>
            <a:off x="2484360" y="3500280"/>
            <a:ext cx="2087640" cy="360360"/>
          </a:xfrm>
          <a:prstGeom prst="rightArrow">
            <a:avLst>
              <a:gd name="adj1" fmla="val 50000"/>
              <a:gd name="adj2" fmla="val 1448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2:14:41Z</dcterms:created>
  <dc:creator>q</dc:creator>
  <dc:description/>
  <dc:language>en-US</dc:language>
  <cp:lastModifiedBy>dreamsummit</cp:lastModifiedBy>
  <dcterms:modified xsi:type="dcterms:W3CDTF">2015-03-17T08:20:37Z</dcterms:modified>
  <cp:revision>13</cp:revision>
  <dc:subject/>
  <dc:title>Unit1   Big or small</dc:title>
</cp:coreProperties>
</file>