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0AA-65B6-4B13-9275-A6A23C36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C2A-375F-4ECB-8E1E-04B48536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673-67AA-467D-BDE5-372D9B00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484-32C6-4081-AF00-0AE58420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300-5041-457F-B434-B4F761A0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2B0-16DE-41AA-89FF-F9430B39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E94-B1C4-44FD-A282-DB1AB862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765-DC36-4975-B12A-C87FC51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B59-1E6F-4A41-B192-64EBE24A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3AA-3323-45B3-8003-2B3CFC1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665-C84F-4A3D-A18E-B90A811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A71-8D27-4759-9334-609F1325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93FF-1DC6-4FE2-8E96-EACAEE0A42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../&#30005;&#24433;/Days%20Of%20The%20Week%20Song.flv" TargetMode="External"/><Relationship Id="rId3" Type="http://schemas.openxmlformats.org/officeDocument/2006/relationships/hyperlink" Target="../../../&#30005;&#24433;/Days%20Of%20The%20Week%20Song.flv" TargetMode="External"/><Relationship Id="rId4" Type="http://schemas.openxmlformats.org/officeDocument/2006/relationships/hyperlink" Target="../../../&#30005;&#24433;/Days%20Of%20The%20Week%20Song.flv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 4  My  favourite day  is 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6387" descr="2011032720412179"/>
          <p:cNvPicPr/>
          <p:nvPr/>
        </p:nvPicPr>
        <p:blipFill>
          <a:blip r:embed="rId1"/>
          <a:stretch/>
        </p:blipFill>
        <p:spPr>
          <a:xfrm>
            <a:off x="0" y="-171360"/>
            <a:ext cx="97822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ame :find  your frie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8436" descr="2010122016121144"/>
          <p:cNvPicPr/>
          <p:nvPr/>
        </p:nvPicPr>
        <p:blipFill>
          <a:blip r:embed="rId1"/>
          <a:srcRect l="0" t="0" r="387" b="5896"/>
          <a:stretch/>
        </p:blipFill>
        <p:spPr>
          <a:xfrm>
            <a:off x="0" y="0"/>
            <a:ext cx="9109080" cy="6453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ank you for your listening 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075" descr="2009042317542527"/>
          <p:cNvPicPr/>
          <p:nvPr/>
        </p:nvPicPr>
        <p:blipFill>
          <a:blip r:embed="rId1"/>
          <a:srcRect l="0" t="0" r="2750" b="7156"/>
          <a:stretch/>
        </p:blipFill>
        <p:spPr>
          <a:xfrm>
            <a:off x="762120" y="571680"/>
            <a:ext cx="7410240" cy="530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sten a song: days of the wee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:\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电影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\Days Of The Week Song.f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485" descr="2009042317542458[1]"/>
          <p:cNvPicPr/>
          <p:nvPr/>
        </p:nvPicPr>
        <p:blipFill>
          <a:blip r:embed="rId1"/>
          <a:srcRect l="0" t="0" r="387" b="6476"/>
          <a:stretch/>
        </p:blipFill>
        <p:spPr>
          <a:xfrm>
            <a:off x="0" y="0"/>
            <a:ext cx="9109080" cy="623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days are there in a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2:  Do you know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3:  Which day do you lik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0243" descr="9_10111906155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星期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51" descr="9_10111906155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星期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1267" descr="9_101119061550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favourite day is Monday.I play the piano on Mon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最喜欢的一天是星期一。我星期一弹钢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favourite day is Tuesday .I draw on Tues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最喜欢的一天是星期二。我在星期二画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y favourite day is Wednesday .I swim on Wednes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最喜欢的一天是星期三。我在星期三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1:57:20Z</dcterms:created>
  <dc:creator>User</dc:creator>
  <dc:description/>
  <dc:language>en-US</dc:language>
  <cp:lastModifiedBy>Administrator</cp:lastModifiedBy>
  <dcterms:modified xsi:type="dcterms:W3CDTF">2016-12-08T07:45:05Z</dcterms:modified>
  <cp:revision>7</cp:revision>
  <dc:subject/>
  <dc:title>Unit  4  My  favourite day  is Mon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