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7D03-9C28-43A4-AEC3-51EFA321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5FF2-AFFA-4BA7-AE48-F8F2838C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FEA0-3D07-4758-A1D2-19FF5ABA1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F042-D6D4-42BC-BC97-DE58514A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C991-FADD-4F23-BC28-A8BE1436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9D4E-263E-40AA-8C3A-5F093A97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58EE-1CB3-4975-93CD-F4E820D4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AEC1-2FBC-4226-86C5-9EC88615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CD18-C6C5-4370-8E76-F3B6821C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98FD-633A-4184-8790-4883C026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7B3C-DD65-4B2B-9940-065C0D40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84FA-050B-4D08-A006-605A8BE0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E4ED-F412-4C71-822E-D539ED00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6BB8-B818-4F2E-8D29-E4C6605F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513B-CC72-4934-8A65-2C5DD594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4B9D-54B1-4CE6-BC74-5081AAEF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BDCF-21BF-4FC7-B423-9C173634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7CE8A-487B-4E06-A193-9BC9891D9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E1653-B612-4B16-80BB-630A2AF8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180BA-2DFA-4FA3-8598-46C24A48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1275A-6252-4FDA-BAD1-0B1F646F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D5731-84BF-488B-A828-B7EE5604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1B38-CA52-43BE-B71F-B90F303F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CE064-2090-4AC5-9F5D-6ADC39F0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62B57-AC4A-45C6-92D0-25B9BBE8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6AB39-FBAC-410B-9BD8-3C9997F6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44847-350A-44B1-8921-0C763F39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B896E-2553-41A0-8A4D-5DBB63E5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B6BA0-E614-455F-9A00-C3A1DF6BC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5DB80-50B5-456F-BB4F-C23B30D1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BA167-D7E8-442D-90D0-41529224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D5B07-1E0D-4E74-A8E6-EF610914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0D19B-8A74-4F33-A6E5-34613875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930B-7579-4960-B1B3-25D58649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C649E-B307-4D58-8A89-9DE3E7B9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CA27F-378F-45BA-B344-E84B065F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49A00-0656-4BCC-8C7E-011EEE2B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9E380-C5E7-4F36-B42C-56C372FB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23ABA-9862-451B-BD7B-BAAE12C6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4BA02-92BE-47D4-8742-A00C3131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07CBD-18EF-46A0-A1AB-911A9958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3F253-DDDC-4ECD-8213-FFAF4A9F7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86EBC-A379-4857-A39B-C5894054F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7B8CE-A21F-4E8B-A2F7-D7675A9B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A306-DB7E-4827-9104-243D46E9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4294C-B626-40FD-9DA3-43240AF4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5A4D9-C275-4059-9F0B-9DEC25BE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8AECC-D88E-4BE1-BF40-B6C1E2C3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8BF20-4889-4C3B-B2A7-5E1F20D7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478B4-F9AA-48CE-9D7E-77D15FF2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81A00-5B98-4CD5-BA83-FCE7DDA9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25126-5E81-4CF2-A43F-0D24909C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65F81-0253-4530-B864-B22C8581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DA84D-7D71-43E8-BF3E-EFABC5F9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7BB1C-C4EE-4335-90F9-4A137054D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3F4D-CA8D-424F-8F77-F107D663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1DD1F-D300-435A-9509-6C6C9313F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BA69-ECB1-4E9C-9CAE-D94EFA6F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1CC5-CA31-4B34-BB38-90BED5E6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C37B-ED9D-4D32-86B4-4AFA8574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98A5-B000-4399-B02E-B382CE040F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D078-296F-41A2-80D2-44E8580C4865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E0F9-699C-43B5-9CF3-DA4B6CBDF7AD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D400-0E40-40B5-8148-D9D1EBD5B2B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D3F8-6C2A-4089-854A-38570769A1B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7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-181080" y="-458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684360" y="620640"/>
            <a:ext cx="5657760" cy="237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Unit 6 Toys</a:t>
            </a:r>
            <a:endParaRPr b="0" lang="en-US" sz="8000" spc="1" strike="noStrike">
              <a:ln w="2556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    </a:t>
            </a:r>
            <a:r>
              <a:rPr b="0" lang="en-US" sz="80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Part A</a:t>
            </a:r>
            <a:endParaRPr b="0" lang="en-US" sz="8000" spc="1" strike="noStrike">
              <a:ln w="2556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8" name=""/>
          <p:cNvSpPr/>
          <p:nvPr/>
        </p:nvSpPr>
        <p:spPr>
          <a:xfrm>
            <a:off x="3710160" y="4869000"/>
            <a:ext cx="357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00"/>
                </a:solidFill>
                <a:latin typeface="Arial"/>
              </a:rPr>
              <a:t>Miss    Sh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3724200" cy="52293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574880" y="2133720"/>
            <a:ext cx="397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00cc"/>
                </a:solidFill>
                <a:latin typeface="Arial"/>
              </a:rPr>
              <a:t>a  robo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6264360" cy="62136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828720" y="4237200"/>
            <a:ext cx="316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00cc"/>
                </a:solidFill>
                <a:latin typeface="Arial"/>
              </a:rPr>
              <a:t>a  kit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52675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Let’s  chant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2276640"/>
            <a:ext cx="8229600" cy="43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What’s  this?   what’s  this 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What  is  this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Robot ,  robot  ,It’s  a  robot.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What’s  that ?   what’s  that ?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What  is  that 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Kite , kite , It’s  a  kite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300720" y="0"/>
            <a:ext cx="2340000" cy="2023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451640" y="1773360"/>
            <a:ext cx="146376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4438800" cy="49989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902880" y="4653000"/>
            <a:ext cx="397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00cc"/>
                </a:solidFill>
                <a:latin typeface="Arial"/>
              </a:rPr>
              <a:t>a   bea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4392720" cy="40258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358160" y="4221000"/>
            <a:ext cx="347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00cc"/>
                </a:solidFill>
                <a:latin typeface="Arial"/>
              </a:rPr>
              <a:t>a   bal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645080" y="3933720"/>
            <a:ext cx="316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00cc"/>
                </a:solidFill>
                <a:latin typeface="Arial"/>
              </a:rPr>
              <a:t>a  dol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81080"/>
            <a:ext cx="4643280" cy="46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1942920" cy="2770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2916360" y="0"/>
            <a:ext cx="4824360" cy="48243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250920" y="3860640"/>
            <a:ext cx="2908080" cy="26654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5867280" y="3645000"/>
            <a:ext cx="3276720" cy="3213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6354720" y="0"/>
            <a:ext cx="278928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45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Let’s sing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71643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a doll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, this is </a:t>
            </a: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a doll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t’s  </a:t>
            </a: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blu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 It’s </a:t>
            </a: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blu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at’s </a:t>
            </a: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a bear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,that’s </a:t>
            </a: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a bear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t’s </a:t>
            </a: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brow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  It’s </a:t>
            </a: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brow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6354720" y="4005360"/>
            <a:ext cx="2789280" cy="28526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2700360" y="4365720"/>
            <a:ext cx="2663640" cy="2492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6877080" y="404640"/>
            <a:ext cx="22986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01:43:46Z</dcterms:created>
  <dc:creator>user</dc:creator>
  <dc:description/>
  <dc:language>en-US</dc:language>
  <cp:lastModifiedBy>user</cp:lastModifiedBy>
  <dcterms:modified xsi:type="dcterms:W3CDTF">2009-05-02T00:45:27Z</dcterms:modified>
  <cp:revision>7</cp:revision>
  <dc:subject/>
  <dc:title>幻灯片 1</dc:title>
</cp:coreProperties>
</file>