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6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30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jpeg" ContentType="image/jpeg"/>
  <Override PartName="/ppt/media/image11.jpeg" ContentType="image/jpeg"/>
  <Override PartName="/ppt/media/image1.gif" ContentType="image/gif"/>
  <Override PartName="/ppt/media/image13.jpeg" ContentType="image/jpeg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E56-F122-4C9E-B533-E38E986A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9D3-0960-4C7C-862A-D0E46063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314-239D-4E7B-8B40-4F248286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770-7632-48CE-AEB0-DF03E52C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EF9-501A-46AE-80BE-E4536C15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7E6-53C5-4D1A-B181-7F510404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3BB-724E-40B9-A3FD-38CB74E3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2A0-A07B-42CB-83F6-69FD6607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A80-527A-4D7A-8117-1B221E56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705-4CE8-4DD7-9EC1-C98D3421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104-E0A6-436E-BF74-0F16F647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67E-67DF-47CA-8C7E-1CF358FB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1AE1-E43B-405F-9A2B-0BECFC1BE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7.jpeg"/><Relationship Id="rId5" Type="http://schemas.openxmlformats.org/officeDocument/2006/relationships/image" Target="../media/image22.jpeg"/><Relationship Id="rId6" Type="http://schemas.openxmlformats.org/officeDocument/2006/relationships/image" Target="../media/image19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752480" y="2057400"/>
            <a:ext cx="6629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 Black"/>
              </a:rPr>
              <a:t>How do you go there?</a:t>
            </a: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Par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u=575099550,2903796551&amp;fm=0&amp;gp=0"/>
          <p:cNvPicPr/>
          <p:nvPr/>
        </p:nvPicPr>
        <p:blipFill>
          <a:blip r:embed="rId1"/>
          <a:stretch/>
        </p:blipFill>
        <p:spPr>
          <a:xfrm>
            <a:off x="7391520" y="152280"/>
            <a:ext cx="175248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7162920" y="2652840"/>
            <a:ext cx="121896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图片2"/>
          <p:cNvPicPr/>
          <p:nvPr/>
        </p:nvPicPr>
        <p:blipFill>
          <a:blip r:embed="rId2"/>
          <a:stretch/>
        </p:blipFill>
        <p:spPr>
          <a:xfrm>
            <a:off x="23760" y="5105520"/>
            <a:ext cx="1447920" cy="10778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20120118030222-629770866_副本.png"/>
          <p:cNvPicPr/>
          <p:nvPr/>
        </p:nvPicPr>
        <p:blipFill>
          <a:blip r:embed="rId3"/>
          <a:stretch/>
        </p:blipFill>
        <p:spPr>
          <a:xfrm>
            <a:off x="1311120" y="1347840"/>
            <a:ext cx="21384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on foot"/>
          <p:cNvPicPr/>
          <p:nvPr/>
        </p:nvPicPr>
        <p:blipFill>
          <a:blip r:embed="rId1"/>
          <a:stretch/>
        </p:blipFill>
        <p:spPr>
          <a:xfrm>
            <a:off x="468360" y="1125360"/>
            <a:ext cx="3699000" cy="525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by bike"/>
          <p:cNvPicPr/>
          <p:nvPr/>
        </p:nvPicPr>
        <p:blipFill>
          <a:blip r:embed="rId2"/>
          <a:stretch/>
        </p:blipFill>
        <p:spPr>
          <a:xfrm>
            <a:off x="5076720" y="1197000"/>
            <a:ext cx="3648240" cy="51134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7"/>
          <p:cNvSpPr/>
          <p:nvPr/>
        </p:nvSpPr>
        <p:spPr>
          <a:xfrm>
            <a:off x="684360" y="5300640"/>
            <a:ext cx="3456000" cy="1008000"/>
          </a:xfrm>
          <a:custGeom>
            <a:avLst/>
            <a:gdLst>
              <a:gd name="textAreaLeft" fmla="*/ 65160 w 3456000"/>
              <a:gd name="textAreaRight" fmla="*/ 3390840 w 3456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74038" h="21600">
                <a:moveTo>
                  <a:pt x="0" y="0"/>
                </a:moveTo>
                <a:lnTo>
                  <a:pt x="74038" y="0"/>
                </a:lnTo>
                <a:lnTo>
                  <a:pt x="74038" y="21600"/>
                </a:lnTo>
                <a:lnTo>
                  <a:pt x="0" y="21600"/>
                </a:lnTo>
                <a:close/>
              </a:path>
              <a:path fill="lightenLess" w="74038" h="21600">
                <a:moveTo>
                  <a:pt x="0" y="0"/>
                </a:moveTo>
                <a:lnTo>
                  <a:pt x="74038" y="0"/>
                </a:lnTo>
                <a:lnTo>
                  <a:pt x="72638" y="1400"/>
                </a:lnTo>
                <a:lnTo>
                  <a:pt x="1400" y="1400"/>
                </a:lnTo>
                <a:close/>
              </a:path>
              <a:path fill="darken" w="74038" h="21600">
                <a:moveTo>
                  <a:pt x="74038" y="0"/>
                </a:moveTo>
                <a:lnTo>
                  <a:pt x="74038" y="21600"/>
                </a:lnTo>
                <a:lnTo>
                  <a:pt x="72638" y="20200"/>
                </a:lnTo>
                <a:lnTo>
                  <a:pt x="72638" y="1400"/>
                </a:lnTo>
                <a:close/>
              </a:path>
              <a:path fill="darkenLess" w="74038" h="21600">
                <a:moveTo>
                  <a:pt x="74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38" y="20200"/>
                </a:lnTo>
                <a:close/>
              </a:path>
              <a:path fill="lighten" w="74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38" h="21600">
                <a:moveTo>
                  <a:pt x="3701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74038" h="21600">
                <a:moveTo>
                  <a:pt x="38125" y="14281"/>
                </a:moveTo>
                <a:lnTo>
                  <a:pt x="38125" y="12323"/>
                </a:lnTo>
                <a:cubicBezTo>
                  <a:pt x="38125" y="11496"/>
                  <a:pt x="38455" y="10800"/>
                  <a:pt x="39056" y="10800"/>
                </a:cubicBezTo>
                <a:cubicBezTo>
                  <a:pt x="40187" y="10800"/>
                  <a:pt x="41084" y="9434"/>
                  <a:pt x="41084" y="7849"/>
                </a:cubicBezTo>
                <a:cubicBezTo>
                  <a:pt x="41084" y="5534"/>
                  <a:pt x="39230" y="3794"/>
                  <a:pt x="37019" y="3794"/>
                </a:cubicBezTo>
                <a:cubicBezTo>
                  <a:pt x="34808" y="3794"/>
                  <a:pt x="33137" y="5534"/>
                  <a:pt x="33137" y="7849"/>
                </a:cubicBezTo>
                <a:lnTo>
                  <a:pt x="34991" y="7849"/>
                </a:lnTo>
                <a:cubicBezTo>
                  <a:pt x="34991" y="6709"/>
                  <a:pt x="35914" y="5821"/>
                  <a:pt x="37019" y="5821"/>
                </a:cubicBezTo>
                <a:cubicBezTo>
                  <a:pt x="38125" y="5821"/>
                  <a:pt x="39056" y="6709"/>
                  <a:pt x="39056" y="7849"/>
                </a:cubicBezTo>
                <a:cubicBezTo>
                  <a:pt x="39056" y="8589"/>
                  <a:pt x="38586" y="9320"/>
                  <a:pt x="38125" y="9320"/>
                </a:cubicBezTo>
                <a:cubicBezTo>
                  <a:pt x="37019" y="9320"/>
                  <a:pt x="35914" y="10800"/>
                  <a:pt x="35914" y="12323"/>
                </a:cubicBezTo>
                <a:lnTo>
                  <a:pt x="3591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5219640" y="5373720"/>
            <a:ext cx="3313080" cy="863640"/>
          </a:xfrm>
          <a:custGeom>
            <a:avLst/>
            <a:gdLst>
              <a:gd name="textAreaLeft" fmla="*/ 55800 w 3313080"/>
              <a:gd name="textAreaRight" fmla="*/ 3257280 w 33130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82836" h="21600">
                <a:moveTo>
                  <a:pt x="0" y="0"/>
                </a:moveTo>
                <a:lnTo>
                  <a:pt x="82836" y="0"/>
                </a:lnTo>
                <a:lnTo>
                  <a:pt x="82836" y="21600"/>
                </a:lnTo>
                <a:lnTo>
                  <a:pt x="0" y="21600"/>
                </a:lnTo>
                <a:close/>
              </a:path>
              <a:path fill="lightenLess" w="82836" h="21600">
                <a:moveTo>
                  <a:pt x="0" y="0"/>
                </a:moveTo>
                <a:lnTo>
                  <a:pt x="82836" y="0"/>
                </a:lnTo>
                <a:lnTo>
                  <a:pt x="81436" y="1400"/>
                </a:lnTo>
                <a:lnTo>
                  <a:pt x="1400" y="1400"/>
                </a:lnTo>
                <a:close/>
              </a:path>
              <a:path fill="darken" w="82836" h="21600">
                <a:moveTo>
                  <a:pt x="82836" y="0"/>
                </a:moveTo>
                <a:lnTo>
                  <a:pt x="82836" y="21600"/>
                </a:lnTo>
                <a:lnTo>
                  <a:pt x="81436" y="20200"/>
                </a:lnTo>
                <a:lnTo>
                  <a:pt x="81436" y="1400"/>
                </a:lnTo>
                <a:close/>
              </a:path>
              <a:path fill="darkenLess" w="82836" h="21600">
                <a:moveTo>
                  <a:pt x="82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436" y="20200"/>
                </a:lnTo>
                <a:close/>
              </a:path>
              <a:path fill="lighten" w="82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836" h="21600">
                <a:moveTo>
                  <a:pt x="414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2836" h="21600">
                <a:moveTo>
                  <a:pt x="42523" y="14281"/>
                </a:moveTo>
                <a:lnTo>
                  <a:pt x="42523" y="12323"/>
                </a:lnTo>
                <a:cubicBezTo>
                  <a:pt x="42523" y="11496"/>
                  <a:pt x="42854" y="10800"/>
                  <a:pt x="43455" y="10800"/>
                </a:cubicBezTo>
                <a:cubicBezTo>
                  <a:pt x="44586" y="10800"/>
                  <a:pt x="45483" y="9434"/>
                  <a:pt x="45483" y="7849"/>
                </a:cubicBezTo>
                <a:cubicBezTo>
                  <a:pt x="45483" y="5534"/>
                  <a:pt x="43629" y="3794"/>
                  <a:pt x="41418" y="3794"/>
                </a:cubicBezTo>
                <a:cubicBezTo>
                  <a:pt x="39207" y="3794"/>
                  <a:pt x="37536" y="5534"/>
                  <a:pt x="37536" y="7849"/>
                </a:cubicBezTo>
                <a:lnTo>
                  <a:pt x="39390" y="7849"/>
                </a:lnTo>
                <a:cubicBezTo>
                  <a:pt x="39390" y="6709"/>
                  <a:pt x="40313" y="5821"/>
                  <a:pt x="41418" y="5821"/>
                </a:cubicBezTo>
                <a:cubicBezTo>
                  <a:pt x="42523" y="5821"/>
                  <a:pt x="43455" y="6709"/>
                  <a:pt x="43455" y="7849"/>
                </a:cubicBezTo>
                <a:cubicBezTo>
                  <a:pt x="43455" y="8589"/>
                  <a:pt x="42985" y="9320"/>
                  <a:pt x="42523" y="9320"/>
                </a:cubicBezTo>
                <a:cubicBezTo>
                  <a:pt x="41418" y="9320"/>
                  <a:pt x="40313" y="10800"/>
                  <a:pt x="40313" y="12323"/>
                </a:cubicBezTo>
                <a:lnTo>
                  <a:pt x="4031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未命名"/>
          <p:cNvPicPr/>
          <p:nvPr/>
        </p:nvPicPr>
        <p:blipFill>
          <a:blip r:embed="rId1"/>
          <a:stretch/>
        </p:blipFill>
        <p:spPr>
          <a:xfrm>
            <a:off x="179280" y="765000"/>
            <a:ext cx="8713800" cy="5862960"/>
          </a:xfrm>
          <a:prstGeom prst="rect">
            <a:avLst/>
          </a:prstGeom>
          <a:ln w="0">
            <a:noFill/>
          </a:ln>
        </p:spPr>
      </p:pic>
      <p:pic>
        <p:nvPicPr>
          <p:cNvPr id="131" name="wt001b01.wav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32" name="wt001b02.wav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247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19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05120" y="17524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w do you go to school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057400" y="28195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 go to school……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228600" y="304920"/>
            <a:ext cx="8686800" cy="6350040"/>
            <a:chOff x="228600" y="304920"/>
            <a:chExt cx="8686800" cy="6350040"/>
          </a:xfrm>
        </p:grpSpPr>
        <p:pic>
          <p:nvPicPr>
            <p:cNvPr id="136" name="Picture 7" descr="17guohua13"/>
            <p:cNvPicPr/>
            <p:nvPr/>
          </p:nvPicPr>
          <p:blipFill>
            <a:blip r:embed="rId1"/>
            <a:stretch/>
          </p:blipFill>
          <p:spPr>
            <a:xfrm>
              <a:off x="228600" y="5094360"/>
              <a:ext cx="1981080" cy="15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8" descr="熊"/>
            <p:cNvPicPr/>
            <p:nvPr/>
          </p:nvPicPr>
          <p:blipFill>
            <a:blip r:embed="rId2"/>
            <a:stretch/>
          </p:blipFill>
          <p:spPr>
            <a:xfrm>
              <a:off x="7543800" y="304920"/>
              <a:ext cx="1371600" cy="12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"/>
          <p:cNvGrpSpPr/>
          <p:nvPr/>
        </p:nvGrpSpPr>
        <p:grpSpPr>
          <a:xfrm>
            <a:off x="228600" y="304920"/>
            <a:ext cx="8686800" cy="6350040"/>
            <a:chOff x="228600" y="304920"/>
            <a:chExt cx="8686800" cy="6350040"/>
          </a:xfrm>
        </p:grpSpPr>
        <p:pic>
          <p:nvPicPr>
            <p:cNvPr id="139" name="Picture 5" descr="17guohua13"/>
            <p:cNvPicPr/>
            <p:nvPr/>
          </p:nvPicPr>
          <p:blipFill>
            <a:blip r:embed="rId1"/>
            <a:stretch/>
          </p:blipFill>
          <p:spPr>
            <a:xfrm>
              <a:off x="228600" y="5094360"/>
              <a:ext cx="1981080" cy="15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熊"/>
            <p:cNvPicPr/>
            <p:nvPr/>
          </p:nvPicPr>
          <p:blipFill>
            <a:blip r:embed="rId2"/>
            <a:stretch/>
          </p:blipFill>
          <p:spPr>
            <a:xfrm>
              <a:off x="7543800" y="304920"/>
              <a:ext cx="1371600" cy="122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9"/>
          <p:cNvGrpSpPr/>
          <p:nvPr/>
        </p:nvGrpSpPr>
        <p:grpSpPr>
          <a:xfrm>
            <a:off x="1371600" y="1066680"/>
            <a:ext cx="6705360" cy="5257440"/>
            <a:chOff x="1371600" y="1066680"/>
            <a:chExt cx="6705360" cy="5257440"/>
          </a:xfrm>
        </p:grpSpPr>
        <p:pic>
          <p:nvPicPr>
            <p:cNvPr id="142" name="Picture 10" descr="snake"/>
            <p:cNvPicPr/>
            <p:nvPr/>
          </p:nvPicPr>
          <p:blipFill>
            <a:blip r:embed="rId3"/>
            <a:stretch/>
          </p:blipFill>
          <p:spPr>
            <a:xfrm>
              <a:off x="1371600" y="1066680"/>
              <a:ext cx="670536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1"/>
            <p:cNvSpPr/>
            <p:nvPr/>
          </p:nvSpPr>
          <p:spPr>
            <a:xfrm>
              <a:off x="3255120" y="1767240"/>
              <a:ext cx="826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4309920" y="1680480"/>
              <a:ext cx="1280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5592240" y="1680480"/>
              <a:ext cx="826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4"/>
            <p:cNvSpPr/>
            <p:nvPr/>
          </p:nvSpPr>
          <p:spPr>
            <a:xfrm>
              <a:off x="6797880" y="2292840"/>
              <a:ext cx="827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6193440" y="3256560"/>
              <a:ext cx="9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ff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5064120" y="3256560"/>
              <a:ext cx="97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4309920" y="3195000"/>
              <a:ext cx="97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o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3029040" y="3169800"/>
              <a:ext cx="9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ij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049120" y="3432600"/>
              <a:ext cx="9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ish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1673640" y="4396320"/>
              <a:ext cx="1206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nd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1"/>
            <p:cNvSpPr/>
            <p:nvPr/>
          </p:nvSpPr>
          <p:spPr>
            <a:xfrm>
              <a:off x="2500920" y="4921560"/>
              <a:ext cx="12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na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2"/>
            <p:cNvSpPr/>
            <p:nvPr/>
          </p:nvSpPr>
          <p:spPr>
            <a:xfrm>
              <a:off x="3706920" y="4921560"/>
              <a:ext cx="12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iw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3"/>
            <p:cNvSpPr/>
            <p:nvPr/>
          </p:nvSpPr>
          <p:spPr>
            <a:xfrm>
              <a:off x="4838040" y="4834800"/>
              <a:ext cx="135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engd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243000" y="304920"/>
            <a:ext cx="8686800" cy="6350040"/>
            <a:chOff x="243000" y="304920"/>
            <a:chExt cx="8686800" cy="6350040"/>
          </a:xfrm>
        </p:grpSpPr>
        <p:pic>
          <p:nvPicPr>
            <p:cNvPr id="157" name="Picture 5" descr="17guohua13"/>
            <p:cNvPicPr/>
            <p:nvPr/>
          </p:nvPicPr>
          <p:blipFill>
            <a:blip r:embed="rId1"/>
            <a:stretch/>
          </p:blipFill>
          <p:spPr>
            <a:xfrm>
              <a:off x="243000" y="5094360"/>
              <a:ext cx="1981080" cy="15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6" descr="熊"/>
            <p:cNvPicPr/>
            <p:nvPr/>
          </p:nvPicPr>
          <p:blipFill>
            <a:blip r:embed="rId2"/>
            <a:stretch/>
          </p:blipFill>
          <p:spPr>
            <a:xfrm>
              <a:off x="7558200" y="304920"/>
              <a:ext cx="1371600" cy="122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Diagram 24"/>
          <p:cNvGrpSpPr/>
          <p:nvPr/>
        </p:nvGrpSpPr>
        <p:grpSpPr>
          <a:xfrm>
            <a:off x="2729160" y="815400"/>
            <a:ext cx="3075840" cy="2613600"/>
            <a:chOff x="2729160" y="815400"/>
            <a:chExt cx="3075840" cy="2613600"/>
          </a:xfrm>
        </p:grpSpPr>
        <p:sp>
          <p:nvSpPr>
            <p:cNvPr id="160" name="_s1028"/>
            <p:cNvSpPr/>
            <p:nvPr/>
          </p:nvSpPr>
          <p:spPr>
            <a:xfrm>
              <a:off x="3639240" y="834120"/>
              <a:ext cx="1256040" cy="107460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29"/>
            <p:cNvSpPr/>
            <p:nvPr/>
          </p:nvSpPr>
          <p:spPr>
            <a:xfrm rot="3060000">
              <a:off x="4354200" y="1001160"/>
              <a:ext cx="1074600" cy="1256040"/>
            </a:xfrm>
            <a:custGeom>
              <a:avLst/>
              <a:gdLst>
                <a:gd name="textAreaLeft" fmla="*/ 0 w 1074600"/>
                <a:gd name="textAreaRight" fmla="*/ 1074960 w 1074600"/>
                <a:gd name="textAreaTop" fmla="*/ 0 h 1256040"/>
                <a:gd name="textAreaBottom" fmla="*/ 1256400 h 125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30"/>
            <p:cNvSpPr/>
            <p:nvPr/>
          </p:nvSpPr>
          <p:spPr>
            <a:xfrm rot="6180000">
              <a:off x="4507560" y="1579680"/>
              <a:ext cx="1074600" cy="1256040"/>
            </a:xfrm>
            <a:custGeom>
              <a:avLst/>
              <a:gdLst>
                <a:gd name="textAreaLeft" fmla="*/ 0 w 1074600"/>
                <a:gd name="textAreaRight" fmla="*/ 1074960 w 1074600"/>
                <a:gd name="textAreaTop" fmla="*/ 0 h 1256040"/>
                <a:gd name="textAreaBottom" fmla="*/ 1256400 h 125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1"/>
            <p:cNvSpPr/>
            <p:nvPr/>
          </p:nvSpPr>
          <p:spPr>
            <a:xfrm rot="9240000">
              <a:off x="3984840" y="2133360"/>
              <a:ext cx="1256040" cy="107460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2"/>
            <p:cNvSpPr/>
            <p:nvPr/>
          </p:nvSpPr>
          <p:spPr>
            <a:xfrm rot="12360000">
              <a:off x="3291120" y="2133000"/>
              <a:ext cx="1256040" cy="107460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3"/>
            <p:cNvSpPr/>
            <p:nvPr/>
          </p:nvSpPr>
          <p:spPr>
            <a:xfrm rot="15420000">
              <a:off x="2950200" y="1577520"/>
              <a:ext cx="1074600" cy="1256040"/>
            </a:xfrm>
            <a:custGeom>
              <a:avLst/>
              <a:gdLst>
                <a:gd name="textAreaLeft" fmla="*/ 0 w 1074600"/>
                <a:gd name="textAreaRight" fmla="*/ 1074960 w 1074600"/>
                <a:gd name="textAreaTop" fmla="*/ 0 h 1256040"/>
                <a:gd name="textAreaBottom" fmla="*/ 1256400 h 125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34"/>
            <p:cNvSpPr/>
            <p:nvPr/>
          </p:nvSpPr>
          <p:spPr>
            <a:xfrm rot="18540000">
              <a:off x="3105720" y="1000080"/>
              <a:ext cx="1074600" cy="1256040"/>
            </a:xfrm>
            <a:custGeom>
              <a:avLst/>
              <a:gdLst>
                <a:gd name="textAreaLeft" fmla="*/ 0 w 1074600"/>
                <a:gd name="textAreaRight" fmla="*/ 1074960 w 1074600"/>
                <a:gd name="textAreaTop" fmla="*/ 0 h 1256040"/>
                <a:gd name="textAreaBottom" fmla="*/ 1256400 h 125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35"/>
            <p:cNvSpPr/>
            <p:nvPr/>
          </p:nvSpPr>
          <p:spPr>
            <a:xfrm>
              <a:off x="5312880" y="1591560"/>
              <a:ext cx="4921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>
              <a:off x="5056920" y="2550600"/>
              <a:ext cx="49212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o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7"/>
            <p:cNvSpPr/>
            <p:nvPr/>
          </p:nvSpPr>
          <p:spPr>
            <a:xfrm>
              <a:off x="4595760" y="822960"/>
              <a:ext cx="49212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38"/>
            <p:cNvSpPr/>
            <p:nvPr/>
          </p:nvSpPr>
          <p:spPr>
            <a:xfrm>
              <a:off x="4021920" y="2977560"/>
              <a:ext cx="49212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bw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39"/>
            <p:cNvSpPr/>
            <p:nvPr/>
          </p:nvSpPr>
          <p:spPr>
            <a:xfrm>
              <a:off x="2985840" y="2551320"/>
              <a:ext cx="49212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40"/>
            <p:cNvSpPr/>
            <p:nvPr/>
          </p:nvSpPr>
          <p:spPr>
            <a:xfrm>
              <a:off x="2729160" y="1592280"/>
              <a:ext cx="49212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41"/>
            <p:cNvSpPr/>
            <p:nvPr/>
          </p:nvSpPr>
          <p:spPr>
            <a:xfrm>
              <a:off x="3445200" y="822960"/>
              <a:ext cx="49212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40"/>
          <p:cNvSpPr/>
          <p:nvPr/>
        </p:nvSpPr>
        <p:spPr>
          <a:xfrm>
            <a:off x="2122560" y="3506760"/>
            <a:ext cx="6035760" cy="31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do you go to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metimes by bike, Sometimes by bi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But I never go by t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do you get to Par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Never on foot, never by bi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lways by car, bus, or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3200400" y="228600"/>
            <a:ext cx="2519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et’s  Ch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1256370673cm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533520" y="1100160"/>
            <a:ext cx="8153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I'm not a bird. But I can fly. I'm very big. I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don’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eat. What am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553080" y="4495680"/>
            <a:ext cx="1676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l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WordArt 14" descr=""/>
          <p:cNvPicPr/>
          <p:nvPr/>
        </p:nvPicPr>
        <p:blipFill>
          <a:blip r:embed="rId2"/>
          <a:stretch/>
        </p:blipFill>
        <p:spPr>
          <a:xfrm>
            <a:off x="523800" y="-6480"/>
            <a:ext cx="3451320" cy="10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plane"/>
          <p:cNvPicPr/>
          <p:nvPr/>
        </p:nvPicPr>
        <p:blipFill>
          <a:blip r:embed="rId3"/>
          <a:stretch/>
        </p:blipFill>
        <p:spPr>
          <a:xfrm>
            <a:off x="685800" y="2666880"/>
            <a:ext cx="4992840" cy="306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"/>
          <p:cNvPicPr/>
          <p:nvPr/>
        </p:nvPicPr>
        <p:blipFill>
          <a:blip r:embed="rId4"/>
          <a:stretch/>
        </p:blipFill>
        <p:spPr>
          <a:xfrm>
            <a:off x="80010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7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256370673cm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57200" y="1066680"/>
            <a:ext cx="8153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I live in the sea. I can swim. But I’m not a fish. I’m a traffic tool.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交通工具）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Please tell me“What am I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400800" y="4572000"/>
            <a:ext cx="1676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h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WordArt 9" descr=""/>
          <p:cNvPicPr/>
          <p:nvPr/>
        </p:nvPicPr>
        <p:blipFill>
          <a:blip r:embed="rId2"/>
          <a:stretch/>
        </p:blipFill>
        <p:spPr>
          <a:xfrm>
            <a:off x="523800" y="-6480"/>
            <a:ext cx="3451320" cy="104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ship"/>
          <p:cNvPicPr/>
          <p:nvPr/>
        </p:nvPicPr>
        <p:blipFill>
          <a:blip r:embed="rId3"/>
          <a:stretch/>
        </p:blipFill>
        <p:spPr>
          <a:xfrm>
            <a:off x="533520" y="3048120"/>
            <a:ext cx="4992480" cy="306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4"/>
          <a:stretch/>
        </p:blipFill>
        <p:spPr>
          <a:xfrm>
            <a:off x="7772400" y="45720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1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256370673cm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WordArt 5" descr=""/>
          <p:cNvPicPr/>
          <p:nvPr/>
        </p:nvPicPr>
        <p:blipFill>
          <a:blip r:embed="rId2"/>
          <a:stretch/>
        </p:blipFill>
        <p:spPr>
          <a:xfrm>
            <a:off x="523800" y="-6480"/>
            <a:ext cx="3451320" cy="1043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228600" y="1371600"/>
            <a:ext cx="83059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’m a traffic tool. I’m very long and have many feet. What am 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400800" y="4724280"/>
            <a:ext cx="1523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i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train"/>
          <p:cNvPicPr/>
          <p:nvPr/>
        </p:nvPicPr>
        <p:blipFill>
          <a:blip r:embed="rId3"/>
          <a:stretch/>
        </p:blipFill>
        <p:spPr>
          <a:xfrm>
            <a:off x="533520" y="3276720"/>
            <a:ext cx="4992480" cy="306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4"/>
          <a:stretch/>
        </p:blipFill>
        <p:spPr>
          <a:xfrm>
            <a:off x="7696080" y="4952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71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256370673cm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WordArt 5" descr=""/>
          <p:cNvPicPr/>
          <p:nvPr/>
        </p:nvPicPr>
        <p:blipFill>
          <a:blip r:embed="rId2"/>
          <a:stretch/>
        </p:blipFill>
        <p:spPr>
          <a:xfrm>
            <a:off x="523800" y="-6480"/>
            <a:ext cx="3451320" cy="1043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04920" y="1143000"/>
            <a:ext cx="8610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’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a kind of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一种）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trai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’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under the ground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地面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. I run fast.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943600" y="426708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subway"/>
          <p:cNvPicPr/>
          <p:nvPr/>
        </p:nvPicPr>
        <p:blipFill>
          <a:blip r:embed="rId3"/>
          <a:stretch/>
        </p:blipFill>
        <p:spPr>
          <a:xfrm>
            <a:off x="533520" y="2895480"/>
            <a:ext cx="4992480" cy="3060720"/>
          </a:xfrm>
          <a:prstGeom prst="rect">
            <a:avLst/>
          </a:prstGeom>
          <a:ln w="0">
            <a:noFill/>
          </a:ln>
        </p:spPr>
      </p:pic>
      <p:pic>
        <p:nvPicPr>
          <p:cNvPr id="69" name="subway.wav" descr=""/>
          <p:cNvPicPr/>
          <p:nvPr/>
        </p:nvPicPr>
        <p:blipFill>
          <a:blip r:embed="rId4"/>
          <a:stretch/>
        </p:blipFill>
        <p:spPr>
          <a:xfrm>
            <a:off x="7620120" y="44197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48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0"/>
          <p:cNvGrpSpPr/>
          <p:nvPr/>
        </p:nvGrpSpPr>
        <p:grpSpPr>
          <a:xfrm>
            <a:off x="228600" y="304920"/>
            <a:ext cx="8686800" cy="6350040"/>
            <a:chOff x="228600" y="304920"/>
            <a:chExt cx="8686800" cy="6350040"/>
          </a:xfrm>
        </p:grpSpPr>
        <p:pic>
          <p:nvPicPr>
            <p:cNvPr id="71" name="Picture 6" descr="17guohua13"/>
            <p:cNvPicPr/>
            <p:nvPr/>
          </p:nvPicPr>
          <p:blipFill>
            <a:blip r:embed="rId1"/>
            <a:stretch/>
          </p:blipFill>
          <p:spPr>
            <a:xfrm>
              <a:off x="228600" y="5094360"/>
              <a:ext cx="1981080" cy="15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9" descr="熊"/>
            <p:cNvPicPr/>
            <p:nvPr/>
          </p:nvPicPr>
          <p:blipFill>
            <a:blip r:embed="rId2"/>
            <a:stretch/>
          </p:blipFill>
          <p:spPr>
            <a:xfrm>
              <a:off x="7543800" y="304920"/>
              <a:ext cx="1371600" cy="122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12" descr="bus"/>
          <p:cNvPicPr/>
          <p:nvPr/>
        </p:nvPicPr>
        <p:blipFill>
          <a:blip r:embed="rId3"/>
          <a:stretch/>
        </p:blipFill>
        <p:spPr>
          <a:xfrm>
            <a:off x="6342120" y="1133640"/>
            <a:ext cx="2160360" cy="143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步行"/>
          <p:cNvPicPr/>
          <p:nvPr/>
        </p:nvPicPr>
        <p:blipFill>
          <a:blip r:embed="rId4"/>
          <a:stretch/>
        </p:blipFill>
        <p:spPr>
          <a:xfrm>
            <a:off x="6773760" y="3524400"/>
            <a:ext cx="212400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地铁"/>
          <p:cNvPicPr/>
          <p:nvPr/>
        </p:nvPicPr>
        <p:blipFill>
          <a:blip r:embed="rId5"/>
          <a:stretch/>
        </p:blipFill>
        <p:spPr>
          <a:xfrm>
            <a:off x="2525760" y="351000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飞机"/>
          <p:cNvPicPr/>
          <p:nvPr/>
        </p:nvPicPr>
        <p:blipFill>
          <a:blip r:embed="rId6"/>
          <a:stretch/>
        </p:blipFill>
        <p:spPr>
          <a:xfrm>
            <a:off x="581040" y="106200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火车"/>
          <p:cNvPicPr/>
          <p:nvPr/>
        </p:nvPicPr>
        <p:blipFill>
          <a:blip r:embed="rId7"/>
          <a:stretch/>
        </p:blipFill>
        <p:spPr>
          <a:xfrm>
            <a:off x="185760" y="3510000"/>
            <a:ext cx="2160720" cy="155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轮船"/>
          <p:cNvPicPr/>
          <p:nvPr/>
        </p:nvPicPr>
        <p:blipFill>
          <a:blip r:embed="rId8"/>
          <a:stretch/>
        </p:blipFill>
        <p:spPr>
          <a:xfrm>
            <a:off x="3749760" y="1133640"/>
            <a:ext cx="2087640" cy="1368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8"/>
          <p:cNvSpPr/>
          <p:nvPr/>
        </p:nvSpPr>
        <p:spPr>
          <a:xfrm>
            <a:off x="1157400" y="2587680"/>
            <a:ext cx="1304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541760" y="2573280"/>
            <a:ext cx="86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7133040" y="2610000"/>
            <a:ext cx="723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941400" y="5396040"/>
            <a:ext cx="96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2901960" y="5237280"/>
            <a:ext cx="154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b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5261760" y="5216400"/>
            <a:ext cx="8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7566120" y="5353200"/>
            <a:ext cx="1044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5" descr="自行车"/>
          <p:cNvPicPr/>
          <p:nvPr/>
        </p:nvPicPr>
        <p:blipFill>
          <a:blip r:embed="rId9"/>
          <a:stretch/>
        </p:blipFill>
        <p:spPr>
          <a:xfrm>
            <a:off x="4686480" y="3581280"/>
            <a:ext cx="19414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28"/>
          <p:cNvGrpSpPr/>
          <p:nvPr/>
        </p:nvGrpSpPr>
        <p:grpSpPr>
          <a:xfrm>
            <a:off x="2590920" y="304920"/>
            <a:ext cx="3581280" cy="685800"/>
            <a:chOff x="2590920" y="304920"/>
            <a:chExt cx="3581280" cy="685800"/>
          </a:xfrm>
        </p:grpSpPr>
        <p:sp>
          <p:nvSpPr>
            <p:cNvPr id="88" name="AutoShape 26"/>
            <p:cNvSpPr/>
            <p:nvPr/>
          </p:nvSpPr>
          <p:spPr>
            <a:xfrm>
              <a:off x="2590920" y="304920"/>
              <a:ext cx="3581280" cy="685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7"/>
            <p:cNvSpPr/>
            <p:nvPr/>
          </p:nvSpPr>
          <p:spPr>
            <a:xfrm>
              <a:off x="3071880" y="3762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Comic Sans MS"/>
                </a:rPr>
                <a:t>Let’s  lear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"/>
          <p:cNvGrpSpPr/>
          <p:nvPr/>
        </p:nvGrpSpPr>
        <p:grpSpPr>
          <a:xfrm>
            <a:off x="101520" y="1065240"/>
            <a:ext cx="8894880" cy="4896000"/>
            <a:chOff x="101520" y="1065240"/>
            <a:chExt cx="8894880" cy="4896000"/>
          </a:xfrm>
        </p:grpSpPr>
        <p:pic>
          <p:nvPicPr>
            <p:cNvPr id="91" name="Picture 5" descr="飞机"/>
            <p:cNvPicPr/>
            <p:nvPr/>
          </p:nvPicPr>
          <p:blipFill>
            <a:blip r:embed="rId1"/>
            <a:stretch/>
          </p:blipFill>
          <p:spPr>
            <a:xfrm>
              <a:off x="750960" y="1065240"/>
              <a:ext cx="20160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轮船"/>
            <p:cNvPicPr/>
            <p:nvPr/>
          </p:nvPicPr>
          <p:blipFill>
            <a:blip r:embed="rId2"/>
            <a:stretch/>
          </p:blipFill>
          <p:spPr>
            <a:xfrm>
              <a:off x="3343320" y="1065240"/>
              <a:ext cx="1944720" cy="14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7" descr="公共汽车"/>
            <p:cNvPicPr/>
            <p:nvPr/>
          </p:nvPicPr>
          <p:blipFill>
            <a:blip r:embed="rId3"/>
            <a:stretch/>
          </p:blipFill>
          <p:spPr>
            <a:xfrm>
              <a:off x="6080040" y="1136880"/>
              <a:ext cx="1943280" cy="14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火车"/>
            <p:cNvPicPr/>
            <p:nvPr/>
          </p:nvPicPr>
          <p:blipFill>
            <a:blip r:embed="rId4"/>
            <a:stretch/>
          </p:blipFill>
          <p:spPr>
            <a:xfrm>
              <a:off x="101520" y="3657960"/>
              <a:ext cx="2089440" cy="15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9" descr="地铁"/>
            <p:cNvPicPr/>
            <p:nvPr/>
          </p:nvPicPr>
          <p:blipFill>
            <a:blip r:embed="rId5"/>
            <a:stretch/>
          </p:blipFill>
          <p:spPr>
            <a:xfrm>
              <a:off x="2335320" y="3657960"/>
              <a:ext cx="2160720" cy="16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0" descr="自行车"/>
            <p:cNvPicPr/>
            <p:nvPr/>
          </p:nvPicPr>
          <p:blipFill>
            <a:blip r:embed="rId6"/>
            <a:stretch/>
          </p:blipFill>
          <p:spPr>
            <a:xfrm>
              <a:off x="4567320" y="3657960"/>
              <a:ext cx="21607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1" descr="步行"/>
            <p:cNvPicPr/>
            <p:nvPr/>
          </p:nvPicPr>
          <p:blipFill>
            <a:blip r:embed="rId7"/>
            <a:stretch/>
          </p:blipFill>
          <p:spPr>
            <a:xfrm>
              <a:off x="6872400" y="3657960"/>
              <a:ext cx="2124000" cy="166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1471680" y="2794320"/>
              <a:ext cx="934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pl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4062600" y="2794320"/>
              <a:ext cx="934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shi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6799320" y="2794320"/>
              <a:ext cx="934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bu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5"/>
            <p:cNvSpPr/>
            <p:nvPr/>
          </p:nvSpPr>
          <p:spPr>
            <a:xfrm>
              <a:off x="822240" y="5457960"/>
              <a:ext cx="935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tra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6"/>
            <p:cNvSpPr/>
            <p:nvPr/>
          </p:nvSpPr>
          <p:spPr>
            <a:xfrm>
              <a:off x="2982960" y="5457960"/>
              <a:ext cx="934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subwa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5288040" y="5457960"/>
              <a:ext cx="934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bik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8"/>
            <p:cNvSpPr/>
            <p:nvPr/>
          </p:nvSpPr>
          <p:spPr>
            <a:xfrm>
              <a:off x="7520040" y="5529600"/>
              <a:ext cx="934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00ff"/>
                  </a:solidFill>
                  <a:latin typeface="Times New Roman"/>
                </a:rPr>
                <a:t>fo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19"/>
          <p:cNvSpPr/>
          <p:nvPr/>
        </p:nvSpPr>
        <p:spPr>
          <a:xfrm>
            <a:off x="915840" y="27781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7088040" y="5499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3662280" y="27734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6429240" y="27734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80880" y="54259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2263680" y="5405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4835520" y="5416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6"/>
          <p:cNvGrpSpPr/>
          <p:nvPr/>
        </p:nvGrpSpPr>
        <p:grpSpPr>
          <a:xfrm>
            <a:off x="2590920" y="304920"/>
            <a:ext cx="3581280" cy="685800"/>
            <a:chOff x="2590920" y="304920"/>
            <a:chExt cx="3581280" cy="685800"/>
          </a:xfrm>
        </p:grpSpPr>
        <p:sp>
          <p:nvSpPr>
            <p:cNvPr id="113" name="AutoShape 27"/>
            <p:cNvSpPr/>
            <p:nvPr/>
          </p:nvSpPr>
          <p:spPr>
            <a:xfrm>
              <a:off x="2590920" y="304920"/>
              <a:ext cx="3581280" cy="685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8"/>
            <p:cNvSpPr/>
            <p:nvPr/>
          </p:nvSpPr>
          <p:spPr>
            <a:xfrm>
              <a:off x="3071880" y="37620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Comic Sans MS"/>
                </a:rPr>
                <a:t>Let’s  lear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y train"/>
          <p:cNvPicPr/>
          <p:nvPr/>
        </p:nvPicPr>
        <p:blipFill>
          <a:blip r:embed="rId1"/>
          <a:stretch/>
        </p:blipFill>
        <p:spPr>
          <a:xfrm>
            <a:off x="4932360" y="1149480"/>
            <a:ext cx="3600360" cy="5257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by plane"/>
          <p:cNvPicPr/>
          <p:nvPr/>
        </p:nvPicPr>
        <p:blipFill>
          <a:blip r:embed="rId2"/>
          <a:stretch/>
        </p:blipFill>
        <p:spPr>
          <a:xfrm>
            <a:off x="539640" y="1047600"/>
            <a:ext cx="3795840" cy="554544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6"/>
          <p:cNvSpPr/>
          <p:nvPr/>
        </p:nvSpPr>
        <p:spPr>
          <a:xfrm>
            <a:off x="611280" y="5284800"/>
            <a:ext cx="3671640" cy="1150920"/>
          </a:xfrm>
          <a:custGeom>
            <a:avLst/>
            <a:gdLst>
              <a:gd name="textAreaLeft" fmla="*/ 74520 w 3671640"/>
              <a:gd name="textAreaRight" fmla="*/ 3597120 w 367164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68893" h="21600">
                <a:moveTo>
                  <a:pt x="0" y="0"/>
                </a:moveTo>
                <a:lnTo>
                  <a:pt x="68893" y="0"/>
                </a:lnTo>
                <a:lnTo>
                  <a:pt x="68893" y="21600"/>
                </a:lnTo>
                <a:lnTo>
                  <a:pt x="0" y="21600"/>
                </a:lnTo>
                <a:close/>
              </a:path>
              <a:path fill="lightenLess" w="68893" h="21600">
                <a:moveTo>
                  <a:pt x="0" y="0"/>
                </a:moveTo>
                <a:lnTo>
                  <a:pt x="68893" y="0"/>
                </a:lnTo>
                <a:lnTo>
                  <a:pt x="67493" y="1400"/>
                </a:lnTo>
                <a:lnTo>
                  <a:pt x="1400" y="1400"/>
                </a:lnTo>
                <a:close/>
              </a:path>
              <a:path fill="darken" w="68893" h="21600">
                <a:moveTo>
                  <a:pt x="68893" y="0"/>
                </a:moveTo>
                <a:lnTo>
                  <a:pt x="68893" y="21600"/>
                </a:lnTo>
                <a:lnTo>
                  <a:pt x="67493" y="20200"/>
                </a:lnTo>
                <a:lnTo>
                  <a:pt x="67493" y="1400"/>
                </a:lnTo>
                <a:close/>
              </a:path>
              <a:path fill="darkenLess" w="68893" h="21600">
                <a:moveTo>
                  <a:pt x="68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493" y="20200"/>
                </a:lnTo>
                <a:close/>
              </a:path>
              <a:path fill="lighten" w="68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893" h="21600">
                <a:moveTo>
                  <a:pt x="3444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68893" h="21600">
                <a:moveTo>
                  <a:pt x="35552" y="14281"/>
                </a:moveTo>
                <a:lnTo>
                  <a:pt x="35552" y="12323"/>
                </a:lnTo>
                <a:cubicBezTo>
                  <a:pt x="35552" y="11496"/>
                  <a:pt x="35883" y="10800"/>
                  <a:pt x="36483" y="10800"/>
                </a:cubicBezTo>
                <a:cubicBezTo>
                  <a:pt x="37615" y="10800"/>
                  <a:pt x="38511" y="9434"/>
                  <a:pt x="38511" y="7849"/>
                </a:cubicBezTo>
                <a:cubicBezTo>
                  <a:pt x="38511" y="5534"/>
                  <a:pt x="36657" y="3794"/>
                  <a:pt x="34447" y="3794"/>
                </a:cubicBezTo>
                <a:cubicBezTo>
                  <a:pt x="32236" y="3794"/>
                  <a:pt x="30565" y="5534"/>
                  <a:pt x="30565" y="7849"/>
                </a:cubicBezTo>
                <a:lnTo>
                  <a:pt x="32419" y="7849"/>
                </a:lnTo>
                <a:cubicBezTo>
                  <a:pt x="32419" y="6709"/>
                  <a:pt x="33341" y="5821"/>
                  <a:pt x="34447" y="5821"/>
                </a:cubicBezTo>
                <a:cubicBezTo>
                  <a:pt x="35552" y="5821"/>
                  <a:pt x="36483" y="6709"/>
                  <a:pt x="36483" y="7849"/>
                </a:cubicBezTo>
                <a:cubicBezTo>
                  <a:pt x="36483" y="8589"/>
                  <a:pt x="36013" y="9320"/>
                  <a:pt x="35552" y="9320"/>
                </a:cubicBezTo>
                <a:cubicBezTo>
                  <a:pt x="34447" y="9320"/>
                  <a:pt x="33341" y="10800"/>
                  <a:pt x="33341" y="12323"/>
                </a:cubicBezTo>
                <a:lnTo>
                  <a:pt x="33341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952880" y="5238720"/>
            <a:ext cx="3672000" cy="1150920"/>
          </a:xfrm>
          <a:custGeom>
            <a:avLst/>
            <a:gdLst>
              <a:gd name="textAreaLeft" fmla="*/ 74520 w 3672000"/>
              <a:gd name="textAreaRight" fmla="*/ 3597480 w 367200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68900" h="21600">
                <a:moveTo>
                  <a:pt x="0" y="0"/>
                </a:moveTo>
                <a:lnTo>
                  <a:pt x="68900" y="0"/>
                </a:lnTo>
                <a:lnTo>
                  <a:pt x="68900" y="21600"/>
                </a:lnTo>
                <a:lnTo>
                  <a:pt x="0" y="21600"/>
                </a:lnTo>
                <a:close/>
              </a:path>
              <a:path fill="lightenLess" w="68900" h="21600">
                <a:moveTo>
                  <a:pt x="0" y="0"/>
                </a:moveTo>
                <a:lnTo>
                  <a:pt x="68900" y="0"/>
                </a:lnTo>
                <a:lnTo>
                  <a:pt x="67500" y="1400"/>
                </a:lnTo>
                <a:lnTo>
                  <a:pt x="1400" y="1400"/>
                </a:lnTo>
                <a:close/>
              </a:path>
              <a:path fill="darken" w="68900" h="21600">
                <a:moveTo>
                  <a:pt x="68900" y="0"/>
                </a:moveTo>
                <a:lnTo>
                  <a:pt x="68900" y="21600"/>
                </a:lnTo>
                <a:lnTo>
                  <a:pt x="67500" y="20200"/>
                </a:lnTo>
                <a:lnTo>
                  <a:pt x="67500" y="1400"/>
                </a:lnTo>
                <a:close/>
              </a:path>
              <a:path fill="darkenLess" w="68900" h="21600">
                <a:moveTo>
                  <a:pt x="68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500" y="20200"/>
                </a:lnTo>
                <a:close/>
              </a:path>
              <a:path fill="lighten" w="68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900" h="21600">
                <a:moveTo>
                  <a:pt x="3445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68900" h="21600">
                <a:moveTo>
                  <a:pt x="35555" y="14281"/>
                </a:moveTo>
                <a:lnTo>
                  <a:pt x="35555" y="12323"/>
                </a:lnTo>
                <a:cubicBezTo>
                  <a:pt x="35555" y="11496"/>
                  <a:pt x="35886" y="10800"/>
                  <a:pt x="36487" y="10800"/>
                </a:cubicBezTo>
                <a:cubicBezTo>
                  <a:pt x="37618" y="10800"/>
                  <a:pt x="38515" y="9434"/>
                  <a:pt x="38515" y="7849"/>
                </a:cubicBezTo>
                <a:cubicBezTo>
                  <a:pt x="38515" y="5534"/>
                  <a:pt x="36661" y="3794"/>
                  <a:pt x="34450" y="3794"/>
                </a:cubicBezTo>
                <a:cubicBezTo>
                  <a:pt x="32239" y="3794"/>
                  <a:pt x="30568" y="5534"/>
                  <a:pt x="30568" y="7849"/>
                </a:cubicBezTo>
                <a:lnTo>
                  <a:pt x="32422" y="7849"/>
                </a:lnTo>
                <a:cubicBezTo>
                  <a:pt x="32422" y="6709"/>
                  <a:pt x="33345" y="5821"/>
                  <a:pt x="34450" y="5821"/>
                </a:cubicBezTo>
                <a:cubicBezTo>
                  <a:pt x="35555" y="5821"/>
                  <a:pt x="36487" y="6709"/>
                  <a:pt x="36487" y="7849"/>
                </a:cubicBezTo>
                <a:cubicBezTo>
                  <a:pt x="36487" y="8589"/>
                  <a:pt x="36017" y="9320"/>
                  <a:pt x="35555" y="9320"/>
                </a:cubicBezTo>
                <a:cubicBezTo>
                  <a:pt x="34450" y="9320"/>
                  <a:pt x="33345" y="10800"/>
                  <a:pt x="33345" y="12323"/>
                </a:cubicBezTo>
                <a:lnTo>
                  <a:pt x="3334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64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ns of transportation 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通方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by subway"/>
          <p:cNvPicPr/>
          <p:nvPr/>
        </p:nvPicPr>
        <p:blipFill>
          <a:blip r:embed="rId1"/>
          <a:stretch/>
        </p:blipFill>
        <p:spPr>
          <a:xfrm>
            <a:off x="611280" y="1165320"/>
            <a:ext cx="3846600" cy="56163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838080" y="5707080"/>
            <a:ext cx="3672000" cy="1150920"/>
          </a:xfrm>
          <a:custGeom>
            <a:avLst/>
            <a:gdLst>
              <a:gd name="textAreaLeft" fmla="*/ 74520 w 3672000"/>
              <a:gd name="textAreaRight" fmla="*/ 3597480 w 367200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68900" h="21600">
                <a:moveTo>
                  <a:pt x="0" y="0"/>
                </a:moveTo>
                <a:lnTo>
                  <a:pt x="68900" y="0"/>
                </a:lnTo>
                <a:lnTo>
                  <a:pt x="68900" y="21600"/>
                </a:lnTo>
                <a:lnTo>
                  <a:pt x="0" y="21600"/>
                </a:lnTo>
                <a:close/>
              </a:path>
              <a:path fill="lightenLess" w="68900" h="21600">
                <a:moveTo>
                  <a:pt x="0" y="0"/>
                </a:moveTo>
                <a:lnTo>
                  <a:pt x="68900" y="0"/>
                </a:lnTo>
                <a:lnTo>
                  <a:pt x="67500" y="1400"/>
                </a:lnTo>
                <a:lnTo>
                  <a:pt x="1400" y="1400"/>
                </a:lnTo>
                <a:close/>
              </a:path>
              <a:path fill="darken" w="68900" h="21600">
                <a:moveTo>
                  <a:pt x="68900" y="0"/>
                </a:moveTo>
                <a:lnTo>
                  <a:pt x="68900" y="21600"/>
                </a:lnTo>
                <a:lnTo>
                  <a:pt x="67500" y="20200"/>
                </a:lnTo>
                <a:lnTo>
                  <a:pt x="67500" y="1400"/>
                </a:lnTo>
                <a:close/>
              </a:path>
              <a:path fill="darkenLess" w="68900" h="21600">
                <a:moveTo>
                  <a:pt x="68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500" y="20200"/>
                </a:lnTo>
                <a:close/>
              </a:path>
              <a:path fill="lighten" w="68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900" h="21600">
                <a:moveTo>
                  <a:pt x="3445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68900" h="21600">
                <a:moveTo>
                  <a:pt x="35555" y="14281"/>
                </a:moveTo>
                <a:lnTo>
                  <a:pt x="35555" y="12323"/>
                </a:lnTo>
                <a:cubicBezTo>
                  <a:pt x="35555" y="11496"/>
                  <a:pt x="35886" y="10800"/>
                  <a:pt x="36487" y="10800"/>
                </a:cubicBezTo>
                <a:cubicBezTo>
                  <a:pt x="37618" y="10800"/>
                  <a:pt x="38515" y="9434"/>
                  <a:pt x="38515" y="7849"/>
                </a:cubicBezTo>
                <a:cubicBezTo>
                  <a:pt x="38515" y="5534"/>
                  <a:pt x="36661" y="3794"/>
                  <a:pt x="34450" y="3794"/>
                </a:cubicBezTo>
                <a:cubicBezTo>
                  <a:pt x="32239" y="3794"/>
                  <a:pt x="30568" y="5534"/>
                  <a:pt x="30568" y="7849"/>
                </a:cubicBezTo>
                <a:lnTo>
                  <a:pt x="32422" y="7849"/>
                </a:lnTo>
                <a:cubicBezTo>
                  <a:pt x="32422" y="6709"/>
                  <a:pt x="33345" y="5821"/>
                  <a:pt x="34450" y="5821"/>
                </a:cubicBezTo>
                <a:cubicBezTo>
                  <a:pt x="35555" y="5821"/>
                  <a:pt x="36487" y="6709"/>
                  <a:pt x="36487" y="7849"/>
                </a:cubicBezTo>
                <a:cubicBezTo>
                  <a:pt x="36487" y="8589"/>
                  <a:pt x="36017" y="9320"/>
                  <a:pt x="35555" y="9320"/>
                </a:cubicBezTo>
                <a:cubicBezTo>
                  <a:pt x="34450" y="9320"/>
                  <a:pt x="33345" y="10800"/>
                  <a:pt x="33345" y="12323"/>
                </a:cubicBezTo>
                <a:lnTo>
                  <a:pt x="3334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by bus"/>
          <p:cNvPicPr/>
          <p:nvPr/>
        </p:nvPicPr>
        <p:blipFill>
          <a:blip r:embed="rId2"/>
          <a:stretch/>
        </p:blipFill>
        <p:spPr>
          <a:xfrm>
            <a:off x="5257800" y="1298520"/>
            <a:ext cx="3598920" cy="525636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7"/>
          <p:cNvSpPr/>
          <p:nvPr/>
        </p:nvSpPr>
        <p:spPr>
          <a:xfrm>
            <a:off x="5105520" y="5410080"/>
            <a:ext cx="3671640" cy="1150920"/>
          </a:xfrm>
          <a:custGeom>
            <a:avLst/>
            <a:gdLst>
              <a:gd name="textAreaLeft" fmla="*/ 74520 w 3671640"/>
              <a:gd name="textAreaRight" fmla="*/ 3597120 w 367164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68893" h="21600">
                <a:moveTo>
                  <a:pt x="0" y="0"/>
                </a:moveTo>
                <a:lnTo>
                  <a:pt x="68893" y="0"/>
                </a:lnTo>
                <a:lnTo>
                  <a:pt x="68893" y="21600"/>
                </a:lnTo>
                <a:lnTo>
                  <a:pt x="0" y="21600"/>
                </a:lnTo>
                <a:close/>
              </a:path>
              <a:path fill="lightenLess" w="68893" h="21600">
                <a:moveTo>
                  <a:pt x="0" y="0"/>
                </a:moveTo>
                <a:lnTo>
                  <a:pt x="68893" y="0"/>
                </a:lnTo>
                <a:lnTo>
                  <a:pt x="67493" y="1400"/>
                </a:lnTo>
                <a:lnTo>
                  <a:pt x="1400" y="1400"/>
                </a:lnTo>
                <a:close/>
              </a:path>
              <a:path fill="darken" w="68893" h="21600">
                <a:moveTo>
                  <a:pt x="68893" y="0"/>
                </a:moveTo>
                <a:lnTo>
                  <a:pt x="68893" y="21600"/>
                </a:lnTo>
                <a:lnTo>
                  <a:pt x="67493" y="20200"/>
                </a:lnTo>
                <a:lnTo>
                  <a:pt x="67493" y="1400"/>
                </a:lnTo>
                <a:close/>
              </a:path>
              <a:path fill="darkenLess" w="68893" h="21600">
                <a:moveTo>
                  <a:pt x="68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493" y="20200"/>
                </a:lnTo>
                <a:close/>
              </a:path>
              <a:path fill="lighten" w="68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893" h="21600">
                <a:moveTo>
                  <a:pt x="3444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68893" h="21600">
                <a:moveTo>
                  <a:pt x="35552" y="14281"/>
                </a:moveTo>
                <a:lnTo>
                  <a:pt x="35552" y="12323"/>
                </a:lnTo>
                <a:cubicBezTo>
                  <a:pt x="35552" y="11496"/>
                  <a:pt x="35883" y="10800"/>
                  <a:pt x="36483" y="10800"/>
                </a:cubicBezTo>
                <a:cubicBezTo>
                  <a:pt x="37615" y="10800"/>
                  <a:pt x="38511" y="9434"/>
                  <a:pt x="38511" y="7849"/>
                </a:cubicBezTo>
                <a:cubicBezTo>
                  <a:pt x="38511" y="5534"/>
                  <a:pt x="36657" y="3794"/>
                  <a:pt x="34447" y="3794"/>
                </a:cubicBezTo>
                <a:cubicBezTo>
                  <a:pt x="32236" y="3794"/>
                  <a:pt x="30565" y="5534"/>
                  <a:pt x="30565" y="7849"/>
                </a:cubicBezTo>
                <a:lnTo>
                  <a:pt x="32419" y="7849"/>
                </a:lnTo>
                <a:cubicBezTo>
                  <a:pt x="32419" y="6709"/>
                  <a:pt x="33341" y="5821"/>
                  <a:pt x="34447" y="5821"/>
                </a:cubicBezTo>
                <a:cubicBezTo>
                  <a:pt x="35552" y="5821"/>
                  <a:pt x="36483" y="6709"/>
                  <a:pt x="36483" y="7849"/>
                </a:cubicBezTo>
                <a:cubicBezTo>
                  <a:pt x="36483" y="8589"/>
                  <a:pt x="36013" y="9320"/>
                  <a:pt x="35552" y="9320"/>
                </a:cubicBezTo>
                <a:cubicBezTo>
                  <a:pt x="34447" y="9320"/>
                  <a:pt x="33341" y="10800"/>
                  <a:pt x="33341" y="12323"/>
                </a:cubicBezTo>
                <a:lnTo>
                  <a:pt x="33341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64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ns of transportation 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通方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4-10-30T08:43:31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