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D0A8-1872-46DB-95AC-7297675A3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6C6F-AFA7-4360-8157-57279D517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FEE2-F8CE-422D-A020-65A5D1CC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4835-22D5-47CE-817C-A98570F76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8803-4BEA-46B8-A1D3-E02332845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8AA5-8C37-4D8C-903F-01F514E52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1BE4-601E-4614-9EA6-909931ED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6448-4A86-4262-AD06-D8E2825A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A934-5B6C-4ED6-8402-F4B87A5EB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5BB0-EFB3-45F8-9CFB-133A9EB2B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609-9348-4CEC-AE8F-8B2B84E9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993-A246-4BA4-B01A-E5A80737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988-FC55-416F-B3DB-43F66771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0A2-DF5D-4486-B446-2FADF506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FA9-B0EA-4F61-96D5-32D117A2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411-A6E6-487D-8BB3-F1C7CEEF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AB9-F739-48DF-81B6-2E6DA072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9D4-90D1-4D86-B333-E224E4C8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51A-55BB-45BA-8320-799A81B1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1E9-36F3-4185-98F0-7DA1473F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13F-5A94-4778-9E2F-C8E96E02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6DC-FAB4-4791-8585-C37F949C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0025-D626-42C0-B0E2-D6B27847B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ms1.ganxiu.com/html/PicSendq83mo181MjD6.html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etease-qs102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684360" y="2205000"/>
            <a:ext cx="6983280" cy="26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number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netease-boboo27-autm1024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        2           3           4     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     two    three    four      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        7            8          9         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    seven     eight     nine      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netease-boboo36-autm1024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6408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              12              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en          twelve     thir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             15            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een       fifteen       six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                  18         seventeen    eigh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                  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eteen          tw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netease-wayhome_love0604_1024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58560" y="549360"/>
            <a:ext cx="8017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76360" y="365040"/>
            <a:ext cx="46800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wenty-o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wenty-tw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wenty-thre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wenty-fi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wenty-fi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wenty-si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wenty-sev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wenty-eigh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wenty-n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6"/>
          <p:cNvSpPr/>
          <p:nvPr/>
        </p:nvSpPr>
        <p:spPr>
          <a:xfrm>
            <a:off x="0" y="189000"/>
            <a:ext cx="4537080" cy="3384360"/>
          </a:xfrm>
          <a:prstGeom prst="cloudCallout">
            <a:avLst>
              <a:gd name="adj1" fmla="val 50629"/>
              <a:gd name="adj2" fmla="val 41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ow about 30/40/50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100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5" descr="00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2130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netease-bobo15-summer-no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7640" y="907560"/>
            <a:ext cx="1184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30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40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50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60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70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80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90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56000" y="765000"/>
            <a:ext cx="280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i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hi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eve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nin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i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igh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ne hund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924360" y="1125360"/>
            <a:ext cx="2448000" cy="18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6"/>
          <p:cNvSpPr/>
          <p:nvPr/>
        </p:nvSpPr>
        <p:spPr>
          <a:xfrm flipV="1">
            <a:off x="3995640" y="1267920"/>
            <a:ext cx="24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7"/>
          <p:cNvSpPr/>
          <p:nvPr/>
        </p:nvSpPr>
        <p:spPr>
          <a:xfrm>
            <a:off x="4356000" y="2421000"/>
            <a:ext cx="1944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8"/>
          <p:cNvSpPr/>
          <p:nvPr/>
        </p:nvSpPr>
        <p:spPr>
          <a:xfrm flipV="1">
            <a:off x="3851280" y="1989000"/>
            <a:ext cx="2592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9"/>
          <p:cNvSpPr/>
          <p:nvPr/>
        </p:nvSpPr>
        <p:spPr>
          <a:xfrm>
            <a:off x="4067280" y="3789360"/>
            <a:ext cx="2305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3780000" y="2565000"/>
            <a:ext cx="2592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4140360" y="4220640"/>
            <a:ext cx="23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5435640" y="566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netease-bobo15-summer-no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56360" y="620280"/>
            <a:ext cx="11844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39640" y="1052640"/>
            <a:ext cx="30956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hi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o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if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ix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ve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eigh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nin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one hund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        66         77               89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       56          99              7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        38          81              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        71           63             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        32         96              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     900        800           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ic0448"/>
          <p:cNvPicPr/>
          <p:nvPr/>
        </p:nvPicPr>
        <p:blipFill>
          <a:blip r:embed="rId1"/>
          <a:stretch/>
        </p:blipFill>
        <p:spPr>
          <a:xfrm>
            <a:off x="-396720" y="-9360"/>
            <a:ext cx="9540720" cy="7165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826560" y="692280"/>
            <a:ext cx="151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195640" y="549360"/>
            <a:ext cx="67672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ne hundre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ne hundre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igh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ree hundre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wen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our hundre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nven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ine hundre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ine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0:00:37Z</dcterms:created>
  <dc:creator>微软用户</dc:creator>
  <dc:description/>
  <dc:language>en-US</dc:language>
  <cp:lastModifiedBy>Users</cp:lastModifiedBy>
  <dcterms:modified xsi:type="dcterms:W3CDTF">2013-12-25T02:59:24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04000000000001024120</vt:lpwstr>
  </property>
</Properties>
</file>