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854F9-32B7-453B-B3D2-C5F63BC37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68D7-0A06-4B8F-84BB-D173064C8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11ACB-7AF8-4C80-B914-159D7E112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FB011-6BB3-4687-994B-0C27C06AB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66AA3-DD07-4393-9B96-571776EC6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5BF0D-1E41-4221-8D7A-D43080FD4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97FA6-F552-411C-ACCA-2461537C9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EF560-3F8F-4A39-A356-26F5577D5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47186-49D0-4D74-AA1F-0C0DC8D60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4BEE4-AC5C-42A0-84E6-9EA5122AA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D183-2158-4DDC-B4C0-0E1723890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120B-6E57-45F2-A1DC-78A640031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AB7F-85EC-492C-89D5-92671677D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5BE4-FD44-4F7A-AB62-BDCF666EA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30E7-C79C-44A5-A184-53B4DC540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C977-9F73-4B2A-9215-15FCD6F5E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8AC2-9B3B-455C-9BAD-A32F1A0D6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EADB-663D-4D6D-ABFF-0ACF24F5C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0E0F-5028-449C-AE5D-6CB3D5133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4D1D-1739-4581-8C3F-8C46E458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8AA3-B21E-4492-B34E-4A5D63D4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6A2F-7EEA-420D-8075-E37287F5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C27C7-2110-432B-907B-34DA658B7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32000" y="1052640"/>
            <a:ext cx="6400800" cy="22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it3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47280" y="342864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My robo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006"/>
          <p:cNvPicPr/>
          <p:nvPr/>
        </p:nvPicPr>
        <p:blipFill>
          <a:blip r:embed="rId1"/>
          <a:stretch/>
        </p:blipFill>
        <p:spPr>
          <a:xfrm>
            <a:off x="4067280" y="189000"/>
            <a:ext cx="4105080" cy="6048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1" name="Picture 6" descr="004"/>
          <p:cNvPicPr/>
          <p:nvPr/>
        </p:nvPicPr>
        <p:blipFill>
          <a:blip r:embed="rId2"/>
          <a:stretch/>
        </p:blipFill>
        <p:spPr>
          <a:xfrm>
            <a:off x="1116000" y="1557360"/>
            <a:ext cx="2100240" cy="28083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7"/>
          <p:cNvSpPr/>
          <p:nvPr/>
        </p:nvSpPr>
        <p:spPr>
          <a:xfrm>
            <a:off x="4067280" y="1268280"/>
            <a:ext cx="151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AutoShape 8"/>
          <p:cNvSpPr/>
          <p:nvPr/>
        </p:nvSpPr>
        <p:spPr>
          <a:xfrm rot="880800">
            <a:off x="4858920" y="188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AutoShape 9"/>
          <p:cNvSpPr/>
          <p:nvPr/>
        </p:nvSpPr>
        <p:spPr>
          <a:xfrm rot="929400">
            <a:off x="1255320" y="1441440"/>
            <a:ext cx="785880" cy="284040"/>
          </a:xfrm>
          <a:prstGeom prst="rightArrow">
            <a:avLst>
              <a:gd name="adj1" fmla="val 50000"/>
              <a:gd name="adj2" fmla="val 691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0" y="83664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mall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hea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2050920" y="0"/>
            <a:ext cx="28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ig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head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0" y="4005360"/>
            <a:ext cx="676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It has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a 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small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head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3492360" y="6033960"/>
            <a:ext cx="745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It has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a 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big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head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004"/>
          <p:cNvPicPr/>
          <p:nvPr/>
        </p:nvPicPr>
        <p:blipFill>
          <a:blip r:embed="rId1"/>
          <a:stretch/>
        </p:blipFill>
        <p:spPr>
          <a:xfrm>
            <a:off x="1187280" y="1413000"/>
            <a:ext cx="2100600" cy="280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006"/>
          <p:cNvPicPr/>
          <p:nvPr/>
        </p:nvPicPr>
        <p:blipFill>
          <a:blip r:embed="rId2"/>
          <a:stretch/>
        </p:blipFill>
        <p:spPr>
          <a:xfrm>
            <a:off x="3708360" y="0"/>
            <a:ext cx="4105440" cy="6048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1" name="AutoShape 6"/>
          <p:cNvSpPr/>
          <p:nvPr/>
        </p:nvSpPr>
        <p:spPr>
          <a:xfrm rot="1924200">
            <a:off x="1301400" y="1370160"/>
            <a:ext cx="695160" cy="360360"/>
          </a:xfrm>
          <a:prstGeom prst="rightArrow">
            <a:avLst>
              <a:gd name="adj1" fmla="val 50000"/>
              <a:gd name="adj2" fmla="val 4822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0" y="333360"/>
            <a:ext cx="21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mall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shoulde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2050920" y="18900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ig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shoulder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0" y="4149720"/>
            <a:ext cx="78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It has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small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shoulder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2195640" y="5805360"/>
            <a:ext cx="734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It has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big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shoulder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004"/>
          <p:cNvPicPr/>
          <p:nvPr/>
        </p:nvPicPr>
        <p:blipFill>
          <a:blip r:embed="rId1"/>
          <a:stretch/>
        </p:blipFill>
        <p:spPr>
          <a:xfrm>
            <a:off x="1187280" y="1413000"/>
            <a:ext cx="2100600" cy="280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006"/>
          <p:cNvPicPr/>
          <p:nvPr/>
        </p:nvPicPr>
        <p:blipFill>
          <a:blip r:embed="rId2"/>
          <a:stretch/>
        </p:blipFill>
        <p:spPr>
          <a:xfrm>
            <a:off x="3708360" y="0"/>
            <a:ext cx="4105440" cy="6048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8" name="AutoShape 6"/>
          <p:cNvSpPr/>
          <p:nvPr/>
        </p:nvSpPr>
        <p:spPr>
          <a:xfrm rot="2406600">
            <a:off x="518760" y="2161800"/>
            <a:ext cx="1262160" cy="360360"/>
          </a:xfrm>
          <a:prstGeom prst="rightArrow">
            <a:avLst>
              <a:gd name="adj1" fmla="val 50000"/>
              <a:gd name="adj2" fmla="val 875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AutoShape 7"/>
          <p:cNvSpPr/>
          <p:nvPr/>
        </p:nvSpPr>
        <p:spPr>
          <a:xfrm rot="19538400">
            <a:off x="4076280" y="3258720"/>
            <a:ext cx="946080" cy="708120"/>
          </a:xfrm>
          <a:prstGeom prst="rightArrow">
            <a:avLst>
              <a:gd name="adj1" fmla="val 50000"/>
              <a:gd name="adj2" fmla="val 334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0" y="1197000"/>
            <a:ext cx="259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mall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han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2987640" y="3860640"/>
            <a:ext cx="266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ig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han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0" y="4437000"/>
            <a:ext cx="579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It has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small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hand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3059280" y="5805360"/>
            <a:ext cx="57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It has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big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hand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004"/>
          <p:cNvPicPr/>
          <p:nvPr/>
        </p:nvPicPr>
        <p:blipFill>
          <a:blip r:embed="rId1"/>
          <a:stretch/>
        </p:blipFill>
        <p:spPr>
          <a:xfrm>
            <a:off x="1187280" y="1413000"/>
            <a:ext cx="2100600" cy="280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006"/>
          <p:cNvPicPr/>
          <p:nvPr/>
        </p:nvPicPr>
        <p:blipFill>
          <a:blip r:embed="rId2"/>
          <a:stretch/>
        </p:blipFill>
        <p:spPr>
          <a:xfrm>
            <a:off x="3564000" y="0"/>
            <a:ext cx="4105080" cy="6048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6" name="AutoShape 7"/>
          <p:cNvSpPr/>
          <p:nvPr/>
        </p:nvSpPr>
        <p:spPr>
          <a:xfrm rot="9820800">
            <a:off x="6804000" y="3428640"/>
            <a:ext cx="936720" cy="507960"/>
          </a:xfrm>
          <a:prstGeom prst="rightArrow">
            <a:avLst>
              <a:gd name="adj1" fmla="val 50000"/>
              <a:gd name="adj2" fmla="val 4610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Text Box 8"/>
          <p:cNvSpPr/>
          <p:nvPr/>
        </p:nvSpPr>
        <p:spPr>
          <a:xfrm rot="21168600">
            <a:off x="0" y="1844640"/>
            <a:ext cx="24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mall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kne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AutoShape 9"/>
          <p:cNvSpPr/>
          <p:nvPr/>
        </p:nvSpPr>
        <p:spPr>
          <a:xfrm rot="215400">
            <a:off x="971640" y="2852640"/>
            <a:ext cx="936360" cy="507960"/>
          </a:xfrm>
          <a:prstGeom prst="rightArrow">
            <a:avLst>
              <a:gd name="adj1" fmla="val 50000"/>
              <a:gd name="adj2" fmla="val 460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7667640" y="2421000"/>
            <a:ext cx="172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ig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knee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0" y="4149720"/>
            <a:ext cx="579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It has small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knee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3276720" y="5877000"/>
            <a:ext cx="532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It has big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knee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004"/>
          <p:cNvPicPr/>
          <p:nvPr/>
        </p:nvPicPr>
        <p:blipFill>
          <a:blip r:embed="rId1"/>
          <a:stretch/>
        </p:blipFill>
        <p:spPr>
          <a:xfrm>
            <a:off x="971640" y="1413000"/>
            <a:ext cx="2100240" cy="280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006"/>
          <p:cNvPicPr/>
          <p:nvPr/>
        </p:nvPicPr>
        <p:blipFill>
          <a:blip r:embed="rId2"/>
          <a:stretch/>
        </p:blipFill>
        <p:spPr>
          <a:xfrm>
            <a:off x="3564000" y="0"/>
            <a:ext cx="4105080" cy="6048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84" name="AutoShape 6"/>
          <p:cNvSpPr/>
          <p:nvPr/>
        </p:nvSpPr>
        <p:spPr>
          <a:xfrm rot="2715000">
            <a:off x="827280" y="3212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0" y="1773360"/>
            <a:ext cx="147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mall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f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ee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AutoShape 8"/>
          <p:cNvSpPr/>
          <p:nvPr/>
        </p:nvSpPr>
        <p:spPr>
          <a:xfrm rot="7965600">
            <a:off x="6884280" y="4865040"/>
            <a:ext cx="976320" cy="660240"/>
          </a:xfrm>
          <a:prstGeom prst="rightArrow">
            <a:avLst>
              <a:gd name="adj1" fmla="val 50000"/>
              <a:gd name="adj2" fmla="val 3696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7524720" y="3573360"/>
            <a:ext cx="144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ig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f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ee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684360" y="4365720"/>
            <a:ext cx="367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0" y="4076640"/>
            <a:ext cx="579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It has small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f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ee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t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3276720" y="5877000"/>
            <a:ext cx="532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It has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big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f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ee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t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004"/>
          <p:cNvPicPr/>
          <p:nvPr/>
        </p:nvPicPr>
        <p:blipFill>
          <a:blip r:embed="rId1"/>
          <a:stretch/>
        </p:blipFill>
        <p:spPr>
          <a:xfrm>
            <a:off x="971640" y="1413000"/>
            <a:ext cx="2100240" cy="280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006"/>
          <p:cNvPicPr/>
          <p:nvPr/>
        </p:nvPicPr>
        <p:blipFill>
          <a:blip r:embed="rId2"/>
          <a:stretch/>
        </p:blipFill>
        <p:spPr>
          <a:xfrm>
            <a:off x="3564000" y="0"/>
            <a:ext cx="4105080" cy="6048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3" name="AutoShape 7"/>
          <p:cNvSpPr/>
          <p:nvPr/>
        </p:nvSpPr>
        <p:spPr>
          <a:xfrm rot="667200">
            <a:off x="610920" y="3044880"/>
            <a:ext cx="1187280" cy="519120"/>
          </a:xfrm>
          <a:prstGeom prst="rightArrow">
            <a:avLst>
              <a:gd name="adj1" fmla="val 50000"/>
              <a:gd name="adj2" fmla="val 571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0" y="2060640"/>
            <a:ext cx="136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hor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leg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AutoShape 9"/>
          <p:cNvSpPr/>
          <p:nvPr/>
        </p:nvSpPr>
        <p:spPr>
          <a:xfrm rot="8976000">
            <a:off x="6732360" y="4220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7667640" y="3429000"/>
            <a:ext cx="12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long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leg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0" y="4076640"/>
            <a:ext cx="579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It has short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leg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3492360" y="5805360"/>
            <a:ext cx="532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It has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long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leg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004"/>
          <p:cNvPicPr/>
          <p:nvPr/>
        </p:nvPicPr>
        <p:blipFill>
          <a:blip r:embed="rId1"/>
          <a:stretch/>
        </p:blipFill>
        <p:spPr>
          <a:xfrm>
            <a:off x="971640" y="1413000"/>
            <a:ext cx="2100240" cy="280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006"/>
          <p:cNvPicPr/>
          <p:nvPr/>
        </p:nvPicPr>
        <p:blipFill>
          <a:blip r:embed="rId2"/>
          <a:stretch/>
        </p:blipFill>
        <p:spPr>
          <a:xfrm>
            <a:off x="3564000" y="0"/>
            <a:ext cx="4105080" cy="6048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01" name="AutoShape 6"/>
          <p:cNvSpPr/>
          <p:nvPr/>
        </p:nvSpPr>
        <p:spPr>
          <a:xfrm rot="2324400">
            <a:off x="684000" y="1700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0" y="404640"/>
            <a:ext cx="1441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ho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rm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AutoShape 8"/>
          <p:cNvSpPr/>
          <p:nvPr/>
        </p:nvSpPr>
        <p:spPr>
          <a:xfrm rot="2324400">
            <a:off x="3305160" y="1650960"/>
            <a:ext cx="1525680" cy="666720"/>
          </a:xfrm>
          <a:prstGeom prst="rightArrow">
            <a:avLst>
              <a:gd name="adj1" fmla="val 50000"/>
              <a:gd name="adj2" fmla="val 572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2411280" y="404640"/>
            <a:ext cx="13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ig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rm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0" y="4005360"/>
            <a:ext cx="579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It has short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arm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3492360" y="5805360"/>
            <a:ext cx="532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It has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long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arm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003"/>
          <p:cNvPicPr/>
          <p:nvPr/>
        </p:nvPicPr>
        <p:blipFill>
          <a:blip r:embed="rId1"/>
          <a:stretch/>
        </p:blipFill>
        <p:spPr>
          <a:xfrm>
            <a:off x="0" y="0"/>
            <a:ext cx="5940360" cy="43196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395280" y="328464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ik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4572000" y="335772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AutoShape 7"/>
          <p:cNvSpPr/>
          <p:nvPr/>
        </p:nvSpPr>
        <p:spPr>
          <a:xfrm rot="20562000">
            <a:off x="323640" y="393336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AutoShape 8"/>
          <p:cNvSpPr/>
          <p:nvPr/>
        </p:nvSpPr>
        <p:spPr>
          <a:xfrm>
            <a:off x="1258920" y="4508640"/>
            <a:ext cx="5113440" cy="21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1332000" y="4437000"/>
            <a:ext cx="518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is my robot. It has a small head. It has big shoulders. It has short arms. It has small knees. It has long legs. It has small fee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AutoShape 10"/>
          <p:cNvSpPr/>
          <p:nvPr/>
        </p:nvSpPr>
        <p:spPr>
          <a:xfrm rot="18153600">
            <a:off x="4691880" y="2373840"/>
            <a:ext cx="1214280" cy="73332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AutoShape 11"/>
          <p:cNvSpPr/>
          <p:nvPr/>
        </p:nvSpPr>
        <p:spPr>
          <a:xfrm>
            <a:off x="5940360" y="981000"/>
            <a:ext cx="3024360" cy="3672000"/>
          </a:xfrm>
          <a:custGeom>
            <a:avLst/>
            <a:gdLst>
              <a:gd name="textAreaLeft" fmla="*/ 147600 w 3024360"/>
              <a:gd name="textAreaRight" fmla="*/ 2876760 w 3024360"/>
              <a:gd name="textAreaTop" fmla="*/ 147600 h 3672000"/>
              <a:gd name="textAreaBottom" fmla="*/ 3524400 h 3672000"/>
            </a:gdLst>
            <a:ahLst/>
            <a:rect l="textAreaLeft" t="textAreaTop" r="textAreaRight" b="textAreaBottom"/>
            <a:pathLst>
              <a:path w="21600" h="26225">
                <a:moveTo>
                  <a:pt x="3600" y="0"/>
                </a:moveTo>
                <a:arcTo wR="3600" hR="3600" stAng="16200000" swAng="-5400000"/>
                <a:lnTo>
                  <a:pt x="0" y="22625"/>
                </a:lnTo>
                <a:arcTo wR="3600" hR="3600" stAng="10800000" swAng="-5400000"/>
                <a:lnTo>
                  <a:pt x="18000" y="262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6012000" y="981000"/>
            <a:ext cx="313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 my robot. It has a big head. It has small shoulders.It has long arms. It has big knees. It has short legs. It has big fee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00:13:08Z</dcterms:created>
  <dc:creator>YlmF</dc:creator>
  <dc:description/>
  <dc:language>en-US</dc:language>
  <cp:lastModifiedBy>Users</cp:lastModifiedBy>
  <dcterms:modified xsi:type="dcterms:W3CDTF">2013-12-25T02:59:50Z</dcterms:modified>
  <cp:revision>7</cp:revision>
  <dc:subject/>
  <dc:title>Unit3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202000000000001024120</vt:lpwstr>
  </property>
</Properties>
</file>