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2DB-B355-4DCA-BF21-816D057E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1A7-9EE3-4443-AD54-C0CA7E8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5E2-1096-4EC2-B2D2-946E3A29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6FE-577C-45F0-9737-87E0BFFD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6D2-8CC0-4A81-B068-E3D5FADD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026-F1DF-4B56-BF2C-9DF5E24E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CB11-4F13-4ED5-80A7-1F6A17B6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803D-E9E8-40BC-998A-FA43CC95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7FF8-CE53-4A0E-93C7-1D3BCA4D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9602-89B2-4E78-B707-E2F898C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B9D5-E089-4DEA-8A72-C341890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FEA-10C6-4819-A903-CD6D047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8AD9-86E7-4D0F-AD8A-C4DEF9D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88CD-7220-492B-B97C-EC33859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04F-EE13-4F5F-960F-B615A98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6E4-1FBF-40D7-8568-12F2A1DE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C61B-9C92-4485-8D55-E7983DE5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A4B-CDBC-411B-B118-B92B14B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B2F-1C84-4493-8478-F33BEB3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BA8-654E-472B-9AD2-684E49BD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D25-02E8-4E0C-8B87-81ADEF8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293-D596-470A-83E1-82C415F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304-76CC-4B01-A12F-0DFA488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35F-DBE8-4B32-ADEA-2FE1B2A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2C8-38F6-4632-BD3C-9D8B8DF70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909-4AD6-4377-ABB5-5738536023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3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img.yidaba.com/up10/business/product/20080704/ab4c992f4801adaf01869aa5a60ce76b.jpg&amp;imgrefurl=http://30472988.shop.yidaba.com/prodetail-75175.html&amp;usg=__88lMVbvGuhUicZg0p_RW-ao3CHM=&amp;h=1233&amp;w=1647&amp;sz=142&amp;hl=zh-CN&amp;start=7&amp;tbnid=TzFUoYBOhmYcuM:&amp;tbnh=112&amp;tbnw=150&amp;prev=/images%3Fq%3D%25E5%25A4%25B9%25E5%2585%258B%25E8%25A1%25AB%26gbv%3D2%26hl%3Dzh-CN%26sa%3DG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n/imgres?imgurl=http://img2.zol.com.cn/product/6/603/ceqd9B6lEfiiY.jpg&amp;imgrefurl=http://mobile.zol.com.cn/32/325819.html&amp;usg=__QMW9r0aQwrbqJUcIhSo64Me7qfU=&amp;h=451&amp;w=450&amp;sz=31&amp;hl=zh-CN&amp;start=6&amp;tbnid=WWac_lhsf4njfM:&amp;tbnh=127&amp;tbnw=127&amp;prev=/images%3Fq%3D%25E5%25A4%25B9%25E5%2585%258B%25E8%25A1%25AB%26gbv%3D2%26hl%3Dzh-CN%26sa%3DG%26newwindow%3D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n/imgres?imgurl=http://img.diytrade.com/cdimg/601374/4251261/0/1219381742.jpg&amp;imgrefurl=http://www.diytrade.com/china/3/products/3265131/%25E4%25BC%2591%25E9%2596%2591%25E6%259C%258D_%25E5%2584%25BF%25E7%25AB%25A5%25E5%25A4%25BE%25E5%2585%258B%25E8%25A1%25AB_%25E5%25A5%25B3%25E8%25A3%259D_%25E7%25AB%25A5%25E8%25A3%259D_%25E5%25A5%25B3%25E8%25A3%259D_%25E4%25B8%258A%25E8%25A1%25A3.html&amp;usg=__e5Xt3f4wE_pu-MKvt9xfEJwbsKs=&amp;h=813&amp;w=813&amp;sz=53&amp;hl=zh-CN&amp;start=11&amp;tbnid=LvC4qYet_w3v-M:&amp;tbnh=144&amp;tbnw=144&amp;prev=/images%3Fq%3D%25E5%25A4%25B9%25E5%2585%258B%25E8%25A1%25AB%26gbv%3D2%26hl%3Dzh-CN%26sa%3DG%26newwindow%3D1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n/imgres?imgurl=http://images.wangchao.net.cn/images/upload/images/game/1186091604890.jpg&amp;imgrefurl=http://www.wangchao.net.cn/bbsdetail_101465.html&amp;usg=__pwL13SAQzRAYuTxageezBrPYuDc=&amp;h=655&amp;w=450&amp;sz=59&amp;hl=zh-CN&amp;start=18&amp;tbnid=AXXpeh8GICfWLM:&amp;tbnh=138&amp;tbnw=95&amp;prev=/images%3Fq%3D%25E5%25A4%25B9%25E5%2585%258B%25E8%25A1%25AB%26gbv%3D2%26hl%3Dzh-CN%26sa%3DG%26newwindow%3D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ages.google.cn/imgres?imgurl=http://img07.taobaocdn.com/bao/uploaded/i7/T1QLdcXnRcv7EJ9jw3_050519.jpg&amp;imgrefurl=http://www.manbuu.com.cn/goods-3899.html&amp;usg=__ITEq_1k24yYoB60cUr1GJn4Dwsk=&amp;h=375&amp;w=500&amp;sz=31&amp;hl=zh-CN&amp;start=28&amp;tbnid=FDQDTHv21QG4jM:&amp;tbnh=98&amp;tbnw=130&amp;prev=/images%3Fq%3D%25E5%25A4%25B9%25E5%2585%258B%25E8%25A1%25AB%26gbv%3D2%26ndsp%3D20%26hl%3Dzh-CN%26sa%3DN%26start%3D20%26newwindow%3D1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n/imgres?imgurl=http://img03.taobaocdn.com/poster/i3/T1nMpdXgvHMoCH.X6X.JPEG&amp;imgrefurl=http://www.ssxiu.cn/html/nanren/200908/15-44505.html&amp;usg=__cWPk8MBhTyH02SGbNXSqDt-BSGA=&amp;h=562&amp;w=583&amp;sz=52&amp;hl=zh-CN&amp;start=68&amp;tbnid=fnCvnqCsbFgcGM:&amp;tbnh=129&amp;tbnw=134&amp;prev=/images%3Fq%3D%25E5%25A4%25B9%25E5%2585%258B%25E8%25A1%25AB%26gbv%3D2%26ndsp%3D20%26hl%3Dzh-CN%26sa%3DN%26start%3D60%26newwindow%3D1" TargetMode="Externa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ww.tmknitwear.com/tmknitwear/girl%27s%2520apparel&#22899;&#31461;&#35013;/bottoms&#19979;&#35013;/Girls%27%2520Eyelet-Trim%2520Skirt.jpg&amp;imgrefurl=http://www.tmknitwear.com/tmcp-22.htm&amp;usg=__QXWd0dsW-ePdmEkom6NGTepQ6-0=&amp;h=470&amp;w=491&amp;sz=29&amp;hl=zh-CN&amp;start=1&amp;tbnid=OIbnbIxesfPjRM:&amp;tbnh=124&amp;tbnw=130&amp;prev=/images%3Fq%3Dskirt%26gbv%3D2%26hl%3Dzh-CN%26sa%3DG%26newwindow%3D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n/imgres?imgurl=http://bluebuddies.com/gallery/Smurf_Clothing/jpg/Smurfs_Clothing_Skirt_Smurfette.jpg&amp;imgrefurl=http://zhidao.baidu.com/question/39813445.html&amp;usg=__cwSZbLk3P6KCvOvQFEyLsuFeDtw=&amp;h=300&amp;w=400&amp;sz=15&amp;hl=zh-CN&amp;start=2&amp;tbnid=cspo0k1ofpQo5M:&amp;tbnh=93&amp;tbnw=124&amp;prev=/images%3Fq%3Dskirt%26gbv%3D2%26hl%3Dzh-CN%26sa%3DG%26newwindow%3D1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cn/imgres?imgurl=http://www.needlenthread.com/Images/Miscellaneous/Readers_Embroidery/Embellished_Skirt_01.jpg&amp;imgrefurl=http://www.needlenthread.com/2008/03/readers-embroidery-embellished-skirt.html&amp;usg=__yaEsL7YRWybZeafzbTKW_x-UjRQ=&amp;h=383&amp;w=400&amp;sz=33&amp;hl=zh-CN&amp;start=27&amp;tbnid=uAzCWJ6pUIO1fM:&amp;tbnh=119&amp;tbnw=124&amp;prev=/images%3Fq%3Dskirt%26gbv%3D2%26ndsp%3D20%26hl%3Dzh-CN%26sa%3DN%26start%3D20%26newwindow%3D1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images.google.cn/imgres?imgurl=http://www.indigenousdesigns.com/mm5/public/images/products/bup/1526-twister-skirt-black.jpg&amp;imgrefurl=http://www.indigenousdesigns.com/shop/product/skirts/1526BK/organic-cotton-summer-skirt&amp;usg=__CApCQabLV6M6Ka1nVmB3TABHsZk=&amp;h=500&amp;w=500&amp;sz=63&amp;hl=zh-CN&amp;start=32&amp;tbnid=U3R7VzVoaO90pM:&amp;tbnh=130&amp;tbnw=130&amp;prev=/images%3Fq%3Dskirt%26gbv%3D2%26ndsp%3D20%26hl%3Dzh-CN%26sa%3DN%26start%3D20%26newwindow%3D1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n/imgres?imgurl=http://skirt.com/files/imagecache/big_main_photo/files/month/jax_skirt.jpg&amp;imgrefurl=http://skirt.com/skirt-of-the-month&amp;usg=__hvCIAMWVM3wuiizjVFzhbaeM4b4=&amp;h=308&amp;w=300&amp;sz=11&amp;hl=zh-CN&amp;start=96&amp;tbnid=OX4v_UhZcHAvqM:&amp;tbnh=117&amp;tbnw=114&amp;prev=/images%3Fq%3Dskirt%26gbv%3D2%26ndsp%3D20%26hl%3Dzh-CN%26sa%3DN%26start%3D80%26newwindow%3D1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b9.itrademarket.com/pdimage/08/292808_polo_shirt5.jpg&amp;imgrefurl=http://yongsheng.itm.com.cn/292808/supply-china-coton-pique-t-shirtpolo-shirt.htm&amp;usg=__3kE4FZsYy_AWLiZjGIC05_31U_Q=&amp;h=360&amp;w=360&amp;sz=26&amp;hl=zh-CN&amp;start=8&amp;tbnid=QlPEwNm0Mw1tKM:&amp;tbnh=121&amp;tbnw=121&amp;prev=/images%3Fq%3Dshirt%26gbv%3D2%26hl%3Dzh-CN%26sa%3DG%26newwindow%3D1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n/imgres?imgurl=http://store.drumbum.com/media/got-keys-t-shirt.jpg&amp;imgrefurl=http://forum.tintinpiano.com/viewtopic.php%3Ft%3D16102&amp;usg=__OaPETRHHJmympNWQlN_aoM9FRsA=&amp;h=322&amp;w=322&amp;sz=9&amp;hl=zh-CN&amp;start=7&amp;tbnid=cEAiiYBo2CsLiM:&amp;tbnh=118&amp;tbnw=118&amp;prev=/images%3Fq%3Dshirt%26gbv%3D2%26hl%3Dzh-CN%26sa%3DG%26newwindow%3D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n/imgres?imgurl=http://big5.made-in-china.com/image/2f0j01mCraOwfArGkzM/&#32431;&#26825;&#22799;&#23395;T-shirt&#65292;T&#24676;%2B&#65288;LX-BD-T017&#65289;.jpg&amp;imgrefurl=http://big5.made-in-china.com/china-products/productviewFbrJswfZEGkU/%25E7%25BA%25AF%25E6%25A3%2589%25E5%25A4%258F%25E5%25AD%25A3T-shirt%25EF%25BC%258CT%25E6%2581%25A4%2B%25EF%25BC%2588LX-BD-T017%25EF%25BC%2589.html&amp;usg=__wtLadTxF0y88MYtZa3ZnESHMdss=&amp;h=500&amp;w=500&amp;sz=62&amp;hl=zh-CN&amp;start=4&amp;tbnid=gGHvSnu4h4iSGM:&amp;tbnh=130&amp;tbnw=130&amp;prev=/images%3Fq%3Dshirt%26gbv%3D2%26hl%3Dzh-CN%26sa%3DG%26newwindow%3D1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s.google.cn/imgres?imgurl=http://www.fuan.biz/wp-content/uploads/2009/08/Google-T-shirt-&#20840;.jpg&amp;imgrefurl=http://www.fuan.biz/2009/08/google-t-shirt.html&amp;usg=__MQdx0ECr6961zVq6Q-mYJ_sALxU=&amp;h=1536&amp;w=2048&amp;sz=789&amp;hl=zh-CN&amp;start=53&amp;tbnid=jX-J0iFy_iTa-M:&amp;tbnh=113&amp;tbnw=150&amp;prev=/images%3Fq%3Dshirt%26gbv%3D2%26ndsp%3D20%26hl%3Dzh-CN%26sa%3DN%26start%3D40%26newwindow%3D1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images.google.cn/imgres?imgurl=http://acanned.com/files/2009/07/kazuki-clot-clotone-kzklot-polka-dot-t-shirt.jpg&amp;imgrefurl=http://acanned.com/blog/2009/07/03/kazuki-x-clot-2009-ss-%25E2%2580%259Cclotone%25E2%2580%259D-kzklot-polka-t-shirt/&amp;usg=___RZ4b1x_1IjXOSz0I0FlE5jH1HQ=&amp;h=575&amp;w=620&amp;sz=72&amp;hl=zh-CN&amp;start=86&amp;tbnid=GvPVnBNYAqffkM:&amp;tbnh=126&amp;tbnw=136&amp;prev=/images%3Fq%3Dshirt%26gbv%3D2%26ndsp%3D20%26hl%3Dzh-CN%26sa%3DN%26start%3D80%26newwindow%3D1" TargetMode="External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08000" y="2133720"/>
            <a:ext cx="1015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 2 cloth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9"/>
          <p:cNvSpPr/>
          <p:nvPr/>
        </p:nvSpPr>
        <p:spPr>
          <a:xfrm>
            <a:off x="755640" y="404640"/>
            <a:ext cx="69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711360" y="17287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cold.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755640" y="314172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hot.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042920" y="882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619360" y="3726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689200" y="23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2919960" y="40464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-shi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3919320" y="172728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/>
          <p:cNvSpPr/>
          <p:nvPr/>
        </p:nvSpPr>
        <p:spPr>
          <a:xfrm>
            <a:off x="4188960" y="314172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ja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3908520" y="2317680"/>
            <a:ext cx="20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7"/>
          <p:cNvSpPr/>
          <p:nvPr/>
        </p:nvSpPr>
        <p:spPr>
          <a:xfrm>
            <a:off x="4178160" y="3743280"/>
            <a:ext cx="20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8"/>
          <p:cNvSpPr/>
          <p:nvPr/>
        </p:nvSpPr>
        <p:spPr>
          <a:xfrm>
            <a:off x="2744640" y="988920"/>
            <a:ext cx="20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128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y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755640" y="1189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615960" y="29448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15960" y="17128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t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148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1480" y="36561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左大括号 7"/>
          <p:cNvSpPr/>
          <p:nvPr/>
        </p:nvSpPr>
        <p:spPr>
          <a:xfrm>
            <a:off x="60480" y="853920"/>
            <a:ext cx="576000" cy="257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760 h 2575080"/>
              <a:gd name="textAreaBottom" fmla="*/ 2560320 h 257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2"/>
                  <a:pt x="10800" y="403"/>
                </a:cubicBezTo>
                <a:lnTo>
                  <a:pt x="10800" y="10397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2"/>
                  <a:pt x="10800" y="11203"/>
                </a:cubicBezTo>
                <a:lnTo>
                  <a:pt x="10800" y="21197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2251080" y="5065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It’s cold.________this 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2419200" y="17128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Today I ______ my 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2411280" y="2637000"/>
            <a:ext cx="885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This hat is not g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that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2548080" y="32241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y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716360" y="476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t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4716360" y="17128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s98.com/mall/data/files/store_822/goods_152/201101040639126310.jpg"/>
          <p:cNvPicPr/>
          <p:nvPr/>
        </p:nvPicPr>
        <p:blipFill>
          <a:blip r:embed="rId2"/>
          <a:stretch/>
        </p:blipFill>
        <p:spPr>
          <a:xfrm>
            <a:off x="4446720" y="66600"/>
            <a:ext cx="2087280" cy="2438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3"/>
          <p:cNvSpPr/>
          <p:nvPr/>
        </p:nvSpPr>
        <p:spPr>
          <a:xfrm>
            <a:off x="539640" y="276084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Nice to se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The              is not beatuiful.Try on the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Look at me!Am I fu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Not funny.Very beauti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Thank you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bushman-jacket"/>
          <p:cNvPicPr/>
          <p:nvPr/>
        </p:nvPicPr>
        <p:blipFill>
          <a:blip r:embed="rId3"/>
          <a:stretch/>
        </p:blipFill>
        <p:spPr>
          <a:xfrm>
            <a:off x="0" y="66600"/>
            <a:ext cx="2268360" cy="237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20087301648255619"/>
          <p:cNvPicPr/>
          <p:nvPr/>
        </p:nvPicPr>
        <p:blipFill>
          <a:blip r:embed="rId4"/>
          <a:stretch/>
        </p:blipFill>
        <p:spPr>
          <a:xfrm>
            <a:off x="2268360" y="57240"/>
            <a:ext cx="1872000" cy="2062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cqjj.net/upload/lady/upload/U1601P8T1D816466F922DT20081221120728.jpg"/>
          <p:cNvPicPr/>
          <p:nvPr/>
        </p:nvPicPr>
        <p:blipFill>
          <a:blip r:embed="rId5"/>
          <a:stretch/>
        </p:blipFill>
        <p:spPr>
          <a:xfrm>
            <a:off x="6986520" y="179280"/>
            <a:ext cx="1800360" cy="2260800"/>
          </a:xfrm>
          <a:prstGeom prst="rect">
            <a:avLst/>
          </a:prstGeom>
          <a:ln w="0">
            <a:noFill/>
          </a:ln>
        </p:spPr>
      </p:pic>
      <p:sp>
        <p:nvSpPr>
          <p:cNvPr id="178" name="矩形 2"/>
          <p:cNvSpPr/>
          <p:nvPr/>
        </p:nvSpPr>
        <p:spPr>
          <a:xfrm>
            <a:off x="1001880" y="320364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to see you,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1711800" y="355284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7251120" y="35877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0"/>
          <p:cNvSpPr/>
          <p:nvPr/>
        </p:nvSpPr>
        <p:spPr>
          <a:xfrm>
            <a:off x="1704960" y="4084560"/>
            <a:ext cx="120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1"/>
          <p:cNvSpPr/>
          <p:nvPr/>
        </p:nvSpPr>
        <p:spPr>
          <a:xfrm>
            <a:off x="7246800" y="4110120"/>
            <a:ext cx="102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2400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录音，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39640" y="961920"/>
            <a:ext cx="55436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ress is not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m’s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I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              Mum’s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            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beauti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3786120" y="885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520200" y="164952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1589400" y="249228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1734840" y="3078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2401920" y="3840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48360" y="536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"/>
          <p:cNvSpPr/>
          <p:nvPr/>
        </p:nvSpPr>
        <p:spPr>
          <a:xfrm>
            <a:off x="3570120" y="1487520"/>
            <a:ext cx="20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9"/>
          <p:cNvSpPr/>
          <p:nvPr/>
        </p:nvSpPr>
        <p:spPr>
          <a:xfrm>
            <a:off x="393840" y="227160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20"/>
          <p:cNvSpPr/>
          <p:nvPr/>
        </p:nvSpPr>
        <p:spPr>
          <a:xfrm>
            <a:off x="1579680" y="307800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21"/>
          <p:cNvSpPr/>
          <p:nvPr/>
        </p:nvSpPr>
        <p:spPr>
          <a:xfrm>
            <a:off x="1419120" y="3672000"/>
            <a:ext cx="20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2"/>
          <p:cNvSpPr/>
          <p:nvPr/>
        </p:nvSpPr>
        <p:spPr>
          <a:xfrm>
            <a:off x="1758960" y="4456080"/>
            <a:ext cx="20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3"/>
          <p:cNvSpPr/>
          <p:nvPr/>
        </p:nvSpPr>
        <p:spPr>
          <a:xfrm>
            <a:off x="520560" y="5934240"/>
            <a:ext cx="20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539640" y="330120"/>
            <a:ext cx="72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s she wearing Mum’s sh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1111320" y="19000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es,s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1104840" y="306864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’s f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1258560" y="4295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m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536400" y="2484360"/>
            <a:ext cx="44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s she funn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507960" y="3710160"/>
            <a:ext cx="57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ess does she w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539640" y="330120"/>
            <a:ext cx="72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Have you got a white co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1111320" y="1900080"/>
            <a:ext cx="54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es,I have./No,I hav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1111320" y="306864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es,I do./No,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1275840" y="4295880"/>
            <a:ext cx="483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like yellow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favourite colour is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536400" y="2484360"/>
            <a:ext cx="44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Do you like 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507960" y="3710160"/>
            <a:ext cx="57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What’s you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vour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4437000"/>
            <a:ext cx="2154240" cy="160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67280" y="1844640"/>
            <a:ext cx="2523960" cy="252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59640" y="4265640"/>
            <a:ext cx="178416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1280" y="2205000"/>
            <a:ext cx="2520720" cy="190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05720" y="1773360"/>
            <a:ext cx="2438280" cy="234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476280"/>
            <a:ext cx="69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your favourite jacke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reen jacket is my favour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1711440"/>
            <a:ext cx="2419560" cy="2307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1557360"/>
            <a:ext cx="2189160" cy="164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4076640"/>
            <a:ext cx="2087640" cy="2003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3716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26920" y="1989000"/>
            <a:ext cx="1785960" cy="183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33336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your favourite ski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nk sk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1773360"/>
            <a:ext cx="2290680" cy="229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03280" y="371628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12000" y="4149720"/>
            <a:ext cx="2447640" cy="184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80360" y="1268280"/>
            <a:ext cx="2232000" cy="2068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620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your favourite T-shi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lack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260280"/>
            <a:ext cx="79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your favourite colou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81285118544734"/>
          <p:cNvPicPr/>
          <p:nvPr/>
        </p:nvPicPr>
        <p:blipFill>
          <a:blip r:embed="rId2"/>
          <a:stretch/>
        </p:blipFill>
        <p:spPr>
          <a:xfrm>
            <a:off x="237960" y="3284640"/>
            <a:ext cx="3494160" cy="262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A14D684228536122"/>
          <p:cNvPicPr/>
          <p:nvPr/>
        </p:nvPicPr>
        <p:blipFill>
          <a:blip r:embed="rId3"/>
          <a:stretch/>
        </p:blipFill>
        <p:spPr>
          <a:xfrm>
            <a:off x="237960" y="0"/>
            <a:ext cx="3635640" cy="2673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021200" y="2060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5874120" y="3076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4105440" y="4005360"/>
            <a:ext cx="57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6528600" y="398448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6497640" y="206064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1"/>
          <p:cNvSpPr/>
          <p:nvPr/>
        </p:nvSpPr>
        <p:spPr>
          <a:xfrm>
            <a:off x="6353280" y="283068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2"/>
          <p:cNvSpPr/>
          <p:nvPr/>
        </p:nvSpPr>
        <p:spPr>
          <a:xfrm flipV="1">
            <a:off x="5908680" y="3828960"/>
            <a:ext cx="88884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4"/>
          <p:cNvSpPr/>
          <p:nvPr/>
        </p:nvSpPr>
        <p:spPr>
          <a:xfrm>
            <a:off x="6489720" y="4805280"/>
            <a:ext cx="20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4033800" y="321480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       a turt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021200" y="2060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5874120" y="3076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4105440" y="4005360"/>
            <a:ext cx="57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527160" y="398448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6498720" y="206064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1"/>
          <p:cNvSpPr/>
          <p:nvPr/>
        </p:nvSpPr>
        <p:spPr>
          <a:xfrm>
            <a:off x="6353280" y="283068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2"/>
          <p:cNvSpPr/>
          <p:nvPr/>
        </p:nvSpPr>
        <p:spPr>
          <a:xfrm flipV="1">
            <a:off x="5908680" y="3828960"/>
            <a:ext cx="88884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4"/>
          <p:cNvSpPr/>
          <p:nvPr/>
        </p:nvSpPr>
        <p:spPr>
          <a:xfrm>
            <a:off x="6489720" y="4805280"/>
            <a:ext cx="20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4033800" y="321480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       a parr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00731694038267"/>
          <p:cNvPicPr/>
          <p:nvPr/>
        </p:nvPicPr>
        <p:blipFill>
          <a:blip r:embed="rId2"/>
          <a:stretch/>
        </p:blipFill>
        <p:spPr>
          <a:xfrm>
            <a:off x="468360" y="115920"/>
            <a:ext cx="2663640" cy="26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200869212834419"/>
          <p:cNvPicPr/>
          <p:nvPr/>
        </p:nvPicPr>
        <p:blipFill>
          <a:blip r:embed="rId3"/>
          <a:stretch/>
        </p:blipFill>
        <p:spPr>
          <a:xfrm>
            <a:off x="250920" y="3213000"/>
            <a:ext cx="288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4021200" y="2060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5874120" y="3076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4105440" y="4005360"/>
            <a:ext cx="57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526080" y="39844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497280" y="2060640"/>
            <a:ext cx="16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1"/>
          <p:cNvSpPr/>
          <p:nvPr/>
        </p:nvSpPr>
        <p:spPr>
          <a:xfrm>
            <a:off x="6353280" y="283068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2"/>
          <p:cNvSpPr/>
          <p:nvPr/>
        </p:nvSpPr>
        <p:spPr>
          <a:xfrm flipV="1">
            <a:off x="5908680" y="3828960"/>
            <a:ext cx="88884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4"/>
          <p:cNvSpPr/>
          <p:nvPr/>
        </p:nvSpPr>
        <p:spPr>
          <a:xfrm>
            <a:off x="6489720" y="4805280"/>
            <a:ext cx="20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4033800" y="321480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       a jack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bushman-jacket"/>
          <p:cNvPicPr/>
          <p:nvPr/>
        </p:nvPicPr>
        <p:blipFill>
          <a:blip r:embed="rId2"/>
          <a:stretch/>
        </p:blipFill>
        <p:spPr>
          <a:xfrm>
            <a:off x="673200" y="306360"/>
            <a:ext cx="2442960" cy="2373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BIzjgD-G4vQ7fM"/>
          <p:cNvPicPr/>
          <p:nvPr/>
        </p:nvPicPr>
        <p:blipFill>
          <a:blip r:embed="rId3"/>
          <a:stretch/>
        </p:blipFill>
        <p:spPr>
          <a:xfrm>
            <a:off x="712800" y="2646360"/>
            <a:ext cx="24368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4021200" y="2060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5874120" y="3076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4105440" y="4005360"/>
            <a:ext cx="57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527880" y="398448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6494400" y="2060640"/>
            <a:ext cx="12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k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1"/>
          <p:cNvSpPr/>
          <p:nvPr/>
        </p:nvSpPr>
        <p:spPr>
          <a:xfrm>
            <a:off x="6353280" y="283068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2"/>
          <p:cNvSpPr/>
          <p:nvPr/>
        </p:nvSpPr>
        <p:spPr>
          <a:xfrm flipV="1">
            <a:off x="5908680" y="3828960"/>
            <a:ext cx="88884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4"/>
          <p:cNvSpPr/>
          <p:nvPr/>
        </p:nvSpPr>
        <p:spPr>
          <a:xfrm>
            <a:off x="6489720" y="4805280"/>
            <a:ext cx="20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4033800" y="3214800"/>
            <a:ext cx="59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       a ski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20087301648255619"/>
          <p:cNvPicPr/>
          <p:nvPr/>
        </p:nvPicPr>
        <p:blipFill>
          <a:blip r:embed="rId2"/>
          <a:stretch/>
        </p:blipFill>
        <p:spPr>
          <a:xfrm>
            <a:off x="250920" y="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img1.mpdaogou.com/2007/7/7/8be1f9102c3c41a88c607cb598ff9f41.JPG"/>
          <p:cNvPicPr/>
          <p:nvPr/>
        </p:nvPicPr>
        <p:blipFill>
          <a:blip r:embed="rId3"/>
          <a:stretch/>
        </p:blipFill>
        <p:spPr>
          <a:xfrm>
            <a:off x="736560" y="2995560"/>
            <a:ext cx="183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0:31:53Z</dcterms:created>
  <dc:creator>hxsys</dc:creator>
  <dc:description/>
  <cp:keywords/>
  <dc:language>en-US</dc:language>
  <cp:lastModifiedBy>宋玉交</cp:lastModifiedBy>
  <cp:lastPrinted>1899-12-30T00:00:00Z</cp:lastPrinted>
  <dcterms:modified xsi:type="dcterms:W3CDTF">2014-01-07T02:09:22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NXTAG2">
    <vt:lpwstr>0008005405000000000001024120</vt:lpwstr>
  </property>
</Properties>
</file>