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png" ContentType="image/png"/>
  <Override PartName="/ppt/media/image21.jpeg" ContentType="image/jpeg"/>
  <Override PartName="/ppt/media/image17.gif" ContentType="image/gif"/>
  <Override PartName="/ppt/media/image23.jpeg" ContentType="image/jpeg"/>
  <Override PartName="/ppt/media/image2.jpeg" ContentType="image/jpeg"/>
  <Override PartName="/ppt/media/image14.jpeg" ContentType="image/jpeg"/>
  <Override PartName="/ppt/media/image1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CBD4-6838-49FE-9F6E-B55769AF3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5751-3CFB-4CDF-B3C0-FAF581B0A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21D0-C6CA-4E2F-B546-56A0C05E5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D99C-5265-4167-9E53-47B35DBD9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FE19-EA9E-4F0D-9C44-04DDB1A43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CFBC-1791-4AFD-A1BE-332ABCA2E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A159-D129-4BA0-9571-7B3B0395A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C747-095E-4B51-A02C-D49E41C94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5ACE-A132-4606-9AFE-D9CB9013D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045B-9618-4056-9F41-B694CF20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D145-A633-4EDD-83E7-7F203CE2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53E4-6E57-4374-B3B0-D3B7A2C7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1A764-ECC0-4029-B50C-8521217A0C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981080" y="2362320"/>
            <a:ext cx="579132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Module 4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Unit 2 He'll be an astronout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838080" y="762120"/>
            <a:ext cx="7315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外研版（一起）三年级英语下册课件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990720" y="1295280"/>
            <a:ext cx="77724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Comic Sans MS"/>
              </a:rPr>
              <a:t>A: Hello! XX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Comic Sans MS"/>
              </a:rPr>
              <a:t>B: Hello! XX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Comic Sans MS"/>
              </a:rPr>
              <a:t>A: What will you be in the futu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Comic Sans MS"/>
              </a:rPr>
              <a:t>B: Maybe I’ll be a …. I like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Comic Sans MS"/>
              </a:rPr>
              <a:t>A: What about yo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Comic Sans MS"/>
              </a:rPr>
              <a:t>B: Mayby I’ll be a …. I like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0"/>
            <a:ext cx="815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99ff"/>
                </a:solidFill>
                <a:latin typeface="Myriad Web"/>
              </a:rPr>
              <a:t>Task 2: Talk about your dream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819520" y="990720"/>
            <a:ext cx="3149640" cy="3376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3200400" y="4952880"/>
            <a:ext cx="2819520" cy="8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astronaut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048120" y="762120"/>
            <a:ext cx="2789280" cy="36385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2666880" y="4952880"/>
            <a:ext cx="3581640" cy="8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spaceship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352680" y="1143000"/>
            <a:ext cx="2602080" cy="3257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3886200" y="5029200"/>
            <a:ext cx="1447920" cy="94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fly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657600" cy="28306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3048120" y="4572000"/>
            <a:ext cx="3047760" cy="11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fly a kite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048120" y="1143000"/>
            <a:ext cx="3124080" cy="31240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2743200" y="4876920"/>
            <a:ext cx="38098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go to the moon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1600200" y="1905120"/>
            <a:ext cx="3772080" cy="18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Goodby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066680" y="1676520"/>
            <a:ext cx="3505320" cy="86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in the future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943600" y="1828800"/>
            <a:ext cx="20574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在未来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685800"/>
            <a:ext cx="2743200" cy="6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Let's review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" name=""/>
          <p:cNvSpPr/>
          <p:nvPr/>
        </p:nvSpPr>
        <p:spPr>
          <a:xfrm>
            <a:off x="216000" y="3048120"/>
            <a:ext cx="8928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What will you be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920" y="5029200"/>
            <a:ext cx="910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Maybe I’ll be a/an…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5638680" cy="5257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219320" y="228600"/>
            <a:ext cx="5638680" cy="5251320"/>
          </a:xfrm>
          <a:prstGeom prst="rect">
            <a:avLst/>
          </a:prstGeom>
          <a:ln w="0">
            <a:noFill/>
          </a:ln>
        </p:spPr>
      </p:pic>
      <p:grpSp>
        <p:nvGrpSpPr>
          <p:cNvPr id="50" name=""/>
          <p:cNvGrpSpPr/>
          <p:nvPr/>
        </p:nvGrpSpPr>
        <p:grpSpPr>
          <a:xfrm>
            <a:off x="4419720" y="4876560"/>
            <a:ext cx="4419360" cy="1600200"/>
            <a:chOff x="4419720" y="4876560"/>
            <a:chExt cx="4419360" cy="1600200"/>
          </a:xfrm>
        </p:grpSpPr>
        <p:sp>
          <p:nvSpPr>
            <p:cNvPr id="51" name=""/>
            <p:cNvSpPr/>
            <p:nvPr/>
          </p:nvSpPr>
          <p:spPr>
            <a:xfrm flipH="1" rot="10800000">
              <a:off x="4419720" y="4876560"/>
              <a:ext cx="4419360" cy="1600200"/>
            </a:xfrm>
            <a:prstGeom prst="wedgeRoundRectCallout">
              <a:avLst>
                <a:gd name="adj1" fmla="val -43680"/>
                <a:gd name="adj2" fmla="val 98509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5600" y="5378400"/>
              <a:ext cx="4240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I’ll be a policeman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4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box(out)" transition="out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143000" y="152280"/>
            <a:ext cx="4800600" cy="6553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187280" y="152280"/>
            <a:ext cx="4756320" cy="6553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 flipH="1" rot="10800000">
            <a:off x="4419720" y="4876560"/>
            <a:ext cx="3657600" cy="1600200"/>
          </a:xfrm>
          <a:prstGeom prst="wedgeRoundRectCallout">
            <a:avLst>
              <a:gd name="adj1" fmla="val -42407"/>
              <a:gd name="adj2" fmla="val 985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5600" y="5378400"/>
            <a:ext cx="340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’ll be a doct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523880" y="609480"/>
            <a:ext cx="6705720" cy="5029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981000" y="609480"/>
            <a:ext cx="3133800" cy="502920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4343040" y="4876560"/>
            <a:ext cx="4343400" cy="1600200"/>
            <a:chOff x="4343040" y="4876560"/>
            <a:chExt cx="4343400" cy="1600200"/>
          </a:xfrm>
        </p:grpSpPr>
        <p:sp>
          <p:nvSpPr>
            <p:cNvPr id="60" name=""/>
            <p:cNvSpPr/>
            <p:nvPr/>
          </p:nvSpPr>
          <p:spPr>
            <a:xfrm rot="10800000">
              <a:off x="4343040" y="4876560"/>
              <a:ext cx="4343400" cy="1600200"/>
            </a:xfrm>
            <a:prstGeom prst="wedgeRoundRectCallout">
              <a:avLst>
                <a:gd name="adj1" fmla="val 19407"/>
                <a:gd name="adj2" fmla="val 105949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575960" y="5378400"/>
              <a:ext cx="4062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I’ll be a footballer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422360" y="476280"/>
            <a:ext cx="6324480" cy="4724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371600" y="457200"/>
            <a:ext cx="6350040" cy="4762440"/>
          </a:xfrm>
          <a:prstGeom prst="rect">
            <a:avLst/>
          </a:prstGeom>
          <a:ln w="0">
            <a:noFill/>
          </a:ln>
        </p:spPr>
      </p:pic>
      <p:grpSp>
        <p:nvGrpSpPr>
          <p:cNvPr id="64" name=""/>
          <p:cNvGrpSpPr/>
          <p:nvPr/>
        </p:nvGrpSpPr>
        <p:grpSpPr>
          <a:xfrm>
            <a:off x="2514240" y="5105160"/>
            <a:ext cx="4343400" cy="1600200"/>
            <a:chOff x="2514240" y="5105160"/>
            <a:chExt cx="4343400" cy="1600200"/>
          </a:xfrm>
        </p:grpSpPr>
        <p:sp>
          <p:nvSpPr>
            <p:cNvPr id="65" name=""/>
            <p:cNvSpPr/>
            <p:nvPr/>
          </p:nvSpPr>
          <p:spPr>
            <a:xfrm rot="10800000">
              <a:off x="2514240" y="5105160"/>
              <a:ext cx="4343400" cy="1600200"/>
            </a:xfrm>
            <a:prstGeom prst="wedgeRoundRectCallout">
              <a:avLst>
                <a:gd name="adj1" fmla="val 19407"/>
                <a:gd name="adj2" fmla="val 105949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6440" y="5607000"/>
              <a:ext cx="3225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I’ll be a writer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38080" y="228600"/>
            <a:ext cx="4203720" cy="63500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838080" y="228600"/>
            <a:ext cx="4172040" cy="5410080"/>
          </a:xfrm>
          <a:prstGeom prst="rect">
            <a:avLst/>
          </a:prstGeom>
          <a:ln w="0">
            <a:noFill/>
          </a:ln>
        </p:spPr>
      </p:pic>
      <p:grpSp>
        <p:nvGrpSpPr>
          <p:cNvPr id="69" name=""/>
          <p:cNvGrpSpPr/>
          <p:nvPr/>
        </p:nvGrpSpPr>
        <p:grpSpPr>
          <a:xfrm>
            <a:off x="4495320" y="3504960"/>
            <a:ext cx="4343400" cy="1600200"/>
            <a:chOff x="4495320" y="3504960"/>
            <a:chExt cx="4343400" cy="1600200"/>
          </a:xfrm>
        </p:grpSpPr>
        <p:sp>
          <p:nvSpPr>
            <p:cNvPr id="70" name=""/>
            <p:cNvSpPr/>
            <p:nvPr/>
          </p:nvSpPr>
          <p:spPr>
            <a:xfrm rot="10800000">
              <a:off x="4495320" y="3504960"/>
              <a:ext cx="4343400" cy="1600200"/>
            </a:xfrm>
            <a:prstGeom prst="wedgeRoundRectCallout">
              <a:avLst>
                <a:gd name="adj1" fmla="val 63740"/>
                <a:gd name="adj2" fmla="val 128768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727520" y="4006800"/>
              <a:ext cx="3759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I’ll be a film star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6781680" y="6018120"/>
            <a:ext cx="1981440" cy="8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019920" y="3657600"/>
            <a:ext cx="2498760" cy="25146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380880" y="1066680"/>
            <a:ext cx="7848720" cy="358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What will you be in the future?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1447920" y="2362320"/>
            <a:ext cx="426708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police station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dz</cp:lastModifiedBy>
  <dcterms:modified xsi:type="dcterms:W3CDTF">2012-06-14T03:58:14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