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C99-7C1B-43B1-B6CE-E81D7FBE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1C2-2978-4484-8CF6-58199ED1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738-BC9E-49D3-92CD-60969417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05C-3C67-4A26-B397-30EF997D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1D8-D233-4FE4-9EA3-53FBBD5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5F3-C458-49A4-B995-4B9E2B96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8A4-7E34-4733-8AED-85CBA7AD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BBA-DDDA-4EE2-A0F6-FA4EDA6F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AA7-0146-4348-88B4-F919887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F94-81D3-4671-8FF3-C6077E1B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17E-E69C-4E04-8D8D-0AFC11B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3DD-486B-4968-BF9B-2F08C876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AE42-B9D9-4DAA-9639-3627B3B1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ea and fish"/>
          <p:cNvPicPr/>
          <p:nvPr/>
        </p:nvPicPr>
        <p:blipFill>
          <a:blip r:embed="rId1"/>
          <a:srcRect l="0" t="0" r="0" b="6649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507400" y="3143160"/>
            <a:ext cx="6171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Module 9 Uni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Tomorrow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is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Friday.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24000" y="59500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14760" y="12859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研版（一起）三年级英语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976680" y="858960"/>
            <a:ext cx="59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day is that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320" y="3451320"/>
            <a:ext cx="78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n will they have a picn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530000" y="1809720"/>
            <a:ext cx="34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Thurs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42880" y="43164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Satur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52000" y="2060640"/>
            <a:ext cx="67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Listen and repeat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pleas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miky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830160" y="235080"/>
            <a:ext cx="76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Let’s play a guessing ga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181440" y="2227320"/>
            <a:ext cx="8988480" cy="2509920"/>
            <a:chOff x="181440" y="2227320"/>
            <a:chExt cx="8988480" cy="2509920"/>
          </a:xfrm>
        </p:grpSpPr>
        <p:sp>
          <p:nvSpPr>
            <p:cNvPr id="91" name="Text Box 4"/>
            <p:cNvSpPr/>
            <p:nvPr/>
          </p:nvSpPr>
          <p:spPr>
            <a:xfrm>
              <a:off x="181440" y="2997360"/>
              <a:ext cx="4395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Will you _______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Will you take ____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5942880" y="2227320"/>
              <a:ext cx="32270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Yes, I will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(No, I won’t.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189000"/>
            <a:ext cx="867564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Make a weekend 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What are you going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We’re going to 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What will you ta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I will take my 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1488240" y="2924280"/>
            <a:ext cx="65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Thanks for joining 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picn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179280" y="260280"/>
            <a:ext cx="1152720" cy="792360"/>
          </a:xfrm>
          <a:custGeom>
            <a:avLst/>
            <a:gdLst>
              <a:gd name="textAreaLeft" fmla="*/ 51120 w 1152720"/>
              <a:gd name="textAreaRight" fmla="*/ 1101600 w 1152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1419" h="21600">
                <a:moveTo>
                  <a:pt x="0" y="0"/>
                </a:moveTo>
                <a:lnTo>
                  <a:pt x="31419" y="0"/>
                </a:lnTo>
                <a:lnTo>
                  <a:pt x="31419" y="21600"/>
                </a:lnTo>
                <a:lnTo>
                  <a:pt x="0" y="21600"/>
                </a:lnTo>
                <a:close/>
              </a:path>
              <a:path fill="lightenLess" w="31419" h="21600">
                <a:moveTo>
                  <a:pt x="0" y="0"/>
                </a:moveTo>
                <a:lnTo>
                  <a:pt x="31419" y="0"/>
                </a:lnTo>
                <a:lnTo>
                  <a:pt x="30019" y="1400"/>
                </a:lnTo>
                <a:lnTo>
                  <a:pt x="1400" y="1400"/>
                </a:lnTo>
                <a:close/>
              </a:path>
              <a:path fill="darken" w="31419" h="21600">
                <a:moveTo>
                  <a:pt x="31419" y="0"/>
                </a:moveTo>
                <a:lnTo>
                  <a:pt x="31419" y="21600"/>
                </a:lnTo>
                <a:lnTo>
                  <a:pt x="30019" y="20200"/>
                </a:lnTo>
                <a:lnTo>
                  <a:pt x="30019" y="1400"/>
                </a:lnTo>
                <a:close/>
              </a:path>
              <a:path fill="darkenLess" w="31419" h="21600">
                <a:moveTo>
                  <a:pt x="31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9" y="20200"/>
                </a:lnTo>
                <a:close/>
              </a:path>
              <a:path fill="lighten" w="31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19" h="21600">
                <a:moveTo>
                  <a:pt x="8703" y="3794"/>
                </a:moveTo>
                <a:lnTo>
                  <a:pt x="22716" y="10800"/>
                </a:lnTo>
                <a:lnTo>
                  <a:pt x="87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kite 1"/>
          <p:cNvPicPr/>
          <p:nvPr/>
        </p:nvPicPr>
        <p:blipFill>
          <a:blip r:embed="rId1"/>
          <a:stretch/>
        </p:blipFill>
        <p:spPr>
          <a:xfrm>
            <a:off x="2035080" y="214200"/>
            <a:ext cx="5073840" cy="6429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179280" y="26028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6471" y="3794"/>
                </a:moveTo>
                <a:lnTo>
                  <a:pt x="20484" y="10800"/>
                </a:lnTo>
                <a:lnTo>
                  <a:pt x="64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football 1"/>
          <p:cNvPicPr/>
          <p:nvPr/>
        </p:nvPicPr>
        <p:blipFill>
          <a:blip r:embed="rId2"/>
          <a:stretch/>
        </p:blipFill>
        <p:spPr>
          <a:xfrm>
            <a:off x="1476360" y="1197000"/>
            <a:ext cx="4968720" cy="4968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>
            <a:off x="250920" y="189000"/>
            <a:ext cx="1187280" cy="792000"/>
          </a:xfrm>
          <a:custGeom>
            <a:avLst/>
            <a:gdLst>
              <a:gd name="textAreaLeft" fmla="*/ 51120 w 1187280"/>
              <a:gd name="textAreaRight" fmla="*/ 1136160 w 1187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41200" y="620640"/>
            <a:ext cx="8898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et’s s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’re going to 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have a picnic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ll you take your kite tomorrow?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, I w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ll you take your ball tomorrow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, I w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28560" y="2714760"/>
            <a:ext cx="461484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ood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1478880" y="333360"/>
            <a:ext cx="29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u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549440" y="1916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Fri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852720" y="2637000"/>
            <a:ext cx="32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853080" y="126828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atur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28720" y="530064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357800" y="443700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693800" y="350028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Wedn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478880" y="333360"/>
            <a:ext cx="29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u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549440" y="1916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Fri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852720" y="2637000"/>
            <a:ext cx="32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853080" y="126828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atur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28720" y="530064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357800" y="443700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93800" y="350028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Wedn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01440" y="333360"/>
            <a:ext cx="761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Tomorrow is Satur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What will you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"/>
          <p:cNvGrpSpPr/>
          <p:nvPr/>
        </p:nvGrpSpPr>
        <p:grpSpPr>
          <a:xfrm>
            <a:off x="901800" y="3429000"/>
            <a:ext cx="6391080" cy="2067840"/>
            <a:chOff x="901800" y="3429000"/>
            <a:chExt cx="6391080" cy="2067840"/>
          </a:xfrm>
        </p:grpSpPr>
        <p:pic>
          <p:nvPicPr>
            <p:cNvPr id="61" name="Picture 6" descr="smiling face 1"/>
            <p:cNvPicPr/>
            <p:nvPr/>
          </p:nvPicPr>
          <p:blipFill>
            <a:blip r:embed="rId1"/>
            <a:stretch/>
          </p:blipFill>
          <p:spPr>
            <a:xfrm>
              <a:off x="3565440" y="342900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7"/>
            <p:cNvSpPr/>
            <p:nvPr/>
          </p:nvSpPr>
          <p:spPr>
            <a:xfrm>
              <a:off x="901800" y="4579920"/>
              <a:ext cx="639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cc"/>
                  </a:solidFill>
                  <a:latin typeface="Arial"/>
                </a:rPr>
                <a:t>That’s a good idea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sleeping"/>
          <p:cNvPicPr/>
          <p:nvPr/>
        </p:nvPicPr>
        <p:blipFill>
          <a:blip r:embed="rId1"/>
          <a:srcRect l="12316" t="11690" r="13417" b="11690"/>
          <a:stretch/>
        </p:blipFill>
        <p:spPr>
          <a:xfrm>
            <a:off x="3203640" y="333360"/>
            <a:ext cx="4824360" cy="5473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hangsha Zoo"/>
          <p:cNvPicPr/>
          <p:nvPr/>
        </p:nvPicPr>
        <p:blipFill>
          <a:blip r:embed="rId2"/>
          <a:stretch/>
        </p:blipFill>
        <p:spPr>
          <a:xfrm>
            <a:off x="1116000" y="549360"/>
            <a:ext cx="6840720" cy="498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park 2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picnic 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a boy plays football"/>
          <p:cNvPicPr/>
          <p:nvPr/>
        </p:nvPicPr>
        <p:blipFill>
          <a:blip r:embed="rId5"/>
          <a:stretch/>
        </p:blipFill>
        <p:spPr>
          <a:xfrm>
            <a:off x="611280" y="404640"/>
            <a:ext cx="4216320" cy="614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PLAY BASKETBALL"/>
          <p:cNvPicPr/>
          <p:nvPr/>
        </p:nvPicPr>
        <p:blipFill>
          <a:blip r:embed="rId6"/>
          <a:stretch/>
        </p:blipFill>
        <p:spPr>
          <a:xfrm>
            <a:off x="900000" y="333360"/>
            <a:ext cx="3978360" cy="590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swimming"/>
          <p:cNvPicPr/>
          <p:nvPr/>
        </p:nvPicPr>
        <p:blipFill>
          <a:blip r:embed="rId7"/>
          <a:srcRect l="20707" t="0" r="24482" b="6795"/>
          <a:stretch/>
        </p:blipFill>
        <p:spPr>
          <a:xfrm>
            <a:off x="1547640" y="333360"/>
            <a:ext cx="417672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picnic"/>
          <p:cNvPicPr/>
          <p:nvPr/>
        </p:nvPicPr>
        <p:blipFill>
          <a:blip r:embed="rId1"/>
          <a:srcRect l="8659" t="17695" r="0" b="20928"/>
          <a:stretch/>
        </p:blipFill>
        <p:spPr>
          <a:xfrm>
            <a:off x="0" y="1844640"/>
            <a:ext cx="9144000" cy="4608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86880" y="333360"/>
            <a:ext cx="78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’re going to have a picn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 will tak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71600" y="1890720"/>
            <a:ext cx="60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ater   food     frui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71960" y="2637000"/>
            <a:ext cx="779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ts      books          sweets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kites      balls          toys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611280" y="1916280"/>
            <a:ext cx="555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Let’s listen t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he dialogu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680" y="90792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What are they going to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20" y="270828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 Will Amy take her kite tomorr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240" y="4437000"/>
            <a:ext cx="79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. Will Amy take her ball tomorr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72320" y="170028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are going to have a pic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14520" y="357336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, she wo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14520" y="522936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, she wo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-720" y="1989000"/>
            <a:ext cx="66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Let’s listen to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dialogue  agai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7:36:22Z</dcterms:created>
  <dc:creator>微软用户</dc:creator>
  <dc:description/>
  <dc:language>en-US</dc:language>
  <cp:lastModifiedBy>ydz</cp:lastModifiedBy>
  <dcterms:modified xsi:type="dcterms:W3CDTF">2012-06-14T03:45:34Z</dcterms:modified>
  <cp:revision>116</cp:revision>
  <dc:subject/>
  <dc:title>幻灯片 1</dc:title>
</cp:coreProperties>
</file>