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5.gif" ContentType="image/gif"/>
  <Override PartName="/ppt/media/image27.png" ContentType="image/png"/>
  <Override PartName="/ppt/media/image4.gif" ContentType="image/gif"/>
  <Override PartName="/ppt/media/image24.gif" ContentType="image/gif"/>
  <Override PartName="/ppt/media/image32.jpeg" ContentType="image/jpeg"/>
  <Override PartName="/ppt/media/image22.png" ContentType="image/png"/>
  <Override PartName="/ppt/media/image21.gif" ContentType="image/gif"/>
  <Override PartName="/ppt/media/image6.png" ContentType="image/png"/>
  <Override PartName="/ppt/media/image31.png" ContentType="image/png"/>
  <Override PartName="/ppt/media/image26.gif" ContentType="image/gif"/>
  <Override PartName="/ppt/media/image20.jpeg" ContentType="image/jpeg"/>
  <Override PartName="/ppt/media/image12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9.png" ContentType="image/png"/>
  <Override PartName="/ppt/media/image34.png" ContentType="image/png"/>
  <Override PartName="/ppt/media/image30.jpeg" ContentType="image/jpeg"/>
  <Override PartName="/ppt/media/image29.jpeg" ContentType="image/jpeg"/>
  <Override PartName="/ppt/media/image33.gif" ContentType="image/gif"/>
  <Override PartName="/ppt/media/image15.png" ContentType="image/png"/>
  <Override PartName="/ppt/media/image18.jpeg" ContentType="image/jpeg"/>
  <Override PartName="/ppt/media/image5.jpeg" ContentType="image/jpeg"/>
  <Override PartName="/ppt/media/image8.png" ContentType="image/png"/>
  <Override PartName="/ppt/media/image36.gif" ContentType="image/gif"/>
  <Override PartName="/ppt/media/chimes.wav" ContentType="audio/x-wav"/>
  <Override PartName="/ppt/media/image16.jpeg" ContentType="image/jpeg"/>
  <Override PartName="/ppt/media/image3.png" ContentType="image/png"/>
  <Override PartName="/ppt/media/image17.jpeg" ContentType="image/jpeg"/>
  <Override PartName="/ppt/media/image23.gif" ContentType="image/gif"/>
  <Override PartName="/ppt/media/image2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13.png" ContentType="image/png"/>
  <Override PartName="/ppt/media/image14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EA9C-A226-49F2-87A9-68A796985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6E12-ABC2-4700-B444-13F3C0A2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E4C0-81BA-4D3A-BE59-8CE7730E3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B906-0693-4BEB-9627-3FF4A11ED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CB9B-5D53-4AB7-A0B7-FB4E7215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9F20-DE14-478A-BAC6-674306FF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0F94-E3DA-4FD8-B1D9-756A0C77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8084-1C70-44A0-A788-92C9E49D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0E0D-D290-466E-B74B-1A67323F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5A7E-6A37-4FF6-8A40-4E1651A9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21B4-931E-48BC-B338-723C553C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6819-053B-447F-8DFC-E46C0502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27E6-7D7C-4A2C-86C7-4019CDFA68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image" Target="../media/image24.gif"/><Relationship Id="rId7" Type="http://schemas.openxmlformats.org/officeDocument/2006/relationships/image" Target="../media/image24.gif"/><Relationship Id="rId8" Type="http://schemas.openxmlformats.org/officeDocument/2006/relationships/image" Target="../media/image25.gif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" Target="slide23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35.jpeg"/><Relationship Id="rId4" Type="http://schemas.openxmlformats.org/officeDocument/2006/relationships/image" Target="../media/image36.gif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539640" y="3159000"/>
            <a:ext cx="8064360" cy="3699000"/>
            <a:chOff x="539640" y="3159000"/>
            <a:chExt cx="8064360" cy="369900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539640" y="3159000"/>
              <a:ext cx="8064360" cy="369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1724040" y="3822120"/>
              <a:ext cx="5542560" cy="20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Unit 1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I get up at seven o’clock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"/>
          <p:cNvSpPr txBox="1"/>
          <p:nvPr/>
        </p:nvSpPr>
        <p:spPr>
          <a:xfrm>
            <a:off x="1187280" y="476280"/>
            <a:ext cx="6400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（外研版）三年级英语下册课件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411280" y="1628640"/>
            <a:ext cx="4176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Module 5 Tim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2209680" y="1052640"/>
            <a:ext cx="6107400" cy="43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8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09680" y="1125360"/>
            <a:ext cx="6107400" cy="43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209680" y="1066680"/>
            <a:ext cx="610740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209680" y="1125360"/>
            <a:ext cx="6178680" cy="42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209680" y="1125360"/>
            <a:ext cx="6178680" cy="43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33520" y="1143000"/>
            <a:ext cx="342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40" y="394668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886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86400" y="198108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get u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zh-CN" sz="5400" spc="-1" strike="noStrike">
                <a:solidFill>
                  <a:srgbClr val="ff9900"/>
                </a:solidFill>
                <a:latin typeface="Times New Roman"/>
              </a:rPr>
              <a:t>起 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4679640" cy="576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85800" y="0"/>
            <a:ext cx="7391520" cy="5181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221120" y="5334120"/>
            <a:ext cx="353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7920" y="541008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go to school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上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98560" y="543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5840" y="5486400"/>
            <a:ext cx="32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  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63840" cy="21718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3348000" y="981000"/>
            <a:ext cx="5796000" cy="453564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1440" y="2816280"/>
            <a:ext cx="3362760" cy="1831320"/>
            <a:chOff x="1440" y="2816280"/>
            <a:chExt cx="3362760" cy="1831320"/>
          </a:xfrm>
        </p:grpSpPr>
        <p:sp>
          <p:nvSpPr>
            <p:cNvPr id="90" name=""/>
            <p:cNvSpPr/>
            <p:nvPr/>
          </p:nvSpPr>
          <p:spPr>
            <a:xfrm>
              <a:off x="1440" y="2816280"/>
              <a:ext cx="3362760" cy="18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cc0066"/>
                  </a:solidFill>
                  <a:latin typeface="Times New Roman"/>
                </a:rPr>
                <a:t>have lunch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cc0066"/>
                  </a:solidFill>
                  <a:latin typeface="Times New Roman"/>
                </a:rPr>
                <a:t>吃午饭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9440" y="3228840"/>
              <a:ext cx="18396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43600" cy="3484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905120" y="4572000"/>
            <a:ext cx="5715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Times New Roman"/>
              </a:rPr>
              <a:t>go  home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回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2916360" y="5013360"/>
            <a:ext cx="3733560" cy="1739880"/>
            <a:chOff x="2916360" y="5013360"/>
            <a:chExt cx="3733560" cy="1739880"/>
          </a:xfrm>
        </p:grpSpPr>
        <p:sp>
          <p:nvSpPr>
            <p:cNvPr id="95" name=""/>
            <p:cNvSpPr/>
            <p:nvPr/>
          </p:nvSpPr>
          <p:spPr>
            <a:xfrm>
              <a:off x="2916360" y="5013360"/>
              <a:ext cx="37335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3300"/>
                  </a:solidFill>
                  <a:latin typeface="Times New Roman"/>
                </a:rPr>
                <a:t>watch TV </a:t>
              </a:r>
              <a:r>
                <a:rPr b="0" lang="zh-CN" sz="5400" spc="-1" strike="noStrike">
                  <a:solidFill>
                    <a:srgbClr val="ff3300"/>
                  </a:solidFill>
                  <a:latin typeface="Times New Roman"/>
                </a:rPr>
                <a:t>看电视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5840" y="5927400"/>
              <a:ext cx="1828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828800" y="826920"/>
            <a:ext cx="5486400" cy="37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250920" y="1125360"/>
            <a:ext cx="4247280" cy="4878720"/>
            <a:chOff x="250920" y="1125360"/>
            <a:chExt cx="4247280" cy="4878720"/>
          </a:xfrm>
        </p:grpSpPr>
        <p:pic>
          <p:nvPicPr>
            <p:cNvPr id="48" name="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50920" y="1125360"/>
              <a:ext cx="4247280" cy="41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741240" y="5361480"/>
              <a:ext cx="109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7: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1280" y="260280"/>
            <a:ext cx="485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ff"/>
                </a:solidFill>
                <a:latin typeface="Times New Roman"/>
              </a:rPr>
              <a:t>What time is i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88000" y="5373720"/>
            <a:ext cx="538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Times New Roman"/>
              </a:rPr>
              <a:t>It’s seven o’clock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732720" y="476280"/>
            <a:ext cx="1652400" cy="170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c64"/>
            </a:gs>
            <a:gs pos="50000">
              <a:srgbClr val="ffffff"/>
            </a:gs>
            <a:gs pos="100000">
              <a:srgbClr val="f8bc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5113080" cy="5257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652360" y="2637000"/>
            <a:ext cx="284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go to b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5400" spc="-1" strike="noStrike">
                <a:solidFill>
                  <a:srgbClr val="00cc66"/>
                </a:solidFill>
                <a:latin typeface="Times New Roman"/>
              </a:rPr>
              <a:t>睡  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781680" y="5791320"/>
            <a:ext cx="1981440" cy="83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fb1"/>
            </a:gs>
            <a:gs pos="100000">
              <a:srgbClr val="c6e7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4360" y="76320"/>
            <a:ext cx="7127640" cy="55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get  up            go  to  schoo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ff3399"/>
                </a:solidFill>
                <a:latin typeface="Times New Roman"/>
              </a:rPr>
              <a:t>起   床           上    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have  lunch    go  ho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Times New Roman"/>
              </a:rPr>
              <a:t>吃午饭             回   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watch   TV     go  to  b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Times New Roman"/>
              </a:rPr>
              <a:t>看电视           上床睡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429264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1082541640" descr=""/>
          <p:cNvPicPr/>
          <p:nvPr/>
        </p:nvPicPr>
        <p:blipFill>
          <a:blip r:embed="rId1"/>
          <a:stretch/>
        </p:blipFill>
        <p:spPr>
          <a:xfrm>
            <a:off x="142920" y="5535720"/>
            <a:ext cx="8750160" cy="1206360"/>
          </a:xfrm>
          <a:prstGeom prst="rect">
            <a:avLst/>
          </a:prstGeom>
          <a:ln w="0">
            <a:noFill/>
          </a:ln>
        </p:spPr>
      </p:pic>
      <p:pic>
        <p:nvPicPr>
          <p:cNvPr id="104" name="91" descr=""/>
          <p:cNvPicPr/>
          <p:nvPr/>
        </p:nvPicPr>
        <p:blipFill>
          <a:blip r:embed="rId2"/>
          <a:stretch/>
        </p:blipFill>
        <p:spPr>
          <a:xfrm>
            <a:off x="4952880" y="2938320"/>
            <a:ext cx="239760" cy="154080"/>
          </a:xfrm>
          <a:prstGeom prst="rect">
            <a:avLst/>
          </a:prstGeom>
          <a:ln w="0">
            <a:noFill/>
          </a:ln>
        </p:spPr>
      </p:pic>
      <p:pic>
        <p:nvPicPr>
          <p:cNvPr id="105" name="91" descr=""/>
          <p:cNvPicPr/>
          <p:nvPr/>
        </p:nvPicPr>
        <p:blipFill>
          <a:blip r:embed="rId3"/>
          <a:stretch/>
        </p:blipFill>
        <p:spPr>
          <a:xfrm>
            <a:off x="762120" y="3243240"/>
            <a:ext cx="239760" cy="154080"/>
          </a:xfrm>
          <a:prstGeom prst="rect">
            <a:avLst/>
          </a:prstGeom>
          <a:ln w="0">
            <a:noFill/>
          </a:ln>
        </p:spPr>
      </p:pic>
      <p:pic>
        <p:nvPicPr>
          <p:cNvPr id="106" name="91" descr=""/>
          <p:cNvPicPr/>
          <p:nvPr/>
        </p:nvPicPr>
        <p:blipFill>
          <a:blip r:embed="rId4"/>
          <a:stretch/>
        </p:blipFill>
        <p:spPr>
          <a:xfrm>
            <a:off x="977760" y="3459240"/>
            <a:ext cx="239760" cy="154080"/>
          </a:xfrm>
          <a:prstGeom prst="rect">
            <a:avLst/>
          </a:prstGeom>
          <a:ln w="0">
            <a:noFill/>
          </a:ln>
        </p:spPr>
      </p:pic>
      <p:pic>
        <p:nvPicPr>
          <p:cNvPr id="107" name="91" descr=""/>
          <p:cNvPicPr/>
          <p:nvPr/>
        </p:nvPicPr>
        <p:blipFill>
          <a:blip r:embed="rId5"/>
          <a:stretch/>
        </p:blipFill>
        <p:spPr>
          <a:xfrm>
            <a:off x="1193760" y="3675240"/>
            <a:ext cx="239760" cy="153720"/>
          </a:xfrm>
          <a:prstGeom prst="rect">
            <a:avLst/>
          </a:prstGeom>
          <a:ln w="0">
            <a:noFill/>
          </a:ln>
        </p:spPr>
      </p:pic>
      <p:pic>
        <p:nvPicPr>
          <p:cNvPr id="108" name="91" descr=""/>
          <p:cNvPicPr/>
          <p:nvPr/>
        </p:nvPicPr>
        <p:blipFill>
          <a:blip r:embed="rId6"/>
          <a:stretch/>
        </p:blipFill>
        <p:spPr>
          <a:xfrm>
            <a:off x="2987640" y="2146320"/>
            <a:ext cx="239760" cy="154080"/>
          </a:xfrm>
          <a:prstGeom prst="rect">
            <a:avLst/>
          </a:prstGeom>
          <a:ln w="0">
            <a:noFill/>
          </a:ln>
        </p:spPr>
      </p:pic>
      <p:pic>
        <p:nvPicPr>
          <p:cNvPr id="109" name="91" descr=""/>
          <p:cNvPicPr/>
          <p:nvPr/>
        </p:nvPicPr>
        <p:blipFill>
          <a:blip r:embed="rId7"/>
          <a:stretch/>
        </p:blipFill>
        <p:spPr>
          <a:xfrm>
            <a:off x="5292720" y="2708280"/>
            <a:ext cx="239760" cy="154080"/>
          </a:xfrm>
          <a:prstGeom prst="rect">
            <a:avLst/>
          </a:prstGeom>
          <a:ln w="0">
            <a:noFill/>
          </a:ln>
        </p:spPr>
      </p:pic>
      <p:pic>
        <p:nvPicPr>
          <p:cNvPr id="110" name="22" descr=""/>
          <p:cNvPicPr/>
          <p:nvPr/>
        </p:nvPicPr>
        <p:blipFill>
          <a:blip r:embed="rId8"/>
          <a:stretch/>
        </p:blipFill>
        <p:spPr>
          <a:xfrm>
            <a:off x="7620120" y="304920"/>
            <a:ext cx="1066680" cy="121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4f7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点击放大"/>
          <p:cNvPicPr/>
          <p:nvPr/>
        </p:nvPicPr>
        <p:blipFill>
          <a:blip r:embed="rId1"/>
          <a:stretch/>
        </p:blipFill>
        <p:spPr>
          <a:xfrm>
            <a:off x="468360" y="3500280"/>
            <a:ext cx="2057400" cy="190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050920" y="1125360"/>
            <a:ext cx="4176720" cy="2100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85200" y="0"/>
            <a:ext cx="78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cc0000"/>
                </a:solidFill>
                <a:latin typeface="Times New Roman"/>
              </a:rPr>
              <a:t>Memory challenge(</a:t>
            </a:r>
            <a:r>
              <a:rPr b="1" i="1" lang="zh-CN" sz="5400" spc="-1" strike="noStrike">
                <a:solidFill>
                  <a:srgbClr val="cc0000"/>
                </a:solidFill>
                <a:latin typeface="Times New Roman"/>
              </a:rPr>
              <a:t>记忆挑战</a:t>
            </a:r>
            <a:r>
              <a:rPr b="1" i="1" lang="zh-CN" sz="54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627280" y="3716280"/>
            <a:ext cx="6172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宋体"/>
              </a:rPr>
              <a:t>guess guess ......</a:t>
            </a:r>
            <a:endParaRPr b="1" i="1" lang="en-US" sz="5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9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9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b5ea"/>
            </a:gs>
            <a:gs pos="50000">
              <a:srgbClr val="ffffff"/>
            </a:gs>
            <a:gs pos="100000">
              <a:srgbClr val="fdb5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rcRect l="0" t="0" r="0" b="9925"/>
          <a:stretch/>
        </p:blipFill>
        <p:spPr>
          <a:xfrm>
            <a:off x="1692360" y="892080"/>
            <a:ext cx="4967280" cy="3041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734480" y="4879800"/>
            <a:ext cx="529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Times New Roman"/>
              </a:rPr>
              <a:t>go to school   </a:t>
            </a:r>
            <a:r>
              <a:rPr b="1" lang="zh-CN" sz="5400" spc="-1" strike="noStrike">
                <a:solidFill>
                  <a:srgbClr val="00cc66"/>
                </a:solidFill>
                <a:latin typeface="华文琥珀"/>
                <a:ea typeface="华文琥珀"/>
              </a:rPr>
              <a:t>上 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403280" y="44280"/>
            <a:ext cx="6697800" cy="4484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232280" y="4941720"/>
            <a:ext cx="487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get  up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起 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b9e6"/>
            </a:gs>
            <a:gs pos="50000">
              <a:srgbClr val="ffffff"/>
            </a:gs>
            <a:gs pos="100000">
              <a:srgbClr val="fdb9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5040360" cy="58705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293440" y="2205000"/>
            <a:ext cx="284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Times New Roman"/>
              </a:rPr>
              <a:t>go to b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zh-CN" sz="5400" spc="-1" strike="noStrike">
                <a:solidFill>
                  <a:srgbClr val="00cc66"/>
                </a:solidFill>
                <a:latin typeface="华文隶书"/>
                <a:ea typeface="华文隶书"/>
              </a:rPr>
              <a:t>睡 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bff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6624720" cy="4319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050920" y="47242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66"/>
                </a:solidFill>
                <a:latin typeface="Times New Roman"/>
              </a:rPr>
              <a:t>have   lun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1" lang="zh-CN" sz="5400" spc="-1" strike="noStrike">
                <a:solidFill>
                  <a:srgbClr val="ff6600"/>
                </a:solidFill>
                <a:latin typeface="Times New Roman"/>
              </a:rPr>
              <a:t>吃 午 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781680" y="5791320"/>
            <a:ext cx="1981440" cy="83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0" t="0" r="0" b="16147"/>
          <a:stretch/>
        </p:blipFill>
        <p:spPr>
          <a:xfrm>
            <a:off x="2195640" y="404640"/>
            <a:ext cx="4537080" cy="35290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309760" y="5300640"/>
            <a:ext cx="447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watch TV</a:t>
            </a: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看电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3273480" cy="327348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4716360" y="1557360"/>
            <a:ext cx="1873080" cy="2360160"/>
            <a:chOff x="4716360" y="1557360"/>
            <a:chExt cx="1873080" cy="2360160"/>
          </a:xfrm>
        </p:grpSpPr>
        <p:pic>
          <p:nvPicPr>
            <p:cNvPr id="128" name="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4716360" y="1557360"/>
              <a:ext cx="1873080" cy="168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4932720" y="3274920"/>
              <a:ext cx="109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7: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610920" y="4941720"/>
            <a:ext cx="738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I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get up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 at seven 0’clock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16000" y="404640"/>
            <a:ext cx="233352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db9e6"/>
                    </a:gs>
                    <a:gs pos="50000">
                      <a:srgbClr val="ffff66"/>
                    </a:gs>
                    <a:gs pos="100000">
                      <a:srgbClr val="fdb9e6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华文琥珀"/>
              </a:rPr>
              <a:t>跟我学句子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db9e6"/>
                  </a:gs>
                  <a:gs pos="50000">
                    <a:srgbClr val="ffff66"/>
                  </a:gs>
                  <a:gs pos="100000">
                    <a:srgbClr val="fdb9e6"/>
                  </a:gs>
                </a:gsLst>
                <a:lin ang="5400000"/>
              </a:gra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华文琥珀"/>
              <a:ea typeface="华文琥珀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b5ea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55960" cy="4581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572000" y="404640"/>
            <a:ext cx="3672000" cy="3240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5084640"/>
            <a:ext cx="94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I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go to school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 at eight o’clock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268360" y="1052640"/>
            <a:ext cx="6048720" cy="43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419720" y="22096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3564000" y="1224000"/>
            <a:ext cx="1676160" cy="1484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514600" y="2378160"/>
            <a:ext cx="4038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00ff"/>
                </a:solidFill>
                <a:latin typeface="Monotype Corsiva"/>
              </a:rPr>
              <a:t>Bye-bye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6781680" y="5791320"/>
            <a:ext cx="1981440" cy="83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3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209680" y="1066680"/>
            <a:ext cx="610740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09680" y="1066680"/>
            <a:ext cx="610740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209680" y="1125360"/>
            <a:ext cx="6178680" cy="43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209680" y="1066680"/>
            <a:ext cx="610740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209680" y="1125360"/>
            <a:ext cx="6107400" cy="43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209680" y="1066680"/>
            <a:ext cx="610740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2:19:42Z</dcterms:created>
  <dc:creator>MS User</dc:creator>
  <dc:description/>
  <dc:language>en-US</dc:language>
  <cp:lastModifiedBy>ydz</cp:lastModifiedBy>
  <dcterms:modified xsi:type="dcterms:W3CDTF">2012-05-14T03:28:20Z</dcterms:modified>
  <cp:revision>31</cp:revision>
  <dc:subject/>
  <dc:title>PowerPoint 演示文稿</dc:title>
</cp:coreProperties>
</file>