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43A-B1A3-4AA0-A674-E56F9C7B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AD6-80E4-438D-953F-55928EE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D8C-08BD-4354-8A7D-9D7B26F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B35-7217-4616-9D16-7EAFF223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9D9-E871-4A1C-A314-EAD18DAB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0F0-3C23-4CE6-8CA5-D129B65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7EF-3BB9-48D3-B99B-3E18030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23D-3022-44F5-890D-4D92F318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B28F-8C01-4338-B8DE-B625D21E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08A-C83A-41B9-82C7-AA9207F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D8AC-3F70-4C6B-8645-687E595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623-0234-451E-9418-535F375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D83-28B9-4326-8AD7-9069B5A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F61A-FEDD-4C4B-8E2F-BC69446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9B6-556B-4751-8F69-2C0E16D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7D1E-A0D1-40AB-9C09-DA84F30A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1F7-65B7-408F-A92D-E02E1A7B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DD2-A938-4FE7-B869-83989A01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8A7-D1CA-40AF-9E1B-16D25CB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6CE-96BA-443F-B659-EBA24E7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CB3-A1CF-49FC-A6DF-E2651083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632-7477-4771-B46D-5A74036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BFF-BEC1-47DA-826D-530FF53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304-2875-40E6-B051-C45434D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A30-089E-44B1-9323-1CC933F2C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3B4-E467-4DED-A6ED-6193AA83B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77daae16b74cde224b90a77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0"/>
            <a:ext cx="88930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dule  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do at the week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465280" y="1071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外研版三年级英语下册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71640" y="105264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26920" y="765000"/>
            <a:ext cx="741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do at the week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379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632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hat do you do at the week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5" descr="c53163f3261d3f37b07ec5c1[1]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20051220080513341"/>
          <p:cNvPicPr/>
          <p:nvPr/>
        </p:nvPicPr>
        <p:blipFill>
          <a:blip r:embed="rId2"/>
          <a:srcRect l="0" t="0" r="0" b="2493"/>
          <a:stretch/>
        </p:blipFill>
        <p:spPr>
          <a:xfrm>
            <a:off x="179280" y="1557360"/>
            <a:ext cx="2438640" cy="32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s_CX005"/>
          <p:cNvPicPr/>
          <p:nvPr/>
        </p:nvPicPr>
        <p:blipFill>
          <a:blip r:embed="rId3"/>
          <a:stretch/>
        </p:blipFill>
        <p:spPr>
          <a:xfrm>
            <a:off x="2987640" y="692280"/>
            <a:ext cx="266544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6722z4"/>
          <p:cNvPicPr/>
          <p:nvPr/>
        </p:nvPicPr>
        <p:blipFill>
          <a:blip r:embed="rId4"/>
          <a:stretch/>
        </p:blipFill>
        <p:spPr>
          <a:xfrm>
            <a:off x="6084720" y="1268280"/>
            <a:ext cx="2725920" cy="381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3132000" y="5084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1"/>
          <p:cNvSpPr/>
          <p:nvPr/>
        </p:nvSpPr>
        <p:spPr>
          <a:xfrm>
            <a:off x="0" y="5589720"/>
            <a:ext cx="2411280" cy="112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lay basketbal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2"/>
          <p:cNvSpPr/>
          <p:nvPr/>
        </p:nvSpPr>
        <p:spPr>
          <a:xfrm>
            <a:off x="3132000" y="4941720"/>
            <a:ext cx="24498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lay footbal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3"/>
          <p:cNvSpPr/>
          <p:nvPr/>
        </p:nvSpPr>
        <p:spPr>
          <a:xfrm>
            <a:off x="6227640" y="5589720"/>
            <a:ext cx="2376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go swimming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AutoShape 24"/>
          <p:cNvCxnSpPr/>
          <p:nvPr/>
        </p:nvCxnSpPr>
        <p:spPr>
          <a:xfrm>
            <a:off x="-36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Line 26"/>
          <p:cNvSpPr/>
          <p:nvPr/>
        </p:nvSpPr>
        <p:spPr>
          <a:xfrm flipH="1">
            <a:off x="1115640" y="508464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>
            <a:off x="4066920" y="450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716436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142920" y="500040"/>
            <a:ext cx="642960" cy="642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547a0d1a416bfbdfae51335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79280" y="1773360"/>
            <a:ext cx="86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at do you have a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have English ,I have Mat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at do you have at schoo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have Science ,I have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at do you do at the weeken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play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at do you do at the weeken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go swimmin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87280" y="981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t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139aa13ee145b70f819b8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900000" y="1341360"/>
            <a:ext cx="72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at the weekend?             Chinese        Maths       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go swimming    at the we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5532730e98a2d8c5fdf0ee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5148360" y="98100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80110096"/>
          <p:cNvPicPr/>
          <p:nvPr/>
        </p:nvPicPr>
        <p:blipFill>
          <a:blip r:embed="rId2"/>
          <a:stretch/>
        </p:blipFill>
        <p:spPr>
          <a:xfrm>
            <a:off x="5292720" y="2492280"/>
            <a:ext cx="2497320" cy="2163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24630b12269a66a46438db19[1]"/>
          <p:cNvPicPr/>
          <p:nvPr/>
        </p:nvPicPr>
        <p:blipFill>
          <a:blip r:embed="rId3"/>
          <a:stretch/>
        </p:blipFill>
        <p:spPr>
          <a:xfrm>
            <a:off x="324000" y="105264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395280" y="2133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: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调查本小组同学的周末活动，统计一张周末活动表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95280" y="3500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: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朗读课文，并读给家长听，家长签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983280" y="597384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698d29fa12a474064e4aea2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42920" y="364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odby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b3db58aef65"/>
          <p:cNvPicPr/>
          <p:nvPr/>
        </p:nvPicPr>
        <p:blipFill>
          <a:blip r:embed="rId2"/>
          <a:stretch/>
        </p:blipFill>
        <p:spPr>
          <a:xfrm>
            <a:off x="4859280" y="2852640"/>
            <a:ext cx="965160" cy="2087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874282308b06bd0d6cae26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0071205124158[1]"/>
          <p:cNvPicPr/>
          <p:nvPr/>
        </p:nvPicPr>
        <p:blipFill>
          <a:blip r:embed="rId2"/>
          <a:stretch/>
        </p:blipFill>
        <p:spPr>
          <a:xfrm>
            <a:off x="755640" y="765000"/>
            <a:ext cx="2664000" cy="2611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427640" y="1700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 the 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987640" y="47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twel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f0cd058a9e7b3092934f072[1]"/>
          <p:cNvPicPr/>
          <p:nvPr/>
        </p:nvPicPr>
        <p:blipFill>
          <a:blip r:embed="rId1"/>
          <a:srcRect l="0" t="0" r="0" b="8334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_2009032922223311AFA[1]"/>
          <p:cNvPicPr/>
          <p:nvPr/>
        </p:nvPicPr>
        <p:blipFill>
          <a:blip r:embed="rId2"/>
          <a:srcRect l="0" t="0" r="0" b="8354"/>
          <a:stretch/>
        </p:blipFill>
        <p:spPr>
          <a:xfrm>
            <a:off x="250920" y="333360"/>
            <a:ext cx="4352760" cy="5452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580000" y="620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580000" y="3068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hine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2000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692f03df7e44b67bcdbf1a76[1]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932360" y="2421000"/>
            <a:ext cx="35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724360" y="292428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M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598889_l[2]"/>
          <p:cNvPicPr/>
          <p:nvPr/>
        </p:nvPicPr>
        <p:blipFill>
          <a:blip r:embed="rId2"/>
          <a:stretch/>
        </p:blipFill>
        <p:spPr>
          <a:xfrm>
            <a:off x="684360" y="404640"/>
            <a:ext cx="4113000" cy="590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4180134d93ce5a8a71e127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0080822105717621[1]"/>
          <p:cNvPicPr/>
          <p:nvPr/>
        </p:nvPicPr>
        <p:blipFill>
          <a:blip r:embed="rId2"/>
          <a:stretch/>
        </p:blipFill>
        <p:spPr>
          <a:xfrm>
            <a:off x="3995640" y="476280"/>
            <a:ext cx="4162680" cy="5832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11280" y="285264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Sci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cf555ee638857cbcf1b3e3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00691194335[1]"/>
          <p:cNvPicPr/>
          <p:nvPr/>
        </p:nvPicPr>
        <p:blipFill>
          <a:blip r:embed="rId2"/>
          <a:stretch/>
        </p:blipFill>
        <p:spPr>
          <a:xfrm>
            <a:off x="611280" y="476280"/>
            <a:ext cx="3744720" cy="3744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64000" y="242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8f0bd0a8d12924dd1e17a2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900000" y="1197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187280" y="148428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32000" y="907920"/>
            <a:ext cx="532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lik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Chine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 do ./ No, I d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like English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 do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14200" y="214200"/>
            <a:ext cx="642960" cy="642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68360" y="1844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7964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do have at schoo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d42fd4dea2e06a376327985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u=3592560199,1181741657&amp;fm=0&amp;gp=-36[1]"/>
          <p:cNvPicPr/>
          <p:nvPr/>
        </p:nvPicPr>
        <p:blipFill>
          <a:blip r:embed="rId2"/>
          <a:stretch/>
        </p:blipFill>
        <p:spPr>
          <a:xfrm>
            <a:off x="395280" y="1773360"/>
            <a:ext cx="1919160" cy="208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1619280" y="98100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54764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have at schoo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771640" y="4149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54bebceccba631cf9dc6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826920" y="1557360"/>
            <a:ext cx="640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 have Englis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 have Math and Scien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 have Chinese and Englis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  …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5:00:04Z</dcterms:created>
  <dc:creator>txwz</dc:creator>
  <dc:description/>
  <dc:language>en-US</dc:language>
  <cp:lastModifiedBy>ydz</cp:lastModifiedBy>
  <dcterms:modified xsi:type="dcterms:W3CDTF">2012-05-14T03:55:03Z</dcterms:modified>
  <cp:revision>13</cp:revision>
  <dc:subject/>
  <dc:title>幻灯片 1</dc:title>
</cp:coreProperties>
</file>